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5.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28.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_rels/presentation.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3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151.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58.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352.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30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2.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89.xml.rels" ContentType="application/vnd.openxmlformats-package.relationships+xml"/>
  <Override PartName="/ppt/slideLayouts/_rels/slideLayout233.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47.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43.xml" ContentType="application/vnd.openxmlformats-officedocument.presentationml.slideLayout+xml"/>
  <Override PartName="/ppt/slideLayouts/slideLayout354.xml" ContentType="application/vnd.openxmlformats-officedocument.presentationml.slideLayout+xml"/>
  <Override PartName="/ppt/slideLayouts/slideLayout34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41.xml" ContentType="application/vnd.openxmlformats-officedocument.presentationml.slideLayout+xml"/>
  <Override PartName="/ppt/slideLayouts/slideLayout17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340.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51.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6.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Lst>
  <p:sldIdLst>
    <p:sldId id="256" r:id="rId32"/>
    <p:sldId id="257" r:id="rId33"/>
    <p:sldId id="258" r:id="rId34"/>
    <p:sldId id="259" r:id="rId35"/>
    <p:sldId id="260" r:id="rId36"/>
    <p:sldId id="261" r:id="rId37"/>
    <p:sldId id="262" r:id="rId38"/>
    <p:sldId id="263" r:id="rId39"/>
    <p:sldId id="264" r:id="rId40"/>
    <p:sldId id="265" r:id="rId41"/>
    <p:sldId id="266" r:id="rId4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03E428-6A8F-46C8-8F74-0A13EFD1EC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28024-51B1-43C5-BADD-28E3C7B00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71AF0E-5408-4963-98F8-6660D74E08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DDF9A3-D461-4424-AD15-5458CC133F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18238-AD21-414C-B990-FACB6FC31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CE08C-5F36-486C-96E5-B3F1DFABD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0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3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3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D91D5-1C68-459B-A54B-C7D5718AD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3ABBF-2DBA-4362-9842-6E1BAC4D4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B8A37-7F16-4F8A-B039-43A0229EF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A7D99-2F19-4B4E-B41C-339C92F6B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0F53F-BAEA-44D5-9370-73449AA00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B77BF-217B-4709-A031-645259F12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791F9-D6DA-4148-B9B6-B9B763DAB9C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4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7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1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5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9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3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6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0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4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slideLayout" Target="../slideLayouts/slideLayout13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9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28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1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5.png"/><Relationship Id="rId3" Type="http://schemas.openxmlformats.org/officeDocument/2006/relationships/slideLayout" Target="../slideLayouts/slideLayout31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3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3" name="Freeform 39"/>
          <p:cNvGrpSpPr/>
          <p:nvPr/>
        </p:nvGrpSpPr>
        <p:grpSpPr>
          <a:xfrm>
            <a:off x="5651640" y="0"/>
            <a:ext cx="6540480" cy="7156440"/>
            <a:chOff x="5651640" y="0"/>
            <a:chExt cx="6540480" cy="7156440"/>
          </a:xfrm>
        </p:grpSpPr>
        <p:pic>
          <p:nvPicPr>
            <p:cNvPr id="1144" name="Freeform 39" descr=""/>
            <p:cNvPicPr/>
            <p:nvPr/>
          </p:nvPicPr>
          <p:blipFill>
            <a:blip r:embed="rId1"/>
            <a:stretch/>
          </p:blipFill>
          <p:spPr>
            <a:xfrm>
              <a:off x="5651640" y="0"/>
              <a:ext cx="6540480" cy="7156440"/>
            </a:xfrm>
            <a:prstGeom prst="rect">
              <a:avLst/>
            </a:prstGeom>
            <a:ln w="0">
              <a:noFill/>
            </a:ln>
          </p:spPr>
        </p:pic>
        <p:sp>
          <p:nvSpPr>
            <p:cNvPr id="1145" name=""/>
            <p:cNvSpPr/>
            <p:nvPr/>
          </p:nvSpPr>
          <p:spPr>
            <a:xfrm>
              <a:off x="5653080" y="0"/>
              <a:ext cx="6539040" cy="7156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46" name="Freeform 31"/>
          <p:cNvGrpSpPr/>
          <p:nvPr/>
        </p:nvGrpSpPr>
        <p:grpSpPr>
          <a:xfrm>
            <a:off x="-6480" y="810720"/>
            <a:ext cx="5529240" cy="6046920"/>
            <a:chOff x="-6480" y="810720"/>
            <a:chExt cx="5529240" cy="6046920"/>
          </a:xfrm>
        </p:grpSpPr>
        <p:pic>
          <p:nvPicPr>
            <p:cNvPr id="1147" name="Freeform 31" descr=""/>
            <p:cNvPicPr/>
            <p:nvPr/>
          </p:nvPicPr>
          <p:blipFill>
            <a:blip r:embed="rId2"/>
            <a:stretch/>
          </p:blipFill>
          <p:spPr>
            <a:xfrm>
              <a:off x="-6480" y="813600"/>
              <a:ext cx="5527440" cy="6044040"/>
            </a:xfrm>
            <a:prstGeom prst="rect">
              <a:avLst/>
            </a:prstGeom>
            <a:ln w="0">
              <a:noFill/>
            </a:ln>
          </p:spPr>
        </p:pic>
        <p:sp>
          <p:nvSpPr>
            <p:cNvPr id="1148" name=""/>
            <p:cNvSpPr/>
            <p:nvPr/>
          </p:nvSpPr>
          <p:spPr>
            <a:xfrm rot="10800000">
              <a:off x="-2880" y="810720"/>
              <a:ext cx="5526000" cy="604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49" name="Rounded Rectangle 4"/>
          <p:cNvSpPr/>
          <p:nvPr/>
        </p:nvSpPr>
        <p:spPr>
          <a:xfrm>
            <a:off x="10858680" y="263520"/>
            <a:ext cx="990360" cy="27288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0" name="Text Placeholder 6"/>
          <p:cNvSpPr/>
          <p:nvPr/>
        </p:nvSpPr>
        <p:spPr>
          <a:xfrm>
            <a:off x="10713960" y="285840"/>
            <a:ext cx="1279440" cy="26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JOIN US</a:t>
            </a:r>
            <a:endParaRPr b="0" lang="en-US" sz="800" spc="-1" strike="noStrike">
              <a:solidFill>
                <a:srgbClr val="000000"/>
              </a:solidFill>
              <a:latin typeface="Calibri"/>
            </a:endParaRPr>
          </a:p>
        </p:txBody>
      </p:sp>
      <p:sp>
        <p:nvSpPr>
          <p:cNvPr id="1151" name="TextBox 6"/>
          <p:cNvSpPr/>
          <p:nvPr/>
        </p:nvSpPr>
        <p:spPr>
          <a:xfrm>
            <a:off x="258840" y="237960"/>
            <a:ext cx="225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reato Display"/>
                <a:ea typeface="Vollkorn"/>
              </a:rPr>
              <a:t>DEVENTHA PROJECT</a:t>
            </a:r>
            <a:endParaRPr b="0" lang="en-US" sz="1200" spc="-1" strike="noStrike">
              <a:solidFill>
                <a:srgbClr val="000000"/>
              </a:solidFill>
              <a:latin typeface="Calibri"/>
            </a:endParaRPr>
          </a:p>
        </p:txBody>
      </p:sp>
      <p:grpSp>
        <p:nvGrpSpPr>
          <p:cNvPr id="1152" name="Oval 19"/>
          <p:cNvGrpSpPr/>
          <p:nvPr/>
        </p:nvGrpSpPr>
        <p:grpSpPr>
          <a:xfrm>
            <a:off x="4290840" y="1627200"/>
            <a:ext cx="3610080" cy="3603600"/>
            <a:chOff x="4290840" y="1627200"/>
            <a:chExt cx="3610080" cy="3603600"/>
          </a:xfrm>
        </p:grpSpPr>
        <p:pic>
          <p:nvPicPr>
            <p:cNvPr id="1153" name="Oval 19" descr=""/>
            <p:cNvPicPr/>
            <p:nvPr/>
          </p:nvPicPr>
          <p:blipFill>
            <a:blip r:embed="rId3"/>
            <a:stretch/>
          </p:blipFill>
          <p:spPr>
            <a:xfrm>
              <a:off x="4290840" y="1627200"/>
              <a:ext cx="3610080" cy="3603600"/>
            </a:xfrm>
            <a:prstGeom prst="rect">
              <a:avLst/>
            </a:prstGeom>
            <a:ln w="0">
              <a:noFill/>
            </a:ln>
          </p:spPr>
        </p:pic>
        <p:sp>
          <p:nvSpPr>
            <p:cNvPr id="1154" name=""/>
            <p:cNvSpPr/>
            <p:nvPr/>
          </p:nvSpPr>
          <p:spPr>
            <a:xfrm>
              <a:off x="4821120" y="2154240"/>
              <a:ext cx="2549520" cy="2549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5" name="Oval 20"/>
          <p:cNvSpPr/>
          <p:nvPr/>
        </p:nvSpPr>
        <p:spPr>
          <a:xfrm>
            <a:off x="4467240" y="1800360"/>
            <a:ext cx="3257640" cy="3257280"/>
          </a:xfrm>
          <a:prstGeom prst="ellipse">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6" name="TextBox 21"/>
          <p:cNvSpPr/>
          <p:nvPr/>
        </p:nvSpPr>
        <p:spPr>
          <a:xfrm>
            <a:off x="4516560" y="3075120"/>
            <a:ext cx="3162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reato Display"/>
                <a:ea typeface="Vollkorn"/>
              </a:rPr>
              <a:t>DAVENTHA</a:t>
            </a:r>
            <a:endParaRPr b="0" lang="en-US" sz="4000" spc="-1" strike="noStrike">
              <a:solidFill>
                <a:srgbClr val="000000"/>
              </a:solidFill>
              <a:latin typeface="Calibri"/>
            </a:endParaRPr>
          </a:p>
        </p:txBody>
      </p:sp>
      <p:sp>
        <p:nvSpPr>
          <p:cNvPr id="1157" name="Rectangle 22"/>
          <p:cNvSpPr/>
          <p:nvPr/>
        </p:nvSpPr>
        <p:spPr>
          <a:xfrm>
            <a:off x="8313840" y="5316480"/>
            <a:ext cx="353196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Inter"/>
                <a:ea typeface="Inter"/>
              </a:rPr>
              <a:t>It is a long established fact that a reader will be distracted by the readable content of a page when looking at its layout. </a:t>
            </a:r>
            <a:endParaRPr b="0" lang="en-US" sz="1000" spc="-1" strike="noStrike">
              <a:solidFill>
                <a:srgbClr val="000000"/>
              </a:solidFill>
              <a:latin typeface="Calibri"/>
            </a:endParaRPr>
          </a:p>
        </p:txBody>
      </p:sp>
      <p:sp>
        <p:nvSpPr>
          <p:cNvPr id="1158" name="Rectangle 23"/>
          <p:cNvSpPr/>
          <p:nvPr/>
        </p:nvSpPr>
        <p:spPr>
          <a:xfrm>
            <a:off x="8313840" y="2646360"/>
            <a:ext cx="3531960" cy="1554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nter"/>
                <a:ea typeface="Inter"/>
              </a:rPr>
              <a:t>It is a long established fact that a reader will be distracted by the readable content of a page when looking at its layout. </a:t>
            </a:r>
            <a:endParaRPr b="0" lang="en-US" sz="1600" spc="-1" strike="noStrike">
              <a:solidFill>
                <a:srgbClr val="000000"/>
              </a:solidFill>
              <a:latin typeface="Calibri"/>
            </a:endParaRPr>
          </a:p>
        </p:txBody>
      </p:sp>
      <p:sp>
        <p:nvSpPr>
          <p:cNvPr id="1159" name="Rectangle 24"/>
          <p:cNvSpPr/>
          <p:nvPr/>
        </p:nvSpPr>
        <p:spPr>
          <a:xfrm>
            <a:off x="258840" y="1179360"/>
            <a:ext cx="353196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nter"/>
                <a:ea typeface="Inter"/>
              </a:rPr>
              <a:t>It is a long established fact that a reader will be distracted by the readable content of a page when looking at its layout. </a:t>
            </a:r>
            <a:endParaRPr b="0" lang="en-US" sz="2000" spc="-1" strike="noStrike">
              <a:solidFill>
                <a:srgbClr val="000000"/>
              </a:solidFill>
              <a:latin typeface="Calibri"/>
            </a:endParaRPr>
          </a:p>
        </p:txBody>
      </p:sp>
      <p:sp>
        <p:nvSpPr>
          <p:cNvPr id="1160" name="Straight Connector 26"/>
          <p:cNvSpPr/>
          <p:nvPr/>
        </p:nvSpPr>
        <p:spPr>
          <a:xfrm flipH="1">
            <a:off x="3911400" y="4699080"/>
            <a:ext cx="15080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1" name="Rectangle 27"/>
          <p:cNvSpPr/>
          <p:nvPr/>
        </p:nvSpPr>
        <p:spPr>
          <a:xfrm>
            <a:off x="347760" y="3987720"/>
            <a:ext cx="1112760" cy="3812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2" name="Text Placeholder 6"/>
          <p:cNvSpPr/>
          <p:nvPr/>
        </p:nvSpPr>
        <p:spPr>
          <a:xfrm>
            <a:off x="101520" y="4067280"/>
            <a:ext cx="1604880" cy="272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VIEW ALL</a:t>
            </a:r>
            <a:endParaRPr b="0" lang="en-US" sz="800" spc="-1" strike="noStrike">
              <a:solidFill>
                <a:srgbClr val="000000"/>
              </a:solidFill>
              <a:latin typeface="Calibri"/>
            </a:endParaRPr>
          </a:p>
        </p:txBody>
      </p:sp>
      <p:grpSp>
        <p:nvGrpSpPr>
          <p:cNvPr id="1163" name="Group 34"/>
          <p:cNvGrpSpPr/>
          <p:nvPr/>
        </p:nvGrpSpPr>
        <p:grpSpPr>
          <a:xfrm>
            <a:off x="258840" y="6359400"/>
            <a:ext cx="2322360" cy="368280"/>
            <a:chOff x="258840" y="6359400"/>
            <a:chExt cx="2322360" cy="368280"/>
          </a:xfrm>
        </p:grpSpPr>
        <p:sp>
          <p:nvSpPr>
            <p:cNvPr id="1164" name="Text Placeholder 6"/>
            <p:cNvSpPr/>
            <p:nvPr/>
          </p:nvSpPr>
          <p:spPr>
            <a:xfrm>
              <a:off x="258840" y="6359400"/>
              <a:ext cx="456840" cy="368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01</a:t>
              </a:r>
              <a:endParaRPr b="0" lang="en-US" sz="1000" spc="-1" strike="noStrike">
                <a:solidFill>
                  <a:srgbClr val="000000"/>
                </a:solidFill>
                <a:latin typeface="Calibri"/>
              </a:endParaRPr>
            </a:p>
          </p:txBody>
        </p:sp>
        <p:sp>
          <p:nvSpPr>
            <p:cNvPr id="1165" name="Straight Connector 30"/>
            <p:cNvSpPr/>
            <p:nvPr/>
          </p:nvSpPr>
          <p:spPr>
            <a:xfrm flipH="1">
              <a:off x="651960" y="6483600"/>
              <a:ext cx="621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6" name="Text Placeholder 6"/>
            <p:cNvSpPr/>
            <p:nvPr/>
          </p:nvSpPr>
          <p:spPr>
            <a:xfrm>
              <a:off x="1273320" y="6365880"/>
              <a:ext cx="1307880" cy="295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PRESENTATION</a:t>
              </a:r>
              <a:endParaRPr b="0" lang="en-US" sz="1000" spc="-1" strike="noStrike">
                <a:solidFill>
                  <a:srgbClr val="000000"/>
                </a:solidFill>
                <a:latin typeface="Calibri"/>
              </a:endParaRPr>
            </a:p>
          </p:txBody>
        </p:sp>
      </p:grpSp>
      <p:sp>
        <p:nvSpPr>
          <p:cNvPr id="1167" name="TextBox 33"/>
          <p:cNvSpPr/>
          <p:nvPr/>
        </p:nvSpPr>
        <p:spPr>
          <a:xfrm>
            <a:off x="2401920" y="4024440"/>
            <a:ext cx="17161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Manrope"/>
                <a:ea typeface="Vollkorn"/>
              </a:rPr>
              <a:t>01</a:t>
            </a:r>
            <a:endParaRPr b="0" lang="en-US" sz="8800" spc="-1" strike="noStrike">
              <a:solidFill>
                <a:srgbClr val="000000"/>
              </a:solidFill>
              <a:latin typeface="Calibri"/>
            </a:endParaRPr>
          </a:p>
        </p:txBody>
      </p:sp>
      <p:sp>
        <p:nvSpPr>
          <p:cNvPr id="1168" name="Text Placeholder 6"/>
          <p:cNvSpPr/>
          <p:nvPr/>
        </p:nvSpPr>
        <p:spPr>
          <a:xfrm>
            <a:off x="10331280" y="6415200"/>
            <a:ext cx="1606680" cy="2728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AGE 01/34</a:t>
            </a:r>
            <a:endParaRPr b="0" lang="en-US" sz="1000" spc="-1" strike="noStrike">
              <a:solidFill>
                <a:srgbClr val="000000"/>
              </a:solidFill>
              <a:latin typeface="Calibri"/>
            </a:endParaRPr>
          </a:p>
        </p:txBody>
      </p:sp>
      <p:grpSp>
        <p:nvGrpSpPr>
          <p:cNvPr id="1169" name="Group 40"/>
          <p:cNvGrpSpPr/>
          <p:nvPr/>
        </p:nvGrpSpPr>
        <p:grpSpPr>
          <a:xfrm>
            <a:off x="3257640" y="258840"/>
            <a:ext cx="5702040" cy="296640"/>
            <a:chOff x="3257640" y="258840"/>
            <a:chExt cx="5702040" cy="296640"/>
          </a:xfrm>
        </p:grpSpPr>
        <p:sp>
          <p:nvSpPr>
            <p:cNvPr id="1170" name="Text Placeholder 6"/>
            <p:cNvSpPr/>
            <p:nvPr/>
          </p:nvSpPr>
          <p:spPr>
            <a:xfrm>
              <a:off x="325764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ASHION</a:t>
              </a:r>
              <a:endParaRPr b="0" lang="en-US" sz="800" spc="-1" strike="noStrike">
                <a:solidFill>
                  <a:srgbClr val="000000"/>
                </a:solidFill>
                <a:latin typeface="Calibri"/>
              </a:endParaRPr>
            </a:p>
          </p:txBody>
        </p:sp>
        <p:sp>
          <p:nvSpPr>
            <p:cNvPr id="1171" name="Text Placeholder 6"/>
            <p:cNvSpPr/>
            <p:nvPr/>
          </p:nvSpPr>
          <p:spPr>
            <a:xfrm>
              <a:off x="426816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MODERN</a:t>
              </a:r>
              <a:endParaRPr b="0" lang="en-US" sz="800" spc="-1" strike="noStrike">
                <a:solidFill>
                  <a:srgbClr val="000000"/>
                </a:solidFill>
                <a:latin typeface="Calibri"/>
              </a:endParaRPr>
            </a:p>
          </p:txBody>
        </p:sp>
        <p:sp>
          <p:nvSpPr>
            <p:cNvPr id="1172" name="Text Placeholder 6"/>
            <p:cNvSpPr/>
            <p:nvPr/>
          </p:nvSpPr>
          <p:spPr>
            <a:xfrm>
              <a:off x="535212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TEMPLATE</a:t>
              </a:r>
              <a:endParaRPr b="0" lang="en-US" sz="800" spc="-1" strike="noStrike">
                <a:solidFill>
                  <a:srgbClr val="000000"/>
                </a:solidFill>
                <a:latin typeface="Calibri"/>
              </a:endParaRPr>
            </a:p>
          </p:txBody>
        </p:sp>
        <p:sp>
          <p:nvSpPr>
            <p:cNvPr id="1173" name="Straight Connector 44"/>
            <p:cNvSpPr/>
            <p:nvPr/>
          </p:nvSpPr>
          <p:spPr>
            <a:xfrm>
              <a:off x="4572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4" name="Text Placeholder 6"/>
            <p:cNvSpPr/>
            <p:nvPr/>
          </p:nvSpPr>
          <p:spPr>
            <a:xfrm>
              <a:off x="642420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EATURES</a:t>
              </a:r>
              <a:endParaRPr b="0" lang="en-US" sz="800" spc="-1" strike="noStrike">
                <a:solidFill>
                  <a:srgbClr val="000000"/>
                </a:solidFill>
                <a:latin typeface="Calibri"/>
              </a:endParaRPr>
            </a:p>
          </p:txBody>
        </p:sp>
        <p:sp>
          <p:nvSpPr>
            <p:cNvPr id="1175" name="Text Placeholder 6"/>
            <p:cNvSpPr/>
            <p:nvPr/>
          </p:nvSpPr>
          <p:spPr>
            <a:xfrm>
              <a:off x="735408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SUPPORT</a:t>
              </a:r>
              <a:endParaRPr b="0" lang="en-US" sz="800" spc="-1" strike="noStrike">
                <a:solidFill>
                  <a:srgbClr val="000000"/>
                </a:solidFill>
                <a:latin typeface="Calibri"/>
              </a:endParaRPr>
            </a:p>
          </p:txBody>
        </p:sp>
        <p:sp>
          <p:nvSpPr>
            <p:cNvPr id="1176" name="Straight Connector 47"/>
            <p:cNvSpPr/>
            <p:nvPr/>
          </p:nvSpPr>
          <p:spPr>
            <a:xfrm>
              <a:off x="5553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7" name="Straight Connector 48"/>
            <p:cNvSpPr/>
            <p:nvPr/>
          </p:nvSpPr>
          <p:spPr>
            <a:xfrm>
              <a:off x="665820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8" name="Straight Connector 49"/>
            <p:cNvSpPr/>
            <p:nvPr/>
          </p:nvSpPr>
          <p:spPr>
            <a:xfrm>
              <a:off x="767736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Shape 4584"/>
          <p:cNvSpPr/>
          <p:nvPr/>
        </p:nvSpPr>
        <p:spPr>
          <a:xfrm>
            <a:off x="10417320" y="5600880"/>
            <a:ext cx="228600" cy="126720"/>
          </a:xfrm>
          <a:custGeom>
            <a:avLst/>
            <a:gdLst>
              <a:gd name="textAreaLeft" fmla="*/ 0 w 228600"/>
              <a:gd name="textAreaRight" fmla="*/ 228960 w 228600"/>
              <a:gd name="textAreaTop" fmla="*/ 0 h 126720"/>
              <a:gd name="textAreaBottom" fmla="*/ 127080 h 126720"/>
            </a:gdLst>
            <a:ahLst/>
            <a:rect l="textAreaLeft" t="textAreaTop" r="textAreaRight" b="textAreaBottom"/>
            <a:pathLst>
              <a:path w="120000" h="120000">
                <a:moveTo>
                  <a:pt x="119745" y="106015"/>
                </a:moveTo>
                <a:lnTo>
                  <a:pt x="119745" y="106015"/>
                </a:lnTo>
                <a:cubicBezTo>
                  <a:pt x="63813" y="0"/>
                  <a:pt x="63813" y="0"/>
                  <a:pt x="63813" y="0"/>
                </a:cubicBezTo>
                <a:cubicBezTo>
                  <a:pt x="63813" y="0"/>
                  <a:pt x="63813" y="0"/>
                  <a:pt x="60000" y="0"/>
                </a:cubicBezTo>
                <a:cubicBezTo>
                  <a:pt x="60000" y="0"/>
                  <a:pt x="60000" y="0"/>
                  <a:pt x="56186" y="0"/>
                </a:cubicBezTo>
                <a:cubicBezTo>
                  <a:pt x="3813" y="106015"/>
                  <a:pt x="3813" y="106015"/>
                  <a:pt x="3813" y="106015"/>
                </a:cubicBezTo>
                <a:cubicBezTo>
                  <a:pt x="0" y="112781"/>
                  <a:pt x="0" y="112781"/>
                  <a:pt x="3813" y="119548"/>
                </a:cubicBezTo>
                <a:cubicBezTo>
                  <a:pt x="3813" y="119548"/>
                  <a:pt x="7627" y="119548"/>
                  <a:pt x="11186" y="119548"/>
                </a:cubicBezTo>
                <a:cubicBezTo>
                  <a:pt x="60000" y="19849"/>
                  <a:pt x="60000" y="19849"/>
                  <a:pt x="60000" y="19849"/>
                </a:cubicBezTo>
                <a:cubicBezTo>
                  <a:pt x="112372" y="119548"/>
                  <a:pt x="112372" y="119548"/>
                  <a:pt x="112372" y="119548"/>
                </a:cubicBezTo>
                <a:cubicBezTo>
                  <a:pt x="116186" y="119548"/>
                  <a:pt x="116186" y="119548"/>
                  <a:pt x="119745" y="119548"/>
                </a:cubicBezTo>
                <a:cubicBezTo>
                  <a:pt x="119745" y="112781"/>
                  <a:pt x="119745" y="112781"/>
                  <a:pt x="119745" y="106015"/>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2" name="Shape 4586"/>
          <p:cNvSpPr/>
          <p:nvPr/>
        </p:nvSpPr>
        <p:spPr>
          <a:xfrm>
            <a:off x="9499680" y="5549760"/>
            <a:ext cx="125280" cy="228600"/>
          </a:xfrm>
          <a:custGeom>
            <a:avLst/>
            <a:gdLst>
              <a:gd name="textAreaLeft" fmla="*/ 0 w 125280"/>
              <a:gd name="textAreaRight" fmla="*/ 125640 w 125280"/>
              <a:gd name="textAreaTop" fmla="*/ 0 h 228600"/>
              <a:gd name="textAreaBottom" fmla="*/ 228960 h 228600"/>
            </a:gdLst>
            <a:ahLst/>
            <a:rect l="textAreaLeft" t="textAreaTop" r="textAreaRight" b="textAreaBottom"/>
            <a:pathLst>
              <a:path w="120000" h="120000">
                <a:moveTo>
                  <a:pt x="19924" y="59745"/>
                </a:moveTo>
                <a:lnTo>
                  <a:pt x="19924" y="59745"/>
                </a:lnTo>
                <a:cubicBezTo>
                  <a:pt x="119547" y="7372"/>
                  <a:pt x="119547" y="7372"/>
                  <a:pt x="119547" y="7372"/>
                </a:cubicBezTo>
                <a:cubicBezTo>
                  <a:pt x="119547" y="7372"/>
                  <a:pt x="119547" y="3559"/>
                  <a:pt x="119547" y="0"/>
                </a:cubicBezTo>
                <a:cubicBezTo>
                  <a:pt x="113207" y="0"/>
                  <a:pt x="113207" y="0"/>
                  <a:pt x="106415" y="0"/>
                </a:cubicBezTo>
                <a:cubicBezTo>
                  <a:pt x="0" y="56186"/>
                  <a:pt x="0" y="56186"/>
                  <a:pt x="0" y="56186"/>
                </a:cubicBezTo>
                <a:lnTo>
                  <a:pt x="0" y="59745"/>
                </a:lnTo>
                <a:lnTo>
                  <a:pt x="0" y="63559"/>
                </a:lnTo>
                <a:cubicBezTo>
                  <a:pt x="106415" y="119745"/>
                  <a:pt x="106415" y="119745"/>
                  <a:pt x="106415" y="119745"/>
                </a:cubicBezTo>
                <a:cubicBezTo>
                  <a:pt x="113207" y="119745"/>
                  <a:pt x="113207" y="119745"/>
                  <a:pt x="119547" y="119745"/>
                </a:cubicBezTo>
                <a:cubicBezTo>
                  <a:pt x="119547" y="115932"/>
                  <a:pt x="119547" y="112372"/>
                  <a:pt x="119547" y="112372"/>
                </a:cubicBezTo>
                <a:lnTo>
                  <a:pt x="19924" y="59745"/>
                </a:ln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3" name="Shape 4588"/>
          <p:cNvSpPr/>
          <p:nvPr/>
        </p:nvSpPr>
        <p:spPr>
          <a:xfrm>
            <a:off x="8429760" y="5516640"/>
            <a:ext cx="304560" cy="296640"/>
          </a:xfrm>
          <a:custGeom>
            <a:avLst/>
            <a:gdLst>
              <a:gd name="textAreaLeft" fmla="*/ 0 w 304560"/>
              <a:gd name="textAreaRight" fmla="*/ 304920 w 304560"/>
              <a:gd name="textAreaTop" fmla="*/ 0 h 296640"/>
              <a:gd name="textAreaBottom" fmla="*/ 297000 h 296640"/>
            </a:gdLst>
            <a:ahLst/>
            <a:rect l="textAreaLeft" t="textAreaTop" r="textAreaRight" b="textAreaBottom"/>
            <a:pathLst>
              <a:path w="120000" h="120000">
                <a:moveTo>
                  <a:pt x="47318" y="65718"/>
                </a:moveTo>
                <a:lnTo>
                  <a:pt x="47318" y="65718"/>
                </a:lnTo>
                <a:cubicBezTo>
                  <a:pt x="8328" y="108368"/>
                  <a:pt x="8328" y="108368"/>
                  <a:pt x="8328" y="108368"/>
                </a:cubicBezTo>
                <a:cubicBezTo>
                  <a:pt x="8328" y="82778"/>
                  <a:pt x="8328" y="82778"/>
                  <a:pt x="8328" y="82778"/>
                </a:cubicBezTo>
                <a:cubicBezTo>
                  <a:pt x="8328" y="79870"/>
                  <a:pt x="5488" y="79870"/>
                  <a:pt x="2649" y="79870"/>
                </a:cubicBezTo>
                <a:cubicBezTo>
                  <a:pt x="2649" y="79870"/>
                  <a:pt x="0" y="79870"/>
                  <a:pt x="0" y="82778"/>
                </a:cubicBezTo>
                <a:cubicBezTo>
                  <a:pt x="0" y="117092"/>
                  <a:pt x="0" y="117092"/>
                  <a:pt x="0" y="117092"/>
                </a:cubicBezTo>
                <a:lnTo>
                  <a:pt x="0" y="119806"/>
                </a:lnTo>
                <a:cubicBezTo>
                  <a:pt x="2649" y="119806"/>
                  <a:pt x="2649" y="119806"/>
                  <a:pt x="2649" y="119806"/>
                </a:cubicBezTo>
                <a:cubicBezTo>
                  <a:pt x="36151" y="119806"/>
                  <a:pt x="36151" y="119806"/>
                  <a:pt x="36151" y="119806"/>
                </a:cubicBezTo>
                <a:cubicBezTo>
                  <a:pt x="38990" y="119806"/>
                  <a:pt x="41829" y="119806"/>
                  <a:pt x="41829" y="117092"/>
                </a:cubicBezTo>
                <a:cubicBezTo>
                  <a:pt x="41829" y="114184"/>
                  <a:pt x="38990" y="114184"/>
                  <a:pt x="36151" y="114184"/>
                </a:cubicBezTo>
                <a:cubicBezTo>
                  <a:pt x="10977" y="114184"/>
                  <a:pt x="10977" y="114184"/>
                  <a:pt x="10977" y="114184"/>
                </a:cubicBezTo>
                <a:cubicBezTo>
                  <a:pt x="52807" y="71340"/>
                  <a:pt x="52807" y="71340"/>
                  <a:pt x="52807" y="71340"/>
                </a:cubicBezTo>
                <a:lnTo>
                  <a:pt x="47318" y="65718"/>
                </a:lnTo>
                <a:close/>
                <a:moveTo>
                  <a:pt x="116971" y="0"/>
                </a:moveTo>
                <a:lnTo>
                  <a:pt x="116971" y="0"/>
                </a:lnTo>
                <a:cubicBezTo>
                  <a:pt x="116971" y="0"/>
                  <a:pt x="116971" y="0"/>
                  <a:pt x="114132" y="0"/>
                </a:cubicBezTo>
                <a:cubicBezTo>
                  <a:pt x="80630" y="0"/>
                  <a:pt x="80630" y="0"/>
                  <a:pt x="80630" y="0"/>
                </a:cubicBezTo>
                <a:cubicBezTo>
                  <a:pt x="80630" y="0"/>
                  <a:pt x="77981" y="0"/>
                  <a:pt x="77981" y="2907"/>
                </a:cubicBezTo>
                <a:cubicBezTo>
                  <a:pt x="77981" y="5621"/>
                  <a:pt x="80630" y="5621"/>
                  <a:pt x="80630" y="5621"/>
                </a:cubicBezTo>
                <a:cubicBezTo>
                  <a:pt x="105804" y="5621"/>
                  <a:pt x="105804" y="5621"/>
                  <a:pt x="105804" y="5621"/>
                </a:cubicBezTo>
                <a:cubicBezTo>
                  <a:pt x="66813" y="48465"/>
                  <a:pt x="66813" y="48465"/>
                  <a:pt x="66813" y="48465"/>
                </a:cubicBezTo>
                <a:cubicBezTo>
                  <a:pt x="72492" y="54281"/>
                  <a:pt x="72492" y="54281"/>
                  <a:pt x="72492" y="54281"/>
                </a:cubicBezTo>
                <a:cubicBezTo>
                  <a:pt x="111293" y="11437"/>
                  <a:pt x="111293" y="11437"/>
                  <a:pt x="111293" y="11437"/>
                </a:cubicBezTo>
                <a:cubicBezTo>
                  <a:pt x="111293" y="37027"/>
                  <a:pt x="111293" y="37027"/>
                  <a:pt x="111293" y="37027"/>
                </a:cubicBezTo>
                <a:cubicBezTo>
                  <a:pt x="111293" y="39935"/>
                  <a:pt x="114132" y="39935"/>
                  <a:pt x="114132" y="39935"/>
                </a:cubicBezTo>
                <a:cubicBezTo>
                  <a:pt x="116971" y="39935"/>
                  <a:pt x="119810" y="39935"/>
                  <a:pt x="119810" y="37027"/>
                </a:cubicBezTo>
                <a:cubicBezTo>
                  <a:pt x="119810" y="2907"/>
                  <a:pt x="119810" y="2907"/>
                  <a:pt x="119810" y="2907"/>
                </a:cubicBezTo>
                <a:cubicBezTo>
                  <a:pt x="119810" y="2907"/>
                  <a:pt x="119810" y="0"/>
                  <a:pt x="116971" y="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4" name="Shape 4590"/>
          <p:cNvSpPr/>
          <p:nvPr/>
        </p:nvSpPr>
        <p:spPr>
          <a:xfrm>
            <a:off x="7520040" y="5516640"/>
            <a:ext cx="127080" cy="296640"/>
          </a:xfrm>
          <a:custGeom>
            <a:avLst/>
            <a:gdLst>
              <a:gd name="textAreaLeft" fmla="*/ 0 w 127080"/>
              <a:gd name="textAreaRight" fmla="*/ 127440 w 127080"/>
              <a:gd name="textAreaTop" fmla="*/ 0 h 296640"/>
              <a:gd name="textAreaBottom" fmla="*/ 297000 h 296640"/>
            </a:gdLst>
            <a:ahLst/>
            <a:rect l="textAreaLeft" t="textAreaTop" r="textAreaRight" b="textAreaBottom"/>
            <a:pathLst>
              <a:path w="120000" h="120000">
                <a:moveTo>
                  <a:pt x="106415" y="91308"/>
                </a:moveTo>
                <a:lnTo>
                  <a:pt x="106415" y="91308"/>
                </a:lnTo>
                <a:cubicBezTo>
                  <a:pt x="66566" y="108368"/>
                  <a:pt x="66566" y="108368"/>
                  <a:pt x="66566" y="108368"/>
                </a:cubicBezTo>
                <a:cubicBezTo>
                  <a:pt x="66566" y="11437"/>
                  <a:pt x="66566" y="11437"/>
                  <a:pt x="66566" y="11437"/>
                </a:cubicBezTo>
                <a:cubicBezTo>
                  <a:pt x="106415" y="28497"/>
                  <a:pt x="106415" y="28497"/>
                  <a:pt x="106415" y="28497"/>
                </a:cubicBezTo>
                <a:cubicBezTo>
                  <a:pt x="113207" y="28497"/>
                  <a:pt x="113207" y="28497"/>
                  <a:pt x="119547" y="28497"/>
                </a:cubicBezTo>
                <a:cubicBezTo>
                  <a:pt x="119547" y="25783"/>
                  <a:pt x="119547" y="22875"/>
                  <a:pt x="119547" y="22875"/>
                </a:cubicBezTo>
                <a:cubicBezTo>
                  <a:pt x="66566" y="0"/>
                  <a:pt x="66566" y="0"/>
                  <a:pt x="66566" y="0"/>
                </a:cubicBezTo>
                <a:lnTo>
                  <a:pt x="59773" y="0"/>
                </a:lnTo>
                <a:lnTo>
                  <a:pt x="52981" y="0"/>
                </a:lnTo>
                <a:cubicBezTo>
                  <a:pt x="0" y="22875"/>
                  <a:pt x="0" y="22875"/>
                  <a:pt x="0" y="22875"/>
                </a:cubicBezTo>
                <a:cubicBezTo>
                  <a:pt x="0" y="22875"/>
                  <a:pt x="0" y="25783"/>
                  <a:pt x="0" y="28497"/>
                </a:cubicBezTo>
                <a:cubicBezTo>
                  <a:pt x="6339" y="28497"/>
                  <a:pt x="6339" y="28497"/>
                  <a:pt x="13132" y="28497"/>
                </a:cubicBezTo>
                <a:cubicBezTo>
                  <a:pt x="52981" y="11437"/>
                  <a:pt x="52981" y="11437"/>
                  <a:pt x="52981" y="11437"/>
                </a:cubicBezTo>
                <a:cubicBezTo>
                  <a:pt x="52981" y="108368"/>
                  <a:pt x="52981" y="108368"/>
                  <a:pt x="52981" y="108368"/>
                </a:cubicBezTo>
                <a:cubicBezTo>
                  <a:pt x="13132" y="91308"/>
                  <a:pt x="13132" y="91308"/>
                  <a:pt x="13132" y="91308"/>
                </a:cubicBezTo>
                <a:cubicBezTo>
                  <a:pt x="6339" y="91308"/>
                  <a:pt x="6339" y="91308"/>
                  <a:pt x="0" y="91308"/>
                </a:cubicBezTo>
                <a:cubicBezTo>
                  <a:pt x="0" y="94216"/>
                  <a:pt x="0" y="96930"/>
                  <a:pt x="0" y="96930"/>
                </a:cubicBezTo>
                <a:cubicBezTo>
                  <a:pt x="52981" y="119806"/>
                  <a:pt x="52981" y="119806"/>
                  <a:pt x="52981" y="119806"/>
                </a:cubicBezTo>
                <a:lnTo>
                  <a:pt x="59773" y="119806"/>
                </a:lnTo>
                <a:lnTo>
                  <a:pt x="66566" y="119806"/>
                </a:lnTo>
                <a:cubicBezTo>
                  <a:pt x="119547" y="96930"/>
                  <a:pt x="119547" y="96930"/>
                  <a:pt x="119547" y="96930"/>
                </a:cubicBezTo>
                <a:cubicBezTo>
                  <a:pt x="119547" y="96930"/>
                  <a:pt x="119547" y="94216"/>
                  <a:pt x="119547" y="91308"/>
                </a:cubicBezTo>
                <a:cubicBezTo>
                  <a:pt x="113207" y="91308"/>
                  <a:pt x="113207" y="91308"/>
                  <a:pt x="106415" y="91308"/>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5" name="Shape 4592"/>
          <p:cNvSpPr/>
          <p:nvPr/>
        </p:nvSpPr>
        <p:spPr>
          <a:xfrm>
            <a:off x="6470640" y="5529240"/>
            <a:ext cx="254160" cy="270000"/>
          </a:xfrm>
          <a:custGeom>
            <a:avLst/>
            <a:gdLst>
              <a:gd name="textAreaLeft" fmla="*/ 0 w 254160"/>
              <a:gd name="textAreaRight" fmla="*/ 254520 w 254160"/>
              <a:gd name="textAreaTop" fmla="*/ 0 h 270000"/>
              <a:gd name="textAreaBottom" fmla="*/ 270360 h 270000"/>
            </a:gdLst>
            <a:ahLst/>
            <a:rect l="textAreaLeft" t="textAreaTop" r="textAreaRight" b="textAreaBottom"/>
            <a:pathLst>
              <a:path w="120000" h="120000">
                <a:moveTo>
                  <a:pt x="53107" y="31657"/>
                </a:moveTo>
                <a:lnTo>
                  <a:pt x="53107" y="31657"/>
                </a:lnTo>
                <a:cubicBezTo>
                  <a:pt x="53107" y="6417"/>
                  <a:pt x="53107" y="6417"/>
                  <a:pt x="53107" y="6417"/>
                </a:cubicBezTo>
                <a:cubicBezTo>
                  <a:pt x="53107" y="3208"/>
                  <a:pt x="53107" y="3208"/>
                  <a:pt x="49943" y="3208"/>
                </a:cubicBezTo>
                <a:cubicBezTo>
                  <a:pt x="49943" y="0"/>
                  <a:pt x="46553" y="0"/>
                  <a:pt x="43163" y="3208"/>
                </a:cubicBezTo>
                <a:cubicBezTo>
                  <a:pt x="0" y="47272"/>
                  <a:pt x="0" y="47272"/>
                  <a:pt x="0" y="47272"/>
                </a:cubicBezTo>
                <a:cubicBezTo>
                  <a:pt x="0" y="50481"/>
                  <a:pt x="0" y="50481"/>
                  <a:pt x="0" y="50481"/>
                </a:cubicBezTo>
                <a:cubicBezTo>
                  <a:pt x="0" y="53689"/>
                  <a:pt x="0" y="53689"/>
                  <a:pt x="0" y="53689"/>
                </a:cubicBezTo>
                <a:cubicBezTo>
                  <a:pt x="43163" y="100748"/>
                  <a:pt x="43163" y="100748"/>
                  <a:pt x="43163" y="100748"/>
                </a:cubicBezTo>
                <a:cubicBezTo>
                  <a:pt x="46553" y="100748"/>
                  <a:pt x="46553" y="100748"/>
                  <a:pt x="46553" y="100748"/>
                </a:cubicBezTo>
                <a:cubicBezTo>
                  <a:pt x="49943" y="100748"/>
                  <a:pt x="49943" y="100748"/>
                  <a:pt x="49943" y="100748"/>
                </a:cubicBezTo>
                <a:lnTo>
                  <a:pt x="49943" y="100748"/>
                </a:lnTo>
                <a:cubicBezTo>
                  <a:pt x="53107" y="100748"/>
                  <a:pt x="53107" y="97754"/>
                  <a:pt x="53107" y="97754"/>
                </a:cubicBezTo>
                <a:lnTo>
                  <a:pt x="53107" y="72513"/>
                </a:lnTo>
                <a:cubicBezTo>
                  <a:pt x="79774" y="72513"/>
                  <a:pt x="106440" y="91550"/>
                  <a:pt x="112994" y="119786"/>
                </a:cubicBezTo>
                <a:cubicBezTo>
                  <a:pt x="116384" y="110374"/>
                  <a:pt x="119774" y="104171"/>
                  <a:pt x="119774" y="94545"/>
                </a:cubicBezTo>
                <a:cubicBezTo>
                  <a:pt x="119774" y="59893"/>
                  <a:pt x="89717" y="31657"/>
                  <a:pt x="53107" y="31657"/>
                </a:cubicBezTo>
                <a:close/>
                <a:moveTo>
                  <a:pt x="56497" y="63101"/>
                </a:moveTo>
                <a:lnTo>
                  <a:pt x="56497" y="63101"/>
                </a:lnTo>
                <a:cubicBezTo>
                  <a:pt x="53107" y="63101"/>
                  <a:pt x="43163" y="63101"/>
                  <a:pt x="43163" y="63101"/>
                </a:cubicBezTo>
                <a:cubicBezTo>
                  <a:pt x="43163" y="88342"/>
                  <a:pt x="43163" y="88342"/>
                  <a:pt x="43163" y="88342"/>
                </a:cubicBezTo>
                <a:cubicBezTo>
                  <a:pt x="9943" y="50481"/>
                  <a:pt x="9943" y="50481"/>
                  <a:pt x="9943" y="50481"/>
                </a:cubicBezTo>
                <a:cubicBezTo>
                  <a:pt x="43163" y="15828"/>
                  <a:pt x="43163" y="15828"/>
                  <a:pt x="43163" y="15828"/>
                </a:cubicBezTo>
                <a:cubicBezTo>
                  <a:pt x="43163" y="37860"/>
                  <a:pt x="43163" y="37860"/>
                  <a:pt x="43163" y="37860"/>
                </a:cubicBezTo>
                <a:cubicBezTo>
                  <a:pt x="43163" y="37860"/>
                  <a:pt x="53107" y="37860"/>
                  <a:pt x="56497" y="37860"/>
                </a:cubicBezTo>
                <a:cubicBezTo>
                  <a:pt x="86327" y="41069"/>
                  <a:pt x="109830" y="72513"/>
                  <a:pt x="109830" y="88342"/>
                </a:cubicBezTo>
                <a:cubicBezTo>
                  <a:pt x="99661" y="78930"/>
                  <a:pt x="76610" y="63101"/>
                  <a:pt x="56497" y="63101"/>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6" name="Shape 4594"/>
          <p:cNvSpPr/>
          <p:nvPr/>
        </p:nvSpPr>
        <p:spPr>
          <a:xfrm>
            <a:off x="10391760" y="5068800"/>
            <a:ext cx="304920" cy="206640"/>
          </a:xfrm>
          <a:custGeom>
            <a:avLst/>
            <a:gdLst>
              <a:gd name="textAreaLeft" fmla="*/ 0 w 304920"/>
              <a:gd name="textAreaRight" fmla="*/ 305280 w 304920"/>
              <a:gd name="textAreaTop" fmla="*/ 0 h 206640"/>
              <a:gd name="textAreaBottom" fmla="*/ 207000 h 206640"/>
            </a:gdLst>
            <a:ahLst/>
            <a:rect l="textAreaLeft" t="textAreaTop" r="textAreaRight" b="textAreaBottom"/>
            <a:pathLst>
              <a:path w="120000" h="120000">
                <a:moveTo>
                  <a:pt x="105993" y="0"/>
                </a:moveTo>
                <a:lnTo>
                  <a:pt x="105993" y="0"/>
                </a:lnTo>
                <a:cubicBezTo>
                  <a:pt x="39179" y="0"/>
                  <a:pt x="39179" y="0"/>
                  <a:pt x="39179" y="0"/>
                </a:cubicBezTo>
                <a:cubicBezTo>
                  <a:pt x="36340" y="0"/>
                  <a:pt x="36340" y="0"/>
                  <a:pt x="36340" y="0"/>
                </a:cubicBezTo>
                <a:cubicBezTo>
                  <a:pt x="2839" y="57892"/>
                  <a:pt x="2839" y="57892"/>
                  <a:pt x="2839" y="57892"/>
                </a:cubicBezTo>
                <a:cubicBezTo>
                  <a:pt x="0" y="57892"/>
                  <a:pt x="0" y="57892"/>
                  <a:pt x="0" y="62107"/>
                </a:cubicBezTo>
                <a:cubicBezTo>
                  <a:pt x="0" y="62107"/>
                  <a:pt x="0" y="62107"/>
                  <a:pt x="2839" y="66042"/>
                </a:cubicBezTo>
                <a:cubicBezTo>
                  <a:pt x="36340" y="119718"/>
                  <a:pt x="36340" y="119718"/>
                  <a:pt x="36340" y="119718"/>
                </a:cubicBezTo>
                <a:cubicBezTo>
                  <a:pt x="36340" y="119718"/>
                  <a:pt x="36340" y="119718"/>
                  <a:pt x="39179" y="119718"/>
                </a:cubicBezTo>
                <a:lnTo>
                  <a:pt x="39179" y="119718"/>
                </a:lnTo>
                <a:cubicBezTo>
                  <a:pt x="105993" y="119718"/>
                  <a:pt x="105993" y="119718"/>
                  <a:pt x="105993" y="119718"/>
                </a:cubicBezTo>
                <a:cubicBezTo>
                  <a:pt x="114321" y="119718"/>
                  <a:pt x="119810" y="111569"/>
                  <a:pt x="119810" y="99203"/>
                </a:cubicBezTo>
                <a:cubicBezTo>
                  <a:pt x="119810" y="20515"/>
                  <a:pt x="119810" y="20515"/>
                  <a:pt x="119810" y="20515"/>
                </a:cubicBezTo>
                <a:cubicBezTo>
                  <a:pt x="119810" y="8149"/>
                  <a:pt x="114321" y="0"/>
                  <a:pt x="105993" y="0"/>
                </a:cubicBezTo>
                <a:close/>
                <a:moveTo>
                  <a:pt x="111482" y="99203"/>
                </a:moveTo>
                <a:lnTo>
                  <a:pt x="111482" y="99203"/>
                </a:lnTo>
                <a:cubicBezTo>
                  <a:pt x="111482" y="103419"/>
                  <a:pt x="108832" y="111569"/>
                  <a:pt x="105993" y="111569"/>
                </a:cubicBezTo>
                <a:cubicBezTo>
                  <a:pt x="39179" y="111569"/>
                  <a:pt x="39179" y="111569"/>
                  <a:pt x="39179" y="111569"/>
                </a:cubicBezTo>
                <a:cubicBezTo>
                  <a:pt x="8517" y="62107"/>
                  <a:pt x="8517" y="62107"/>
                  <a:pt x="8517" y="62107"/>
                </a:cubicBezTo>
                <a:cubicBezTo>
                  <a:pt x="39179" y="12365"/>
                  <a:pt x="39179" y="12365"/>
                  <a:pt x="39179" y="12365"/>
                </a:cubicBezTo>
                <a:cubicBezTo>
                  <a:pt x="105993" y="12365"/>
                  <a:pt x="105993" y="12365"/>
                  <a:pt x="105993" y="12365"/>
                </a:cubicBezTo>
                <a:cubicBezTo>
                  <a:pt x="108832" y="12365"/>
                  <a:pt x="111482" y="16299"/>
                  <a:pt x="111482" y="20515"/>
                </a:cubicBezTo>
                <a:lnTo>
                  <a:pt x="111482" y="99203"/>
                </a:lnTo>
                <a:close/>
                <a:moveTo>
                  <a:pt x="86498" y="41311"/>
                </a:moveTo>
                <a:lnTo>
                  <a:pt x="86498" y="41311"/>
                </a:lnTo>
                <a:cubicBezTo>
                  <a:pt x="83659" y="37096"/>
                  <a:pt x="81009" y="37096"/>
                  <a:pt x="81009" y="41311"/>
                </a:cubicBezTo>
                <a:cubicBezTo>
                  <a:pt x="72492" y="53676"/>
                  <a:pt x="72492" y="53676"/>
                  <a:pt x="72492" y="53676"/>
                </a:cubicBezTo>
                <a:cubicBezTo>
                  <a:pt x="64164" y="41311"/>
                  <a:pt x="64164" y="41311"/>
                  <a:pt x="64164" y="41311"/>
                </a:cubicBezTo>
                <a:cubicBezTo>
                  <a:pt x="61324" y="37096"/>
                  <a:pt x="58675" y="37096"/>
                  <a:pt x="58675" y="41311"/>
                </a:cubicBezTo>
                <a:cubicBezTo>
                  <a:pt x="55835" y="41311"/>
                  <a:pt x="55835" y="45526"/>
                  <a:pt x="58675" y="49461"/>
                </a:cubicBezTo>
                <a:cubicBezTo>
                  <a:pt x="67003" y="62107"/>
                  <a:pt x="67003" y="62107"/>
                  <a:pt x="67003" y="62107"/>
                </a:cubicBezTo>
                <a:cubicBezTo>
                  <a:pt x="58675" y="74473"/>
                  <a:pt x="58675" y="74473"/>
                  <a:pt x="58675" y="74473"/>
                </a:cubicBezTo>
                <a:cubicBezTo>
                  <a:pt x="55835" y="74473"/>
                  <a:pt x="55835" y="78407"/>
                  <a:pt x="58675" y="82622"/>
                </a:cubicBezTo>
                <a:cubicBezTo>
                  <a:pt x="58675" y="82622"/>
                  <a:pt x="61324" y="82622"/>
                  <a:pt x="64164" y="82622"/>
                </a:cubicBezTo>
                <a:cubicBezTo>
                  <a:pt x="72492" y="70257"/>
                  <a:pt x="72492" y="70257"/>
                  <a:pt x="72492" y="70257"/>
                </a:cubicBezTo>
                <a:cubicBezTo>
                  <a:pt x="81009" y="82622"/>
                  <a:pt x="81009" y="82622"/>
                  <a:pt x="81009" y="82622"/>
                </a:cubicBezTo>
                <a:cubicBezTo>
                  <a:pt x="81009" y="82622"/>
                  <a:pt x="83659" y="82622"/>
                  <a:pt x="86498" y="82622"/>
                </a:cubicBezTo>
                <a:cubicBezTo>
                  <a:pt x="86498" y="78407"/>
                  <a:pt x="86498" y="74473"/>
                  <a:pt x="86498" y="74473"/>
                </a:cubicBezTo>
                <a:cubicBezTo>
                  <a:pt x="77981" y="62107"/>
                  <a:pt x="77981" y="62107"/>
                  <a:pt x="77981" y="62107"/>
                </a:cubicBezTo>
                <a:cubicBezTo>
                  <a:pt x="86498" y="49461"/>
                  <a:pt x="86498" y="49461"/>
                  <a:pt x="86498" y="49461"/>
                </a:cubicBezTo>
                <a:cubicBezTo>
                  <a:pt x="86498" y="45526"/>
                  <a:pt x="86498" y="41311"/>
                  <a:pt x="86498" y="41311"/>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7" name="Shape 4596"/>
          <p:cNvSpPr/>
          <p:nvPr/>
        </p:nvSpPr>
        <p:spPr>
          <a:xfrm>
            <a:off x="9414000" y="5019840"/>
            <a:ext cx="296640" cy="226800"/>
          </a:xfrm>
          <a:custGeom>
            <a:avLst/>
            <a:gdLst>
              <a:gd name="textAreaLeft" fmla="*/ 0 w 296640"/>
              <a:gd name="textAreaRight" fmla="*/ 297000 w 296640"/>
              <a:gd name="textAreaTop" fmla="*/ 0 h 226800"/>
              <a:gd name="textAreaBottom" fmla="*/ 227160 h 226800"/>
            </a:gdLst>
            <a:ahLst/>
            <a:rect l="textAreaLeft" t="textAreaTop" r="textAreaRight" b="textAreaBottom"/>
            <a:pathLst>
              <a:path w="120000" h="120000">
                <a:moveTo>
                  <a:pt x="79870" y="63678"/>
                </a:moveTo>
                <a:lnTo>
                  <a:pt x="79870" y="63678"/>
                </a:lnTo>
                <a:cubicBezTo>
                  <a:pt x="62810" y="86004"/>
                  <a:pt x="62810" y="86004"/>
                  <a:pt x="62810" y="86004"/>
                </a:cubicBezTo>
                <a:cubicBezTo>
                  <a:pt x="62810" y="37547"/>
                  <a:pt x="62810" y="37547"/>
                  <a:pt x="62810" y="37547"/>
                </a:cubicBezTo>
                <a:cubicBezTo>
                  <a:pt x="62810" y="33742"/>
                  <a:pt x="62810" y="29936"/>
                  <a:pt x="59903" y="29936"/>
                </a:cubicBezTo>
                <a:cubicBezTo>
                  <a:pt x="56995" y="29936"/>
                  <a:pt x="56995" y="33742"/>
                  <a:pt x="56995" y="37547"/>
                </a:cubicBezTo>
                <a:cubicBezTo>
                  <a:pt x="56995" y="86004"/>
                  <a:pt x="56995" y="86004"/>
                  <a:pt x="56995" y="86004"/>
                </a:cubicBezTo>
                <a:cubicBezTo>
                  <a:pt x="39935" y="63678"/>
                  <a:pt x="39935" y="63678"/>
                  <a:pt x="39935" y="63678"/>
                </a:cubicBezTo>
                <a:cubicBezTo>
                  <a:pt x="37027" y="59873"/>
                  <a:pt x="37027" y="59873"/>
                  <a:pt x="34313" y="63678"/>
                </a:cubicBezTo>
                <a:cubicBezTo>
                  <a:pt x="34313" y="63678"/>
                  <a:pt x="34313" y="67484"/>
                  <a:pt x="34313" y="71035"/>
                </a:cubicBezTo>
                <a:cubicBezTo>
                  <a:pt x="56995" y="100972"/>
                  <a:pt x="56995" y="100972"/>
                  <a:pt x="56995" y="100972"/>
                </a:cubicBezTo>
                <a:lnTo>
                  <a:pt x="59903" y="100972"/>
                </a:lnTo>
                <a:lnTo>
                  <a:pt x="62810" y="100972"/>
                </a:lnTo>
                <a:cubicBezTo>
                  <a:pt x="85492" y="71035"/>
                  <a:pt x="85492" y="71035"/>
                  <a:pt x="85492" y="71035"/>
                </a:cubicBezTo>
                <a:cubicBezTo>
                  <a:pt x="85492" y="67484"/>
                  <a:pt x="85492" y="63678"/>
                  <a:pt x="85492" y="63678"/>
                </a:cubicBezTo>
                <a:cubicBezTo>
                  <a:pt x="82778" y="59873"/>
                  <a:pt x="82778" y="59873"/>
                  <a:pt x="79870" y="63678"/>
                </a:cubicBezTo>
                <a:close/>
                <a:moveTo>
                  <a:pt x="85492" y="26384"/>
                </a:moveTo>
                <a:lnTo>
                  <a:pt x="85492" y="26384"/>
                </a:lnTo>
                <a:cubicBezTo>
                  <a:pt x="79870" y="11416"/>
                  <a:pt x="68432" y="0"/>
                  <a:pt x="56995" y="0"/>
                </a:cubicBezTo>
                <a:cubicBezTo>
                  <a:pt x="37027" y="0"/>
                  <a:pt x="22875" y="18773"/>
                  <a:pt x="22875" y="41099"/>
                </a:cubicBezTo>
                <a:cubicBezTo>
                  <a:pt x="8529" y="48710"/>
                  <a:pt x="0" y="63678"/>
                  <a:pt x="0" y="82452"/>
                </a:cubicBezTo>
                <a:cubicBezTo>
                  <a:pt x="0" y="100972"/>
                  <a:pt x="11437" y="119746"/>
                  <a:pt x="28497" y="119746"/>
                </a:cubicBezTo>
                <a:cubicBezTo>
                  <a:pt x="94216" y="119746"/>
                  <a:pt x="94216" y="119746"/>
                  <a:pt x="94216" y="119746"/>
                </a:cubicBezTo>
                <a:cubicBezTo>
                  <a:pt x="108368" y="112135"/>
                  <a:pt x="119806" y="93615"/>
                  <a:pt x="119806" y="74841"/>
                </a:cubicBezTo>
                <a:cubicBezTo>
                  <a:pt x="119806" y="48710"/>
                  <a:pt x="105654" y="26384"/>
                  <a:pt x="85492" y="26384"/>
                </a:cubicBezTo>
                <a:close/>
                <a:moveTo>
                  <a:pt x="94216" y="112135"/>
                </a:moveTo>
                <a:lnTo>
                  <a:pt x="94216" y="112135"/>
                </a:lnTo>
                <a:cubicBezTo>
                  <a:pt x="28497" y="112135"/>
                  <a:pt x="28497" y="112135"/>
                  <a:pt x="28497" y="112135"/>
                </a:cubicBezTo>
                <a:cubicBezTo>
                  <a:pt x="28497" y="112135"/>
                  <a:pt x="5621" y="108583"/>
                  <a:pt x="5621" y="82452"/>
                </a:cubicBezTo>
                <a:cubicBezTo>
                  <a:pt x="5621" y="67484"/>
                  <a:pt x="17059" y="52515"/>
                  <a:pt x="28497" y="52515"/>
                </a:cubicBezTo>
                <a:cubicBezTo>
                  <a:pt x="28497" y="29936"/>
                  <a:pt x="39935" y="11416"/>
                  <a:pt x="56995" y="11416"/>
                </a:cubicBezTo>
                <a:cubicBezTo>
                  <a:pt x="68432" y="11416"/>
                  <a:pt x="77156" y="22579"/>
                  <a:pt x="79870" y="37547"/>
                </a:cubicBezTo>
                <a:cubicBezTo>
                  <a:pt x="99838" y="33742"/>
                  <a:pt x="111276" y="56067"/>
                  <a:pt x="114184" y="71035"/>
                </a:cubicBezTo>
                <a:cubicBezTo>
                  <a:pt x="114184" y="86004"/>
                  <a:pt x="105654" y="104778"/>
                  <a:pt x="94216" y="112135"/>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8" name="Shape 4598"/>
          <p:cNvSpPr/>
          <p:nvPr/>
        </p:nvSpPr>
        <p:spPr>
          <a:xfrm>
            <a:off x="8429760" y="5019840"/>
            <a:ext cx="304560" cy="306360"/>
          </a:xfrm>
          <a:custGeom>
            <a:avLst/>
            <a:gdLst>
              <a:gd name="textAreaLeft" fmla="*/ 0 w 304560"/>
              <a:gd name="textAreaRight" fmla="*/ 304920 w 304560"/>
              <a:gd name="textAreaTop" fmla="*/ 0 h 306360"/>
              <a:gd name="textAreaBottom" fmla="*/ 306720 h 306360"/>
            </a:gdLst>
            <a:ahLst/>
            <a:rect l="textAreaLeft" t="textAreaTop" r="textAreaRight" b="textAreaBottom"/>
            <a:pathLst>
              <a:path w="120000" h="120000">
                <a:moveTo>
                  <a:pt x="69652" y="47433"/>
                </a:moveTo>
                <a:lnTo>
                  <a:pt x="69652" y="47433"/>
                </a:lnTo>
                <a:cubicBezTo>
                  <a:pt x="52807" y="47433"/>
                  <a:pt x="52807" y="47433"/>
                  <a:pt x="52807" y="47433"/>
                </a:cubicBezTo>
                <a:cubicBezTo>
                  <a:pt x="52807" y="33448"/>
                  <a:pt x="52807" y="33448"/>
                  <a:pt x="52807" y="33448"/>
                </a:cubicBezTo>
                <a:cubicBezTo>
                  <a:pt x="52807" y="30614"/>
                  <a:pt x="52807" y="27968"/>
                  <a:pt x="50157" y="27968"/>
                </a:cubicBezTo>
                <a:cubicBezTo>
                  <a:pt x="47318" y="27968"/>
                  <a:pt x="47318" y="30614"/>
                  <a:pt x="47318" y="33448"/>
                </a:cubicBezTo>
                <a:cubicBezTo>
                  <a:pt x="47318" y="47433"/>
                  <a:pt x="47318" y="47433"/>
                  <a:pt x="47318" y="47433"/>
                </a:cubicBezTo>
                <a:cubicBezTo>
                  <a:pt x="30662" y="47433"/>
                  <a:pt x="30662" y="47433"/>
                  <a:pt x="30662" y="47433"/>
                </a:cubicBezTo>
                <a:cubicBezTo>
                  <a:pt x="30662" y="47433"/>
                  <a:pt x="27823" y="47433"/>
                  <a:pt x="27823" y="50267"/>
                </a:cubicBezTo>
                <a:cubicBezTo>
                  <a:pt x="27823" y="52913"/>
                  <a:pt x="30662" y="55748"/>
                  <a:pt x="30662" y="55748"/>
                </a:cubicBezTo>
                <a:cubicBezTo>
                  <a:pt x="47318" y="55748"/>
                  <a:pt x="47318" y="55748"/>
                  <a:pt x="47318" y="55748"/>
                </a:cubicBezTo>
                <a:cubicBezTo>
                  <a:pt x="47318" y="69732"/>
                  <a:pt x="47318" y="69732"/>
                  <a:pt x="47318" y="69732"/>
                </a:cubicBezTo>
                <a:cubicBezTo>
                  <a:pt x="47318" y="72377"/>
                  <a:pt x="47318" y="72377"/>
                  <a:pt x="50157" y="72377"/>
                </a:cubicBezTo>
                <a:cubicBezTo>
                  <a:pt x="52807" y="72377"/>
                  <a:pt x="52807" y="72377"/>
                  <a:pt x="52807" y="69732"/>
                </a:cubicBezTo>
                <a:cubicBezTo>
                  <a:pt x="52807" y="55748"/>
                  <a:pt x="52807" y="55748"/>
                  <a:pt x="52807" y="55748"/>
                </a:cubicBezTo>
                <a:cubicBezTo>
                  <a:pt x="69652" y="55748"/>
                  <a:pt x="69652" y="55748"/>
                  <a:pt x="69652" y="55748"/>
                </a:cubicBezTo>
                <a:cubicBezTo>
                  <a:pt x="69652" y="55748"/>
                  <a:pt x="72492" y="52913"/>
                  <a:pt x="72492" y="50267"/>
                </a:cubicBezTo>
                <a:cubicBezTo>
                  <a:pt x="72492" y="47433"/>
                  <a:pt x="69652" y="47433"/>
                  <a:pt x="69652" y="47433"/>
                </a:cubicBezTo>
                <a:close/>
                <a:moveTo>
                  <a:pt x="116971" y="114141"/>
                </a:moveTo>
                <a:lnTo>
                  <a:pt x="116971" y="114141"/>
                </a:lnTo>
                <a:cubicBezTo>
                  <a:pt x="86309" y="83527"/>
                  <a:pt x="86309" y="83527"/>
                  <a:pt x="86309" y="83527"/>
                </a:cubicBezTo>
                <a:cubicBezTo>
                  <a:pt x="94637" y="75212"/>
                  <a:pt x="100315" y="64062"/>
                  <a:pt x="100315" y="50267"/>
                </a:cubicBezTo>
                <a:cubicBezTo>
                  <a:pt x="100315" y="22299"/>
                  <a:pt x="77981" y="0"/>
                  <a:pt x="50157" y="0"/>
                </a:cubicBezTo>
                <a:cubicBezTo>
                  <a:pt x="22145" y="0"/>
                  <a:pt x="0" y="22299"/>
                  <a:pt x="0" y="50267"/>
                </a:cubicBezTo>
                <a:cubicBezTo>
                  <a:pt x="0" y="78047"/>
                  <a:pt x="22145" y="100157"/>
                  <a:pt x="50157" y="100157"/>
                </a:cubicBezTo>
                <a:cubicBezTo>
                  <a:pt x="61324" y="100157"/>
                  <a:pt x="72492" y="94677"/>
                  <a:pt x="80630" y="89196"/>
                </a:cubicBezTo>
                <a:cubicBezTo>
                  <a:pt x="111293" y="119811"/>
                  <a:pt x="111293" y="119811"/>
                  <a:pt x="111293" y="119811"/>
                </a:cubicBezTo>
                <a:cubicBezTo>
                  <a:pt x="114132" y="119811"/>
                  <a:pt x="116971" y="119811"/>
                  <a:pt x="116971" y="119811"/>
                </a:cubicBezTo>
                <a:cubicBezTo>
                  <a:pt x="119810" y="116976"/>
                  <a:pt x="119810" y="114141"/>
                  <a:pt x="116971" y="114141"/>
                </a:cubicBezTo>
                <a:close/>
                <a:moveTo>
                  <a:pt x="50157" y="92031"/>
                </a:moveTo>
                <a:lnTo>
                  <a:pt x="50157" y="92031"/>
                </a:lnTo>
                <a:cubicBezTo>
                  <a:pt x="27823" y="92031"/>
                  <a:pt x="8328" y="72377"/>
                  <a:pt x="8328" y="50267"/>
                </a:cubicBezTo>
                <a:cubicBezTo>
                  <a:pt x="8328" y="27968"/>
                  <a:pt x="27823" y="8503"/>
                  <a:pt x="50157" y="8503"/>
                </a:cubicBezTo>
                <a:cubicBezTo>
                  <a:pt x="72492" y="8503"/>
                  <a:pt x="91798" y="27968"/>
                  <a:pt x="91798" y="50267"/>
                </a:cubicBezTo>
                <a:cubicBezTo>
                  <a:pt x="91798" y="72377"/>
                  <a:pt x="72492" y="92031"/>
                  <a:pt x="50157" y="92031"/>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9" name="Shape 4600"/>
          <p:cNvSpPr/>
          <p:nvPr/>
        </p:nvSpPr>
        <p:spPr>
          <a:xfrm>
            <a:off x="7446960" y="5019840"/>
            <a:ext cx="306360" cy="306360"/>
          </a:xfrm>
          <a:custGeom>
            <a:avLst/>
            <a:gdLst>
              <a:gd name="textAreaLeft" fmla="*/ 0 w 306360"/>
              <a:gd name="textAreaRight" fmla="*/ 306720 w 306360"/>
              <a:gd name="textAreaTop" fmla="*/ 0 h 306360"/>
              <a:gd name="textAreaBottom" fmla="*/ 306720 h 306360"/>
            </a:gdLst>
            <a:ahLst/>
            <a:rect l="textAreaLeft" t="textAreaTop" r="textAreaRight" b="textAreaBottom"/>
            <a:pathLst>
              <a:path w="120000" h="120000">
                <a:moveTo>
                  <a:pt x="5678" y="44598"/>
                </a:moveTo>
                <a:lnTo>
                  <a:pt x="5678" y="44598"/>
                </a:lnTo>
                <a:cubicBezTo>
                  <a:pt x="41829" y="44598"/>
                  <a:pt x="41829" y="44598"/>
                  <a:pt x="41829" y="44598"/>
                </a:cubicBezTo>
                <a:cubicBezTo>
                  <a:pt x="44668" y="44598"/>
                  <a:pt x="44668" y="44598"/>
                  <a:pt x="44668" y="41763"/>
                </a:cubicBezTo>
                <a:cubicBezTo>
                  <a:pt x="44668" y="39118"/>
                  <a:pt x="44668" y="39118"/>
                  <a:pt x="41829" y="39118"/>
                </a:cubicBezTo>
                <a:cubicBezTo>
                  <a:pt x="14006" y="39118"/>
                  <a:pt x="14006" y="39118"/>
                  <a:pt x="14006" y="39118"/>
                </a:cubicBezTo>
                <a:cubicBezTo>
                  <a:pt x="22334" y="19653"/>
                  <a:pt x="39179" y="8503"/>
                  <a:pt x="61324" y="8503"/>
                </a:cubicBezTo>
                <a:cubicBezTo>
                  <a:pt x="86498" y="8503"/>
                  <a:pt x="108643" y="27968"/>
                  <a:pt x="111482" y="52913"/>
                </a:cubicBezTo>
                <a:cubicBezTo>
                  <a:pt x="119810" y="52913"/>
                  <a:pt x="119810" y="52913"/>
                  <a:pt x="119810" y="52913"/>
                </a:cubicBezTo>
                <a:cubicBezTo>
                  <a:pt x="117160" y="22299"/>
                  <a:pt x="91987" y="0"/>
                  <a:pt x="61324" y="0"/>
                </a:cubicBezTo>
                <a:cubicBezTo>
                  <a:pt x="39179" y="0"/>
                  <a:pt x="19495" y="13984"/>
                  <a:pt x="8328" y="30614"/>
                </a:cubicBezTo>
                <a:cubicBezTo>
                  <a:pt x="8328" y="5669"/>
                  <a:pt x="8328" y="5669"/>
                  <a:pt x="8328" y="5669"/>
                </a:cubicBezTo>
                <a:cubicBezTo>
                  <a:pt x="8328" y="2834"/>
                  <a:pt x="5678" y="0"/>
                  <a:pt x="5678" y="0"/>
                </a:cubicBezTo>
                <a:cubicBezTo>
                  <a:pt x="2839" y="0"/>
                  <a:pt x="0" y="2834"/>
                  <a:pt x="0" y="5669"/>
                </a:cubicBezTo>
                <a:cubicBezTo>
                  <a:pt x="0" y="41763"/>
                  <a:pt x="0" y="41763"/>
                  <a:pt x="0" y="41763"/>
                </a:cubicBezTo>
                <a:cubicBezTo>
                  <a:pt x="0" y="44598"/>
                  <a:pt x="5678" y="44598"/>
                  <a:pt x="5678" y="44598"/>
                </a:cubicBezTo>
                <a:close/>
                <a:moveTo>
                  <a:pt x="117160" y="75212"/>
                </a:moveTo>
                <a:lnTo>
                  <a:pt x="117160" y="75212"/>
                </a:lnTo>
                <a:cubicBezTo>
                  <a:pt x="77981" y="75212"/>
                  <a:pt x="77981" y="75212"/>
                  <a:pt x="77981" y="75212"/>
                </a:cubicBezTo>
                <a:lnTo>
                  <a:pt x="75331" y="78047"/>
                </a:lnTo>
                <a:cubicBezTo>
                  <a:pt x="75331" y="80881"/>
                  <a:pt x="77981" y="83527"/>
                  <a:pt x="77981" y="83527"/>
                </a:cubicBezTo>
                <a:cubicBezTo>
                  <a:pt x="108643" y="83527"/>
                  <a:pt x="108643" y="83527"/>
                  <a:pt x="108643" y="83527"/>
                </a:cubicBezTo>
                <a:cubicBezTo>
                  <a:pt x="100315" y="100157"/>
                  <a:pt x="80820" y="111307"/>
                  <a:pt x="61324" y="111307"/>
                </a:cubicBezTo>
                <a:cubicBezTo>
                  <a:pt x="33501" y="111307"/>
                  <a:pt x="14006" y="92031"/>
                  <a:pt x="8328" y="66897"/>
                </a:cubicBezTo>
                <a:cubicBezTo>
                  <a:pt x="2839" y="66897"/>
                  <a:pt x="2839" y="66897"/>
                  <a:pt x="2839" y="66897"/>
                </a:cubicBezTo>
                <a:cubicBezTo>
                  <a:pt x="5678" y="97511"/>
                  <a:pt x="30662" y="119811"/>
                  <a:pt x="61324" y="119811"/>
                </a:cubicBezTo>
                <a:cubicBezTo>
                  <a:pt x="83659" y="119811"/>
                  <a:pt x="103154" y="108661"/>
                  <a:pt x="111482" y="89196"/>
                </a:cubicBezTo>
                <a:cubicBezTo>
                  <a:pt x="111482" y="116976"/>
                  <a:pt x="111482" y="116976"/>
                  <a:pt x="111482" y="116976"/>
                </a:cubicBezTo>
                <a:cubicBezTo>
                  <a:pt x="111482" y="116976"/>
                  <a:pt x="114321" y="119811"/>
                  <a:pt x="117160" y="119811"/>
                </a:cubicBezTo>
                <a:lnTo>
                  <a:pt x="119810" y="116976"/>
                </a:lnTo>
                <a:cubicBezTo>
                  <a:pt x="119810" y="78047"/>
                  <a:pt x="119810" y="78047"/>
                  <a:pt x="119810" y="78047"/>
                </a:cubicBezTo>
                <a:cubicBezTo>
                  <a:pt x="119810" y="75212"/>
                  <a:pt x="117160" y="75212"/>
                  <a:pt x="117160" y="7521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0" name="Shape 4602"/>
          <p:cNvSpPr/>
          <p:nvPr/>
        </p:nvSpPr>
        <p:spPr>
          <a:xfrm>
            <a:off x="6470640" y="5019840"/>
            <a:ext cx="297000" cy="306360"/>
          </a:xfrm>
          <a:custGeom>
            <a:avLst/>
            <a:gdLst>
              <a:gd name="textAreaLeft" fmla="*/ 0 w 297000"/>
              <a:gd name="textAreaRight" fmla="*/ 297360 w 297000"/>
              <a:gd name="textAreaTop" fmla="*/ 0 h 306360"/>
              <a:gd name="textAreaBottom" fmla="*/ 306720 h 306360"/>
            </a:gdLst>
            <a:ahLst/>
            <a:rect l="textAreaLeft" t="textAreaTop" r="textAreaRight" b="textAreaBottom"/>
            <a:pathLst>
              <a:path w="120000" h="120000">
                <a:moveTo>
                  <a:pt x="59903" y="0"/>
                </a:moveTo>
                <a:lnTo>
                  <a:pt x="59903" y="0"/>
                </a:lnTo>
                <a:cubicBezTo>
                  <a:pt x="25589" y="0"/>
                  <a:pt x="0" y="27968"/>
                  <a:pt x="0" y="61417"/>
                </a:cubicBezTo>
                <a:cubicBezTo>
                  <a:pt x="0" y="92031"/>
                  <a:pt x="25589" y="119811"/>
                  <a:pt x="59903" y="119811"/>
                </a:cubicBezTo>
                <a:cubicBezTo>
                  <a:pt x="94216" y="119811"/>
                  <a:pt x="119806" y="92031"/>
                  <a:pt x="119806" y="61417"/>
                </a:cubicBezTo>
                <a:cubicBezTo>
                  <a:pt x="119806" y="27968"/>
                  <a:pt x="94216" y="0"/>
                  <a:pt x="59903" y="0"/>
                </a:cubicBezTo>
                <a:close/>
                <a:moveTo>
                  <a:pt x="59903" y="111307"/>
                </a:moveTo>
                <a:lnTo>
                  <a:pt x="59903" y="111307"/>
                </a:lnTo>
                <a:cubicBezTo>
                  <a:pt x="31405" y="111307"/>
                  <a:pt x="5621" y="89196"/>
                  <a:pt x="5621" y="61417"/>
                </a:cubicBezTo>
                <a:cubicBezTo>
                  <a:pt x="5621" y="30614"/>
                  <a:pt x="31405" y="8503"/>
                  <a:pt x="59903" y="8503"/>
                </a:cubicBezTo>
                <a:cubicBezTo>
                  <a:pt x="88400" y="8503"/>
                  <a:pt x="114184" y="30614"/>
                  <a:pt x="114184" y="61417"/>
                </a:cubicBezTo>
                <a:cubicBezTo>
                  <a:pt x="114184" y="89196"/>
                  <a:pt x="88400" y="111307"/>
                  <a:pt x="59903" y="111307"/>
                </a:cubicBezTo>
                <a:close/>
                <a:moveTo>
                  <a:pt x="82778" y="33448"/>
                </a:moveTo>
                <a:lnTo>
                  <a:pt x="82778" y="33448"/>
                </a:lnTo>
                <a:cubicBezTo>
                  <a:pt x="79870" y="33448"/>
                  <a:pt x="79870" y="33448"/>
                  <a:pt x="76962" y="36283"/>
                </a:cubicBezTo>
                <a:cubicBezTo>
                  <a:pt x="54281" y="78047"/>
                  <a:pt x="54281" y="78047"/>
                  <a:pt x="54281" y="78047"/>
                </a:cubicBezTo>
                <a:cubicBezTo>
                  <a:pt x="39935" y="64062"/>
                  <a:pt x="39935" y="64062"/>
                  <a:pt x="39935" y="64062"/>
                </a:cubicBezTo>
                <a:cubicBezTo>
                  <a:pt x="37027" y="64062"/>
                  <a:pt x="37027" y="64062"/>
                  <a:pt x="34313" y="64062"/>
                </a:cubicBezTo>
                <a:cubicBezTo>
                  <a:pt x="31405" y="66897"/>
                  <a:pt x="31405" y="69732"/>
                  <a:pt x="34313" y="69732"/>
                </a:cubicBezTo>
                <a:cubicBezTo>
                  <a:pt x="51373" y="86362"/>
                  <a:pt x="51373" y="86362"/>
                  <a:pt x="51373" y="86362"/>
                </a:cubicBezTo>
                <a:cubicBezTo>
                  <a:pt x="54281" y="86362"/>
                  <a:pt x="54281" y="86362"/>
                  <a:pt x="56995" y="86362"/>
                </a:cubicBezTo>
                <a:lnTo>
                  <a:pt x="85492" y="39118"/>
                </a:lnTo>
                <a:cubicBezTo>
                  <a:pt x="85492" y="39118"/>
                  <a:pt x="85492" y="36283"/>
                  <a:pt x="82778" y="33448"/>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1" name="Shape 4604"/>
          <p:cNvSpPr/>
          <p:nvPr/>
        </p:nvSpPr>
        <p:spPr>
          <a:xfrm>
            <a:off x="10391760" y="4532400"/>
            <a:ext cx="304920" cy="304560"/>
          </a:xfrm>
          <a:custGeom>
            <a:avLst/>
            <a:gdLst>
              <a:gd name="textAreaLeft" fmla="*/ 0 w 304920"/>
              <a:gd name="textAreaRight" fmla="*/ 305280 w 304920"/>
              <a:gd name="textAreaTop" fmla="*/ 0 h 304560"/>
              <a:gd name="textAreaBottom" fmla="*/ 304920 h 304560"/>
            </a:gdLst>
            <a:ahLst/>
            <a:rect l="textAreaLeft" t="textAreaTop" r="textAreaRight" b="textAreaBottom"/>
            <a:pathLst>
              <a:path w="120000" h="120000">
                <a:moveTo>
                  <a:pt x="83659" y="55646"/>
                </a:moveTo>
                <a:lnTo>
                  <a:pt x="83659" y="55646"/>
                </a:lnTo>
                <a:cubicBezTo>
                  <a:pt x="39179" y="55646"/>
                  <a:pt x="39179" y="55646"/>
                  <a:pt x="39179" y="55646"/>
                </a:cubicBezTo>
                <a:cubicBezTo>
                  <a:pt x="36340" y="55646"/>
                  <a:pt x="33501" y="58485"/>
                  <a:pt x="33501" y="58485"/>
                </a:cubicBezTo>
                <a:cubicBezTo>
                  <a:pt x="33501" y="61324"/>
                  <a:pt x="36340" y="63974"/>
                  <a:pt x="39179" y="63974"/>
                </a:cubicBezTo>
                <a:cubicBezTo>
                  <a:pt x="83659" y="63974"/>
                  <a:pt x="83659" y="63974"/>
                  <a:pt x="83659" y="63974"/>
                </a:cubicBezTo>
                <a:cubicBezTo>
                  <a:pt x="83659" y="63974"/>
                  <a:pt x="86498" y="61324"/>
                  <a:pt x="86498" y="58485"/>
                </a:cubicBezTo>
                <a:lnTo>
                  <a:pt x="83659" y="55646"/>
                </a:lnTo>
                <a:close/>
                <a:moveTo>
                  <a:pt x="61324" y="0"/>
                </a:moveTo>
                <a:lnTo>
                  <a:pt x="61324" y="0"/>
                </a:lnTo>
                <a:cubicBezTo>
                  <a:pt x="28012" y="0"/>
                  <a:pt x="0" y="27823"/>
                  <a:pt x="0" y="58485"/>
                </a:cubicBezTo>
                <a:cubicBezTo>
                  <a:pt x="0" y="91798"/>
                  <a:pt x="28012" y="119810"/>
                  <a:pt x="61324" y="119810"/>
                </a:cubicBezTo>
                <a:cubicBezTo>
                  <a:pt x="91987" y="119810"/>
                  <a:pt x="119810" y="91798"/>
                  <a:pt x="119810" y="58485"/>
                </a:cubicBezTo>
                <a:cubicBezTo>
                  <a:pt x="119810" y="27823"/>
                  <a:pt x="91987" y="0"/>
                  <a:pt x="61324" y="0"/>
                </a:cubicBezTo>
                <a:close/>
                <a:moveTo>
                  <a:pt x="61324" y="111482"/>
                </a:moveTo>
                <a:lnTo>
                  <a:pt x="61324" y="111482"/>
                </a:lnTo>
                <a:cubicBezTo>
                  <a:pt x="30662" y="111482"/>
                  <a:pt x="8517" y="89148"/>
                  <a:pt x="8517" y="58485"/>
                </a:cubicBezTo>
                <a:cubicBezTo>
                  <a:pt x="8517" y="30662"/>
                  <a:pt x="30662" y="8328"/>
                  <a:pt x="61324" y="8328"/>
                </a:cubicBezTo>
                <a:cubicBezTo>
                  <a:pt x="89148" y="8328"/>
                  <a:pt x="111482" y="30662"/>
                  <a:pt x="111482" y="58485"/>
                </a:cubicBezTo>
                <a:cubicBezTo>
                  <a:pt x="111482" y="89148"/>
                  <a:pt x="89148" y="111482"/>
                  <a:pt x="61324" y="11148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2" name="Shape 4606"/>
          <p:cNvSpPr/>
          <p:nvPr/>
        </p:nvSpPr>
        <p:spPr>
          <a:xfrm>
            <a:off x="9414000" y="4532400"/>
            <a:ext cx="296640" cy="304560"/>
          </a:xfrm>
          <a:custGeom>
            <a:avLst/>
            <a:gdLst>
              <a:gd name="textAreaLeft" fmla="*/ 0 w 296640"/>
              <a:gd name="textAreaRight" fmla="*/ 297000 w 296640"/>
              <a:gd name="textAreaTop" fmla="*/ 0 h 304560"/>
              <a:gd name="textAreaBottom" fmla="*/ 304920 h 304560"/>
            </a:gdLst>
            <a:ahLst/>
            <a:rect l="textAreaLeft" t="textAreaTop" r="textAreaRight" b="textAreaBottom"/>
            <a:pathLst>
              <a:path w="120000" h="120000">
                <a:moveTo>
                  <a:pt x="79870" y="58485"/>
                </a:moveTo>
                <a:lnTo>
                  <a:pt x="79870" y="58485"/>
                </a:lnTo>
                <a:cubicBezTo>
                  <a:pt x="62810" y="72492"/>
                  <a:pt x="62810" y="72492"/>
                  <a:pt x="62810" y="72492"/>
                </a:cubicBezTo>
                <a:cubicBezTo>
                  <a:pt x="62810" y="33312"/>
                  <a:pt x="62810" y="33312"/>
                  <a:pt x="62810" y="33312"/>
                </a:cubicBezTo>
                <a:cubicBezTo>
                  <a:pt x="62810" y="30662"/>
                  <a:pt x="62810" y="30662"/>
                  <a:pt x="59903" y="30662"/>
                </a:cubicBezTo>
                <a:cubicBezTo>
                  <a:pt x="56995" y="30662"/>
                  <a:pt x="56995" y="30662"/>
                  <a:pt x="56995" y="33312"/>
                </a:cubicBezTo>
                <a:cubicBezTo>
                  <a:pt x="56995" y="72492"/>
                  <a:pt x="56995" y="72492"/>
                  <a:pt x="56995" y="72492"/>
                </a:cubicBezTo>
                <a:cubicBezTo>
                  <a:pt x="39935" y="58485"/>
                  <a:pt x="39935" y="58485"/>
                  <a:pt x="39935" y="58485"/>
                </a:cubicBezTo>
                <a:cubicBezTo>
                  <a:pt x="39935" y="55646"/>
                  <a:pt x="37027" y="55646"/>
                  <a:pt x="34313" y="58485"/>
                </a:cubicBezTo>
                <a:cubicBezTo>
                  <a:pt x="34313" y="58485"/>
                  <a:pt x="34313" y="61324"/>
                  <a:pt x="34313" y="63974"/>
                </a:cubicBezTo>
                <a:cubicBezTo>
                  <a:pt x="56995" y="83659"/>
                  <a:pt x="56995" y="83659"/>
                  <a:pt x="56995" y="83659"/>
                </a:cubicBezTo>
                <a:lnTo>
                  <a:pt x="59903" y="83659"/>
                </a:lnTo>
                <a:lnTo>
                  <a:pt x="62810" y="83659"/>
                </a:lnTo>
                <a:cubicBezTo>
                  <a:pt x="85492" y="63974"/>
                  <a:pt x="85492" y="63974"/>
                  <a:pt x="85492" y="63974"/>
                </a:cubicBezTo>
                <a:cubicBezTo>
                  <a:pt x="85492" y="61324"/>
                  <a:pt x="85492" y="58485"/>
                  <a:pt x="85492" y="58485"/>
                </a:cubicBezTo>
                <a:cubicBezTo>
                  <a:pt x="82778" y="55646"/>
                  <a:pt x="79870" y="55646"/>
                  <a:pt x="79870" y="58485"/>
                </a:cubicBezTo>
                <a:close/>
                <a:moveTo>
                  <a:pt x="59903" y="0"/>
                </a:moveTo>
                <a:lnTo>
                  <a:pt x="59903" y="0"/>
                </a:lnTo>
                <a:cubicBezTo>
                  <a:pt x="25589" y="0"/>
                  <a:pt x="0" y="27823"/>
                  <a:pt x="0" y="58485"/>
                </a:cubicBezTo>
                <a:cubicBezTo>
                  <a:pt x="0" y="91798"/>
                  <a:pt x="25589" y="119810"/>
                  <a:pt x="59903" y="119810"/>
                </a:cubicBezTo>
                <a:cubicBezTo>
                  <a:pt x="94216" y="119810"/>
                  <a:pt x="119806" y="91798"/>
                  <a:pt x="119806" y="58485"/>
                </a:cubicBezTo>
                <a:cubicBezTo>
                  <a:pt x="119806" y="27823"/>
                  <a:pt x="94216" y="0"/>
                  <a:pt x="59903" y="0"/>
                </a:cubicBezTo>
                <a:close/>
                <a:moveTo>
                  <a:pt x="59903" y="111482"/>
                </a:moveTo>
                <a:lnTo>
                  <a:pt x="59903" y="111482"/>
                </a:lnTo>
                <a:cubicBezTo>
                  <a:pt x="31405" y="111482"/>
                  <a:pt x="5621" y="89148"/>
                  <a:pt x="5621" y="58485"/>
                </a:cubicBezTo>
                <a:cubicBezTo>
                  <a:pt x="5621" y="30662"/>
                  <a:pt x="31405" y="8328"/>
                  <a:pt x="59903" y="8328"/>
                </a:cubicBezTo>
                <a:cubicBezTo>
                  <a:pt x="88400" y="8328"/>
                  <a:pt x="114184" y="30662"/>
                  <a:pt x="114184" y="58485"/>
                </a:cubicBezTo>
                <a:cubicBezTo>
                  <a:pt x="114184" y="89148"/>
                  <a:pt x="88400" y="111482"/>
                  <a:pt x="59903" y="11148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3" name="Shape 4608"/>
          <p:cNvSpPr/>
          <p:nvPr/>
        </p:nvSpPr>
        <p:spPr>
          <a:xfrm>
            <a:off x="8429760" y="4532400"/>
            <a:ext cx="304560" cy="304560"/>
          </a:xfrm>
          <a:custGeom>
            <a:avLst/>
            <a:gdLst>
              <a:gd name="textAreaLeft" fmla="*/ 0 w 304560"/>
              <a:gd name="textAreaRight" fmla="*/ 304920 w 304560"/>
              <a:gd name="textAreaTop" fmla="*/ 0 h 304560"/>
              <a:gd name="textAreaBottom" fmla="*/ 304920 h 30456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4" name="Shape 4610"/>
          <p:cNvSpPr/>
          <p:nvPr/>
        </p:nvSpPr>
        <p:spPr>
          <a:xfrm>
            <a:off x="7446960" y="4532400"/>
            <a:ext cx="306360" cy="304560"/>
          </a:xfrm>
          <a:custGeom>
            <a:avLst/>
            <a:gdLst>
              <a:gd name="textAreaLeft" fmla="*/ 0 w 306360"/>
              <a:gd name="textAreaRight" fmla="*/ 306720 w 306360"/>
              <a:gd name="textAreaTop" fmla="*/ 0 h 304560"/>
              <a:gd name="textAreaBottom" fmla="*/ 304920 h 304560"/>
            </a:gdLst>
            <a:ahLst/>
            <a:rect l="textAreaLeft" t="textAreaTop" r="textAreaRight" b="textAreaBottom"/>
            <a:pathLst>
              <a:path w="120000" h="120000">
                <a:moveTo>
                  <a:pt x="61324" y="0"/>
                </a:moveTo>
                <a:lnTo>
                  <a:pt x="61324" y="0"/>
                </a:lnTo>
                <a:cubicBezTo>
                  <a:pt x="28012" y="0"/>
                  <a:pt x="0" y="27823"/>
                  <a:pt x="0" y="58485"/>
                </a:cubicBezTo>
                <a:cubicBezTo>
                  <a:pt x="0" y="91798"/>
                  <a:pt x="28012" y="119810"/>
                  <a:pt x="61324" y="119810"/>
                </a:cubicBezTo>
                <a:cubicBezTo>
                  <a:pt x="91987" y="119810"/>
                  <a:pt x="119810" y="91798"/>
                  <a:pt x="119810" y="58485"/>
                </a:cubicBezTo>
                <a:cubicBezTo>
                  <a:pt x="119810" y="27823"/>
                  <a:pt x="91987" y="0"/>
                  <a:pt x="61324" y="0"/>
                </a:cubicBezTo>
                <a:close/>
                <a:moveTo>
                  <a:pt x="61324" y="111482"/>
                </a:moveTo>
                <a:lnTo>
                  <a:pt x="61324" y="111482"/>
                </a:lnTo>
                <a:cubicBezTo>
                  <a:pt x="30662" y="111482"/>
                  <a:pt x="8328" y="89148"/>
                  <a:pt x="8328" y="58485"/>
                </a:cubicBezTo>
                <a:cubicBezTo>
                  <a:pt x="8328" y="30662"/>
                  <a:pt x="30662" y="8328"/>
                  <a:pt x="61324" y="8328"/>
                </a:cubicBezTo>
                <a:cubicBezTo>
                  <a:pt x="89148" y="8328"/>
                  <a:pt x="111482" y="30662"/>
                  <a:pt x="111482" y="58485"/>
                </a:cubicBezTo>
                <a:cubicBezTo>
                  <a:pt x="111482" y="89148"/>
                  <a:pt x="89148" y="111482"/>
                  <a:pt x="61324" y="111482"/>
                </a:cubicBezTo>
                <a:close/>
                <a:moveTo>
                  <a:pt x="86498" y="41829"/>
                </a:moveTo>
                <a:lnTo>
                  <a:pt x="86498" y="41829"/>
                </a:lnTo>
                <a:cubicBezTo>
                  <a:pt x="61324" y="69652"/>
                  <a:pt x="61324" y="69652"/>
                  <a:pt x="61324" y="69652"/>
                </a:cubicBezTo>
                <a:cubicBezTo>
                  <a:pt x="33501" y="41829"/>
                  <a:pt x="33501" y="41829"/>
                  <a:pt x="33501" y="41829"/>
                </a:cubicBezTo>
                <a:cubicBezTo>
                  <a:pt x="33501" y="41829"/>
                  <a:pt x="30662" y="41829"/>
                  <a:pt x="28012" y="41829"/>
                </a:cubicBezTo>
                <a:cubicBezTo>
                  <a:pt x="28012" y="44479"/>
                  <a:pt x="28012" y="47318"/>
                  <a:pt x="28012" y="47318"/>
                </a:cubicBezTo>
                <a:cubicBezTo>
                  <a:pt x="55835" y="75141"/>
                  <a:pt x="55835" y="75141"/>
                  <a:pt x="55835" y="75141"/>
                </a:cubicBezTo>
                <a:cubicBezTo>
                  <a:pt x="58675" y="77981"/>
                  <a:pt x="58675" y="77981"/>
                  <a:pt x="61324" y="77981"/>
                </a:cubicBezTo>
                <a:cubicBezTo>
                  <a:pt x="61324" y="77981"/>
                  <a:pt x="64164" y="77981"/>
                  <a:pt x="64164" y="75141"/>
                </a:cubicBezTo>
                <a:cubicBezTo>
                  <a:pt x="91987" y="47318"/>
                  <a:pt x="91987" y="47318"/>
                  <a:pt x="91987" y="47318"/>
                </a:cubicBezTo>
                <a:cubicBezTo>
                  <a:pt x="94826" y="47318"/>
                  <a:pt x="94826" y="44479"/>
                  <a:pt x="91987" y="41829"/>
                </a:cubicBezTo>
                <a:cubicBezTo>
                  <a:pt x="91987" y="41829"/>
                  <a:pt x="89148" y="41829"/>
                  <a:pt x="86498" y="4182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5" name="Shape 4612"/>
          <p:cNvSpPr/>
          <p:nvPr/>
        </p:nvSpPr>
        <p:spPr>
          <a:xfrm>
            <a:off x="6470640" y="4532400"/>
            <a:ext cx="297000" cy="304560"/>
          </a:xfrm>
          <a:custGeom>
            <a:avLst/>
            <a:gdLst>
              <a:gd name="textAreaLeft" fmla="*/ 0 w 297000"/>
              <a:gd name="textAreaRight" fmla="*/ 297360 w 297000"/>
              <a:gd name="textAreaTop" fmla="*/ 0 h 304560"/>
              <a:gd name="textAreaBottom" fmla="*/ 304920 h 304560"/>
            </a:gdLst>
            <a:ahLst/>
            <a:rect l="textAreaLeft" t="textAreaTop" r="textAreaRight" b="textAreaBottom"/>
            <a:pathLst>
              <a:path w="120000" h="120000">
                <a:moveTo>
                  <a:pt x="76962" y="55646"/>
                </a:moveTo>
                <a:lnTo>
                  <a:pt x="76962" y="55646"/>
                </a:lnTo>
                <a:cubicBezTo>
                  <a:pt x="48465" y="27823"/>
                  <a:pt x="48465" y="27823"/>
                  <a:pt x="48465" y="27823"/>
                </a:cubicBezTo>
                <a:cubicBezTo>
                  <a:pt x="45557" y="24984"/>
                  <a:pt x="42843" y="24984"/>
                  <a:pt x="42843" y="27823"/>
                </a:cubicBezTo>
                <a:cubicBezTo>
                  <a:pt x="39935" y="27823"/>
                  <a:pt x="39935" y="30662"/>
                  <a:pt x="42843" y="33312"/>
                </a:cubicBezTo>
                <a:cubicBezTo>
                  <a:pt x="68432" y="58485"/>
                  <a:pt x="68432" y="58485"/>
                  <a:pt x="68432" y="58485"/>
                </a:cubicBezTo>
                <a:cubicBezTo>
                  <a:pt x="42843" y="86309"/>
                  <a:pt x="42843" y="86309"/>
                  <a:pt x="42843" y="86309"/>
                </a:cubicBezTo>
                <a:cubicBezTo>
                  <a:pt x="39935" y="86309"/>
                  <a:pt x="39935" y="89148"/>
                  <a:pt x="42843" y="91798"/>
                </a:cubicBezTo>
                <a:cubicBezTo>
                  <a:pt x="42843" y="91798"/>
                  <a:pt x="45557" y="91798"/>
                  <a:pt x="48465" y="91798"/>
                </a:cubicBezTo>
                <a:cubicBezTo>
                  <a:pt x="76962" y="63974"/>
                  <a:pt x="76962" y="63974"/>
                  <a:pt x="76962" y="63974"/>
                </a:cubicBezTo>
                <a:cubicBezTo>
                  <a:pt x="76962" y="61324"/>
                  <a:pt x="76962" y="61324"/>
                  <a:pt x="76962" y="58485"/>
                </a:cubicBezTo>
                <a:lnTo>
                  <a:pt x="76962" y="55646"/>
                </a:lnTo>
                <a:close/>
                <a:moveTo>
                  <a:pt x="59903" y="0"/>
                </a:moveTo>
                <a:lnTo>
                  <a:pt x="59903" y="0"/>
                </a:lnTo>
                <a:cubicBezTo>
                  <a:pt x="25589" y="0"/>
                  <a:pt x="0" y="27823"/>
                  <a:pt x="0" y="58485"/>
                </a:cubicBezTo>
                <a:cubicBezTo>
                  <a:pt x="0" y="91798"/>
                  <a:pt x="25589" y="119810"/>
                  <a:pt x="59903" y="119810"/>
                </a:cubicBezTo>
                <a:cubicBezTo>
                  <a:pt x="94216" y="119810"/>
                  <a:pt x="119806" y="91798"/>
                  <a:pt x="119806" y="58485"/>
                </a:cubicBezTo>
                <a:cubicBezTo>
                  <a:pt x="119806" y="27823"/>
                  <a:pt x="94216" y="0"/>
                  <a:pt x="59903" y="0"/>
                </a:cubicBezTo>
                <a:close/>
                <a:moveTo>
                  <a:pt x="59903" y="111482"/>
                </a:moveTo>
                <a:lnTo>
                  <a:pt x="59903" y="111482"/>
                </a:lnTo>
                <a:cubicBezTo>
                  <a:pt x="31405" y="111482"/>
                  <a:pt x="5621" y="89148"/>
                  <a:pt x="5621" y="58485"/>
                </a:cubicBezTo>
                <a:cubicBezTo>
                  <a:pt x="5621" y="30662"/>
                  <a:pt x="31405" y="8328"/>
                  <a:pt x="59903" y="8328"/>
                </a:cubicBezTo>
                <a:cubicBezTo>
                  <a:pt x="88400" y="8328"/>
                  <a:pt x="114184" y="30662"/>
                  <a:pt x="114184" y="58485"/>
                </a:cubicBezTo>
                <a:cubicBezTo>
                  <a:pt x="114184" y="89148"/>
                  <a:pt x="88400" y="111482"/>
                  <a:pt x="59903" y="11148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6" name="Shape 4614"/>
          <p:cNvSpPr/>
          <p:nvPr/>
        </p:nvSpPr>
        <p:spPr>
          <a:xfrm>
            <a:off x="10391760" y="3562200"/>
            <a:ext cx="309600" cy="254160"/>
          </a:xfrm>
          <a:custGeom>
            <a:avLst/>
            <a:gdLst>
              <a:gd name="textAreaLeft" fmla="*/ 0 w 309600"/>
              <a:gd name="textAreaRight" fmla="*/ 309960 w 309600"/>
              <a:gd name="textAreaTop" fmla="*/ 0 h 254160"/>
              <a:gd name="textAreaBottom" fmla="*/ 254520 h 254160"/>
            </a:gdLst>
            <a:ahLst/>
            <a:rect l="textAreaLeft" t="textAreaTop" r="textAreaRight" b="textAreaBottom"/>
            <a:pathLst>
              <a:path w="120000" h="120000">
                <a:moveTo>
                  <a:pt x="111679" y="6779"/>
                </a:moveTo>
                <a:lnTo>
                  <a:pt x="111679" y="6779"/>
                </a:lnTo>
                <a:cubicBezTo>
                  <a:pt x="106317" y="0"/>
                  <a:pt x="97996" y="0"/>
                  <a:pt x="92634" y="6779"/>
                </a:cubicBezTo>
                <a:cubicBezTo>
                  <a:pt x="38274" y="73220"/>
                  <a:pt x="38274" y="73220"/>
                  <a:pt x="38274" y="73220"/>
                </a:cubicBezTo>
                <a:cubicBezTo>
                  <a:pt x="27365" y="56723"/>
                  <a:pt x="27365" y="56723"/>
                  <a:pt x="27365" y="56723"/>
                </a:cubicBezTo>
                <a:cubicBezTo>
                  <a:pt x="19044" y="46779"/>
                  <a:pt x="10909" y="46779"/>
                  <a:pt x="5546" y="56723"/>
                </a:cubicBezTo>
                <a:cubicBezTo>
                  <a:pt x="0" y="63276"/>
                  <a:pt x="0" y="73220"/>
                  <a:pt x="5546" y="83389"/>
                </a:cubicBezTo>
                <a:cubicBezTo>
                  <a:pt x="29953" y="109830"/>
                  <a:pt x="29953" y="109830"/>
                  <a:pt x="29953" y="109830"/>
                </a:cubicBezTo>
                <a:cubicBezTo>
                  <a:pt x="35500" y="119774"/>
                  <a:pt x="43636" y="119774"/>
                  <a:pt x="49183" y="109830"/>
                </a:cubicBezTo>
                <a:cubicBezTo>
                  <a:pt x="111679" y="33446"/>
                  <a:pt x="111679" y="33446"/>
                  <a:pt x="111679" y="33446"/>
                </a:cubicBezTo>
                <a:cubicBezTo>
                  <a:pt x="119815" y="26666"/>
                  <a:pt x="119815" y="13333"/>
                  <a:pt x="111679" y="6779"/>
                </a:cubicBezTo>
                <a:close/>
                <a:moveTo>
                  <a:pt x="106317" y="26666"/>
                </a:moveTo>
                <a:lnTo>
                  <a:pt x="106317" y="26666"/>
                </a:lnTo>
                <a:cubicBezTo>
                  <a:pt x="106317" y="26666"/>
                  <a:pt x="46409" y="103276"/>
                  <a:pt x="43636" y="103276"/>
                </a:cubicBezTo>
                <a:cubicBezTo>
                  <a:pt x="40862" y="106440"/>
                  <a:pt x="38274" y="106440"/>
                  <a:pt x="35500" y="103276"/>
                </a:cubicBezTo>
                <a:lnTo>
                  <a:pt x="10909" y="73220"/>
                </a:lnTo>
                <a:cubicBezTo>
                  <a:pt x="8320" y="70056"/>
                  <a:pt x="8320" y="66666"/>
                  <a:pt x="10909" y="63276"/>
                </a:cubicBezTo>
                <a:cubicBezTo>
                  <a:pt x="13682" y="59887"/>
                  <a:pt x="19044" y="59887"/>
                  <a:pt x="21818" y="63276"/>
                </a:cubicBezTo>
                <a:cubicBezTo>
                  <a:pt x="38274" y="83389"/>
                  <a:pt x="38274" y="83389"/>
                  <a:pt x="38274" y="83389"/>
                </a:cubicBezTo>
                <a:cubicBezTo>
                  <a:pt x="97996" y="13333"/>
                  <a:pt x="97996" y="13333"/>
                  <a:pt x="97996" y="13333"/>
                </a:cubicBezTo>
                <a:cubicBezTo>
                  <a:pt x="100770" y="10169"/>
                  <a:pt x="103543" y="10169"/>
                  <a:pt x="106317" y="13333"/>
                </a:cubicBezTo>
                <a:cubicBezTo>
                  <a:pt x="111679" y="16723"/>
                  <a:pt x="111679" y="23276"/>
                  <a:pt x="106317" y="2666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7" name="Shape 4616"/>
          <p:cNvSpPr/>
          <p:nvPr/>
        </p:nvSpPr>
        <p:spPr>
          <a:xfrm>
            <a:off x="9414000" y="3660840"/>
            <a:ext cx="296640" cy="73080"/>
          </a:xfrm>
          <a:custGeom>
            <a:avLst/>
            <a:gdLst>
              <a:gd name="textAreaLeft" fmla="*/ 0 w 296640"/>
              <a:gd name="textAreaRight" fmla="*/ 297000 w 296640"/>
              <a:gd name="textAreaTop" fmla="*/ 0 h 73080"/>
              <a:gd name="textAreaBottom" fmla="*/ 73440 h 73080"/>
            </a:gdLst>
            <a:ahLst/>
            <a:rect l="textAreaLeft" t="textAreaTop" r="textAreaRight" b="textAreaBottom"/>
            <a:pathLst>
              <a:path w="120000" h="120000">
                <a:moveTo>
                  <a:pt x="105654" y="0"/>
                </a:moveTo>
                <a:lnTo>
                  <a:pt x="105654" y="0"/>
                </a:lnTo>
                <a:cubicBezTo>
                  <a:pt x="14151" y="0"/>
                  <a:pt x="14151" y="0"/>
                  <a:pt x="14151" y="0"/>
                </a:cubicBezTo>
                <a:cubicBezTo>
                  <a:pt x="5621" y="0"/>
                  <a:pt x="0" y="23513"/>
                  <a:pt x="0" y="59189"/>
                </a:cubicBezTo>
                <a:cubicBezTo>
                  <a:pt x="0" y="94864"/>
                  <a:pt x="5621" y="119189"/>
                  <a:pt x="14151" y="119189"/>
                </a:cubicBezTo>
                <a:cubicBezTo>
                  <a:pt x="105654" y="119189"/>
                  <a:pt x="105654" y="119189"/>
                  <a:pt x="105654" y="119189"/>
                </a:cubicBezTo>
                <a:cubicBezTo>
                  <a:pt x="114184" y="119189"/>
                  <a:pt x="119806" y="94864"/>
                  <a:pt x="119806" y="59189"/>
                </a:cubicBezTo>
                <a:cubicBezTo>
                  <a:pt x="119806" y="23513"/>
                  <a:pt x="114184" y="0"/>
                  <a:pt x="105654" y="0"/>
                </a:cubicBezTo>
                <a:close/>
                <a:moveTo>
                  <a:pt x="105654" y="94864"/>
                </a:moveTo>
                <a:lnTo>
                  <a:pt x="105654" y="94864"/>
                </a:lnTo>
                <a:cubicBezTo>
                  <a:pt x="14151" y="94864"/>
                  <a:pt x="14151" y="94864"/>
                  <a:pt x="14151" y="94864"/>
                </a:cubicBezTo>
                <a:cubicBezTo>
                  <a:pt x="11437" y="94864"/>
                  <a:pt x="5621" y="71351"/>
                  <a:pt x="5621" y="59189"/>
                </a:cubicBezTo>
                <a:cubicBezTo>
                  <a:pt x="5621" y="47027"/>
                  <a:pt x="11437" y="23513"/>
                  <a:pt x="14151" y="23513"/>
                </a:cubicBezTo>
                <a:cubicBezTo>
                  <a:pt x="105654" y="23513"/>
                  <a:pt x="105654" y="23513"/>
                  <a:pt x="105654" y="23513"/>
                </a:cubicBezTo>
                <a:cubicBezTo>
                  <a:pt x="108368" y="23513"/>
                  <a:pt x="114184" y="47027"/>
                  <a:pt x="114184" y="59189"/>
                </a:cubicBezTo>
                <a:cubicBezTo>
                  <a:pt x="114184" y="71351"/>
                  <a:pt x="108368" y="94864"/>
                  <a:pt x="105654" y="9486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8" name="Shape 4618"/>
          <p:cNvSpPr/>
          <p:nvPr/>
        </p:nvSpPr>
        <p:spPr>
          <a:xfrm>
            <a:off x="8429760" y="3562200"/>
            <a:ext cx="304560" cy="268560"/>
          </a:xfrm>
          <a:custGeom>
            <a:avLst/>
            <a:gdLst>
              <a:gd name="textAreaLeft" fmla="*/ 0 w 304560"/>
              <a:gd name="textAreaRight" fmla="*/ 304920 w 304560"/>
              <a:gd name="textAreaTop" fmla="*/ 0 h 268560"/>
              <a:gd name="textAreaBottom" fmla="*/ 268920 h 268560"/>
            </a:gdLst>
            <a:ahLst/>
            <a:rect l="textAreaLeft" t="textAreaTop" r="textAreaRight" b="textAreaBottom"/>
            <a:pathLst>
              <a:path w="120000" h="120000">
                <a:moveTo>
                  <a:pt x="13817" y="34652"/>
                </a:moveTo>
                <a:lnTo>
                  <a:pt x="13817" y="34652"/>
                </a:lnTo>
                <a:cubicBezTo>
                  <a:pt x="102965" y="34652"/>
                  <a:pt x="102965" y="34652"/>
                  <a:pt x="102965" y="34652"/>
                </a:cubicBezTo>
                <a:cubicBezTo>
                  <a:pt x="111293" y="34652"/>
                  <a:pt x="119810" y="28449"/>
                  <a:pt x="119810" y="19037"/>
                </a:cubicBezTo>
                <a:cubicBezTo>
                  <a:pt x="119810" y="9625"/>
                  <a:pt x="111293" y="0"/>
                  <a:pt x="102965" y="0"/>
                </a:cubicBezTo>
                <a:cubicBezTo>
                  <a:pt x="13817" y="0"/>
                  <a:pt x="13817" y="0"/>
                  <a:pt x="13817" y="0"/>
                </a:cubicBezTo>
                <a:cubicBezTo>
                  <a:pt x="5488" y="0"/>
                  <a:pt x="0" y="9625"/>
                  <a:pt x="0" y="19037"/>
                </a:cubicBezTo>
                <a:cubicBezTo>
                  <a:pt x="0" y="28449"/>
                  <a:pt x="5488" y="34652"/>
                  <a:pt x="13817" y="34652"/>
                </a:cubicBezTo>
                <a:close/>
                <a:moveTo>
                  <a:pt x="13817" y="9625"/>
                </a:moveTo>
                <a:lnTo>
                  <a:pt x="13817" y="9625"/>
                </a:lnTo>
                <a:cubicBezTo>
                  <a:pt x="102965" y="9625"/>
                  <a:pt x="102965" y="9625"/>
                  <a:pt x="102965" y="9625"/>
                </a:cubicBezTo>
                <a:cubicBezTo>
                  <a:pt x="108643" y="9625"/>
                  <a:pt x="111293" y="12620"/>
                  <a:pt x="111293" y="19037"/>
                </a:cubicBezTo>
                <a:cubicBezTo>
                  <a:pt x="111293" y="22032"/>
                  <a:pt x="108643" y="25240"/>
                  <a:pt x="102965" y="25240"/>
                </a:cubicBezTo>
                <a:cubicBezTo>
                  <a:pt x="13817" y="25240"/>
                  <a:pt x="13817" y="25240"/>
                  <a:pt x="13817" y="25240"/>
                </a:cubicBezTo>
                <a:cubicBezTo>
                  <a:pt x="10977" y="25240"/>
                  <a:pt x="8328" y="22032"/>
                  <a:pt x="8328" y="19037"/>
                </a:cubicBezTo>
                <a:cubicBezTo>
                  <a:pt x="8328" y="12620"/>
                  <a:pt x="10977" y="9625"/>
                  <a:pt x="13817" y="9625"/>
                </a:cubicBezTo>
                <a:close/>
                <a:moveTo>
                  <a:pt x="102965" y="44278"/>
                </a:moveTo>
                <a:lnTo>
                  <a:pt x="102965" y="44278"/>
                </a:lnTo>
                <a:cubicBezTo>
                  <a:pt x="13817" y="44278"/>
                  <a:pt x="13817" y="44278"/>
                  <a:pt x="13817" y="44278"/>
                </a:cubicBezTo>
                <a:cubicBezTo>
                  <a:pt x="5488" y="44278"/>
                  <a:pt x="0" y="50481"/>
                  <a:pt x="0" y="59893"/>
                </a:cubicBezTo>
                <a:cubicBezTo>
                  <a:pt x="0" y="69304"/>
                  <a:pt x="5488" y="75721"/>
                  <a:pt x="13817" y="75721"/>
                </a:cubicBezTo>
                <a:cubicBezTo>
                  <a:pt x="102965" y="75721"/>
                  <a:pt x="102965" y="75721"/>
                  <a:pt x="102965" y="75721"/>
                </a:cubicBezTo>
                <a:cubicBezTo>
                  <a:pt x="111293" y="75721"/>
                  <a:pt x="119810" y="69304"/>
                  <a:pt x="119810" y="59893"/>
                </a:cubicBezTo>
                <a:cubicBezTo>
                  <a:pt x="119810" y="50481"/>
                  <a:pt x="111293" y="44278"/>
                  <a:pt x="102965" y="44278"/>
                </a:cubicBezTo>
                <a:close/>
                <a:moveTo>
                  <a:pt x="102965" y="69304"/>
                </a:moveTo>
                <a:lnTo>
                  <a:pt x="102965" y="69304"/>
                </a:lnTo>
                <a:cubicBezTo>
                  <a:pt x="13817" y="69304"/>
                  <a:pt x="13817" y="69304"/>
                  <a:pt x="13817" y="69304"/>
                </a:cubicBezTo>
                <a:cubicBezTo>
                  <a:pt x="10977" y="69304"/>
                  <a:pt x="8328" y="63101"/>
                  <a:pt x="8328" y="59893"/>
                </a:cubicBezTo>
                <a:cubicBezTo>
                  <a:pt x="8328" y="56684"/>
                  <a:pt x="10977" y="50481"/>
                  <a:pt x="13817" y="50481"/>
                </a:cubicBezTo>
                <a:cubicBezTo>
                  <a:pt x="102965" y="50481"/>
                  <a:pt x="102965" y="50481"/>
                  <a:pt x="102965" y="50481"/>
                </a:cubicBezTo>
                <a:cubicBezTo>
                  <a:pt x="108643" y="50481"/>
                  <a:pt x="111293" y="56684"/>
                  <a:pt x="111293" y="59893"/>
                </a:cubicBezTo>
                <a:cubicBezTo>
                  <a:pt x="111293" y="63101"/>
                  <a:pt x="108643" y="69304"/>
                  <a:pt x="102965" y="69304"/>
                </a:cubicBezTo>
                <a:close/>
                <a:moveTo>
                  <a:pt x="102965" y="85133"/>
                </a:moveTo>
                <a:lnTo>
                  <a:pt x="102965" y="85133"/>
                </a:lnTo>
                <a:cubicBezTo>
                  <a:pt x="13817" y="85133"/>
                  <a:pt x="13817" y="85133"/>
                  <a:pt x="13817" y="85133"/>
                </a:cubicBezTo>
                <a:cubicBezTo>
                  <a:pt x="5488" y="85133"/>
                  <a:pt x="0" y="91550"/>
                  <a:pt x="0" y="100748"/>
                </a:cubicBezTo>
                <a:cubicBezTo>
                  <a:pt x="0" y="110374"/>
                  <a:pt x="5488" y="119786"/>
                  <a:pt x="13817" y="119786"/>
                </a:cubicBezTo>
                <a:cubicBezTo>
                  <a:pt x="102965" y="119786"/>
                  <a:pt x="102965" y="119786"/>
                  <a:pt x="102965" y="119786"/>
                </a:cubicBezTo>
                <a:cubicBezTo>
                  <a:pt x="111293" y="119786"/>
                  <a:pt x="119810" y="110374"/>
                  <a:pt x="119810" y="100748"/>
                </a:cubicBezTo>
                <a:cubicBezTo>
                  <a:pt x="119810" y="91550"/>
                  <a:pt x="111293" y="85133"/>
                  <a:pt x="102965" y="85133"/>
                </a:cubicBezTo>
                <a:close/>
                <a:moveTo>
                  <a:pt x="102965" y="110374"/>
                </a:moveTo>
                <a:lnTo>
                  <a:pt x="102965" y="110374"/>
                </a:lnTo>
                <a:cubicBezTo>
                  <a:pt x="13817" y="110374"/>
                  <a:pt x="13817" y="110374"/>
                  <a:pt x="13817" y="110374"/>
                </a:cubicBezTo>
                <a:cubicBezTo>
                  <a:pt x="10977" y="110374"/>
                  <a:pt x="8328" y="107165"/>
                  <a:pt x="8328" y="100748"/>
                </a:cubicBezTo>
                <a:cubicBezTo>
                  <a:pt x="8328" y="97754"/>
                  <a:pt x="10977" y="94545"/>
                  <a:pt x="13817" y="94545"/>
                </a:cubicBezTo>
                <a:cubicBezTo>
                  <a:pt x="102965" y="94545"/>
                  <a:pt x="102965" y="94545"/>
                  <a:pt x="102965" y="94545"/>
                </a:cubicBezTo>
                <a:cubicBezTo>
                  <a:pt x="108643" y="94545"/>
                  <a:pt x="111293" y="97754"/>
                  <a:pt x="111293" y="100748"/>
                </a:cubicBezTo>
                <a:cubicBezTo>
                  <a:pt x="111293" y="107165"/>
                  <a:pt x="108643" y="110374"/>
                  <a:pt x="102965" y="11037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9" name="Shape 4620"/>
          <p:cNvSpPr/>
          <p:nvPr/>
        </p:nvSpPr>
        <p:spPr>
          <a:xfrm>
            <a:off x="7446960" y="3546360"/>
            <a:ext cx="306360" cy="298440"/>
          </a:xfrm>
          <a:custGeom>
            <a:avLst/>
            <a:gdLst>
              <a:gd name="textAreaLeft" fmla="*/ 0 w 306360"/>
              <a:gd name="textAreaRight" fmla="*/ 306720 w 306360"/>
              <a:gd name="textAreaTop" fmla="*/ 0 h 298440"/>
              <a:gd name="textAreaBottom" fmla="*/ 298800 h 298440"/>
            </a:gdLst>
            <a:ahLst/>
            <a:rect l="textAreaLeft" t="textAreaTop" r="textAreaRight" b="textAreaBottom"/>
            <a:pathLst>
              <a:path w="120000" h="120000">
                <a:moveTo>
                  <a:pt x="105993" y="0"/>
                </a:moveTo>
                <a:lnTo>
                  <a:pt x="105993" y="0"/>
                </a:lnTo>
                <a:cubicBezTo>
                  <a:pt x="16845" y="0"/>
                  <a:pt x="16845" y="0"/>
                  <a:pt x="16845" y="0"/>
                </a:cubicBezTo>
                <a:cubicBezTo>
                  <a:pt x="8328" y="0"/>
                  <a:pt x="0" y="5621"/>
                  <a:pt x="0" y="14345"/>
                </a:cubicBezTo>
                <a:cubicBezTo>
                  <a:pt x="0" y="105654"/>
                  <a:pt x="0" y="105654"/>
                  <a:pt x="0" y="105654"/>
                </a:cubicBezTo>
                <a:cubicBezTo>
                  <a:pt x="0" y="114184"/>
                  <a:pt x="8328" y="119806"/>
                  <a:pt x="16845" y="119806"/>
                </a:cubicBezTo>
                <a:cubicBezTo>
                  <a:pt x="105993" y="119806"/>
                  <a:pt x="105993" y="119806"/>
                  <a:pt x="105993" y="119806"/>
                </a:cubicBezTo>
                <a:cubicBezTo>
                  <a:pt x="114321" y="119806"/>
                  <a:pt x="119810" y="114184"/>
                  <a:pt x="119810" y="105654"/>
                </a:cubicBezTo>
                <a:cubicBezTo>
                  <a:pt x="119810" y="14345"/>
                  <a:pt x="119810" y="14345"/>
                  <a:pt x="119810" y="14345"/>
                </a:cubicBezTo>
                <a:cubicBezTo>
                  <a:pt x="119810" y="5621"/>
                  <a:pt x="114321" y="0"/>
                  <a:pt x="105993" y="0"/>
                </a:cubicBezTo>
                <a:close/>
                <a:moveTo>
                  <a:pt x="111482" y="105654"/>
                </a:moveTo>
                <a:lnTo>
                  <a:pt x="111482" y="105654"/>
                </a:lnTo>
                <a:cubicBezTo>
                  <a:pt x="111482" y="108368"/>
                  <a:pt x="108643" y="114184"/>
                  <a:pt x="105993" y="114184"/>
                </a:cubicBezTo>
                <a:cubicBezTo>
                  <a:pt x="16845" y="114184"/>
                  <a:pt x="16845" y="114184"/>
                  <a:pt x="16845" y="114184"/>
                </a:cubicBezTo>
                <a:cubicBezTo>
                  <a:pt x="11167" y="114184"/>
                  <a:pt x="8328" y="108368"/>
                  <a:pt x="8328" y="105654"/>
                </a:cubicBezTo>
                <a:cubicBezTo>
                  <a:pt x="8328" y="14345"/>
                  <a:pt x="8328" y="14345"/>
                  <a:pt x="8328" y="14345"/>
                </a:cubicBezTo>
                <a:cubicBezTo>
                  <a:pt x="8328" y="11437"/>
                  <a:pt x="11167" y="5621"/>
                  <a:pt x="16845" y="5621"/>
                </a:cubicBezTo>
                <a:cubicBezTo>
                  <a:pt x="105993" y="5621"/>
                  <a:pt x="105993" y="5621"/>
                  <a:pt x="105993" y="5621"/>
                </a:cubicBezTo>
                <a:cubicBezTo>
                  <a:pt x="108643" y="5621"/>
                  <a:pt x="111482" y="11437"/>
                  <a:pt x="111482" y="14345"/>
                </a:cubicBezTo>
                <a:lnTo>
                  <a:pt x="111482" y="105654"/>
                </a:lnTo>
                <a:close/>
                <a:moveTo>
                  <a:pt x="77981" y="39935"/>
                </a:moveTo>
                <a:lnTo>
                  <a:pt x="77981" y="39935"/>
                </a:lnTo>
                <a:cubicBezTo>
                  <a:pt x="77981" y="39935"/>
                  <a:pt x="75331" y="39935"/>
                  <a:pt x="72492" y="39935"/>
                </a:cubicBezTo>
                <a:cubicBezTo>
                  <a:pt x="61324" y="54281"/>
                  <a:pt x="61324" y="54281"/>
                  <a:pt x="61324" y="54281"/>
                </a:cubicBezTo>
                <a:cubicBezTo>
                  <a:pt x="47507" y="39935"/>
                  <a:pt x="47507" y="39935"/>
                  <a:pt x="47507" y="39935"/>
                </a:cubicBezTo>
                <a:cubicBezTo>
                  <a:pt x="44668" y="39935"/>
                  <a:pt x="44668" y="39935"/>
                  <a:pt x="41829" y="39935"/>
                </a:cubicBezTo>
                <a:cubicBezTo>
                  <a:pt x="41829" y="42843"/>
                  <a:pt x="41829" y="45751"/>
                  <a:pt x="41829" y="45751"/>
                </a:cubicBezTo>
                <a:cubicBezTo>
                  <a:pt x="55835" y="59903"/>
                  <a:pt x="55835" y="59903"/>
                  <a:pt x="55835" y="59903"/>
                </a:cubicBezTo>
                <a:cubicBezTo>
                  <a:pt x="41829" y="74248"/>
                  <a:pt x="41829" y="74248"/>
                  <a:pt x="41829" y="74248"/>
                </a:cubicBezTo>
                <a:cubicBezTo>
                  <a:pt x="41829" y="74248"/>
                  <a:pt x="41829" y="77156"/>
                  <a:pt x="41829" y="79870"/>
                </a:cubicBezTo>
                <a:cubicBezTo>
                  <a:pt x="44668" y="79870"/>
                  <a:pt x="44668" y="79870"/>
                  <a:pt x="47507" y="79870"/>
                </a:cubicBezTo>
                <a:cubicBezTo>
                  <a:pt x="61324" y="65718"/>
                  <a:pt x="61324" y="65718"/>
                  <a:pt x="61324" y="65718"/>
                </a:cubicBezTo>
                <a:cubicBezTo>
                  <a:pt x="72492" y="79870"/>
                  <a:pt x="72492" y="79870"/>
                  <a:pt x="72492" y="79870"/>
                </a:cubicBezTo>
                <a:cubicBezTo>
                  <a:pt x="75331" y="79870"/>
                  <a:pt x="77981" y="79870"/>
                  <a:pt x="77981" y="79870"/>
                </a:cubicBezTo>
                <a:cubicBezTo>
                  <a:pt x="80820" y="77156"/>
                  <a:pt x="80820" y="74248"/>
                  <a:pt x="77981" y="74248"/>
                </a:cubicBezTo>
                <a:cubicBezTo>
                  <a:pt x="67003" y="59903"/>
                  <a:pt x="67003" y="59903"/>
                  <a:pt x="67003" y="59903"/>
                </a:cubicBezTo>
                <a:cubicBezTo>
                  <a:pt x="77981" y="45751"/>
                  <a:pt x="77981" y="45751"/>
                  <a:pt x="77981" y="45751"/>
                </a:cubicBezTo>
                <a:cubicBezTo>
                  <a:pt x="80820" y="45751"/>
                  <a:pt x="80820" y="42843"/>
                  <a:pt x="77981" y="39935"/>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0" name="Shape 4622"/>
          <p:cNvSpPr/>
          <p:nvPr/>
        </p:nvSpPr>
        <p:spPr>
          <a:xfrm>
            <a:off x="6470640" y="3546360"/>
            <a:ext cx="297000" cy="298440"/>
          </a:xfrm>
          <a:custGeom>
            <a:avLst/>
            <a:gdLst>
              <a:gd name="textAreaLeft" fmla="*/ 0 w 297000"/>
              <a:gd name="textAreaRight" fmla="*/ 297360 w 297000"/>
              <a:gd name="textAreaTop" fmla="*/ 0 h 298440"/>
              <a:gd name="textAreaBottom" fmla="*/ 298800 h 298440"/>
            </a:gdLst>
            <a:ahLst/>
            <a:rect l="textAreaLeft" t="textAreaTop" r="textAreaRight" b="textAreaBottom"/>
            <a:pathLst>
              <a:path w="120000" h="120000">
                <a:moveTo>
                  <a:pt x="82778" y="56995"/>
                </a:moveTo>
                <a:lnTo>
                  <a:pt x="82778" y="56995"/>
                </a:lnTo>
                <a:cubicBezTo>
                  <a:pt x="62810" y="56995"/>
                  <a:pt x="62810" y="56995"/>
                  <a:pt x="62810" y="56995"/>
                </a:cubicBezTo>
                <a:cubicBezTo>
                  <a:pt x="62810" y="37027"/>
                  <a:pt x="62810" y="37027"/>
                  <a:pt x="62810" y="37027"/>
                </a:cubicBezTo>
                <a:cubicBezTo>
                  <a:pt x="62810" y="34313"/>
                  <a:pt x="62810" y="34313"/>
                  <a:pt x="59903" y="34313"/>
                </a:cubicBezTo>
                <a:cubicBezTo>
                  <a:pt x="56995" y="34313"/>
                  <a:pt x="56995" y="34313"/>
                  <a:pt x="56995" y="37027"/>
                </a:cubicBezTo>
                <a:cubicBezTo>
                  <a:pt x="56995" y="56995"/>
                  <a:pt x="56995" y="56995"/>
                  <a:pt x="56995" y="56995"/>
                </a:cubicBezTo>
                <a:cubicBezTo>
                  <a:pt x="37027" y="56995"/>
                  <a:pt x="37027" y="56995"/>
                  <a:pt x="37027" y="56995"/>
                </a:cubicBezTo>
                <a:cubicBezTo>
                  <a:pt x="34313" y="56995"/>
                  <a:pt x="34313" y="56995"/>
                  <a:pt x="34313" y="59903"/>
                </a:cubicBezTo>
                <a:cubicBezTo>
                  <a:pt x="34313" y="62810"/>
                  <a:pt x="34313" y="62810"/>
                  <a:pt x="37027" y="62810"/>
                </a:cubicBezTo>
                <a:cubicBezTo>
                  <a:pt x="56995" y="62810"/>
                  <a:pt x="56995" y="62810"/>
                  <a:pt x="56995" y="62810"/>
                </a:cubicBezTo>
                <a:cubicBezTo>
                  <a:pt x="56995" y="82778"/>
                  <a:pt x="56995" y="82778"/>
                  <a:pt x="56995" y="82778"/>
                </a:cubicBezTo>
                <a:cubicBezTo>
                  <a:pt x="56995" y="85492"/>
                  <a:pt x="56995" y="85492"/>
                  <a:pt x="59903" y="85492"/>
                </a:cubicBezTo>
                <a:cubicBezTo>
                  <a:pt x="62810" y="85492"/>
                  <a:pt x="62810" y="85492"/>
                  <a:pt x="62810" y="82778"/>
                </a:cubicBezTo>
                <a:cubicBezTo>
                  <a:pt x="62810" y="62810"/>
                  <a:pt x="62810" y="62810"/>
                  <a:pt x="62810" y="62810"/>
                </a:cubicBezTo>
                <a:cubicBezTo>
                  <a:pt x="82778" y="62810"/>
                  <a:pt x="82778" y="62810"/>
                  <a:pt x="82778" y="62810"/>
                </a:cubicBezTo>
                <a:cubicBezTo>
                  <a:pt x="85492" y="62810"/>
                  <a:pt x="85492" y="62810"/>
                  <a:pt x="85492" y="59903"/>
                </a:cubicBezTo>
                <a:cubicBezTo>
                  <a:pt x="85492" y="56995"/>
                  <a:pt x="85492" y="56995"/>
                  <a:pt x="82778" y="56995"/>
                </a:cubicBezTo>
                <a:close/>
                <a:moveTo>
                  <a:pt x="105460" y="0"/>
                </a:moveTo>
                <a:lnTo>
                  <a:pt x="105460" y="0"/>
                </a:lnTo>
                <a:cubicBezTo>
                  <a:pt x="14151" y="0"/>
                  <a:pt x="14151" y="0"/>
                  <a:pt x="14151" y="0"/>
                </a:cubicBezTo>
                <a:cubicBezTo>
                  <a:pt x="5621" y="0"/>
                  <a:pt x="0" y="5621"/>
                  <a:pt x="0" y="14345"/>
                </a:cubicBezTo>
                <a:cubicBezTo>
                  <a:pt x="0" y="105654"/>
                  <a:pt x="0" y="105654"/>
                  <a:pt x="0" y="105654"/>
                </a:cubicBezTo>
                <a:cubicBezTo>
                  <a:pt x="0" y="114184"/>
                  <a:pt x="5621" y="119806"/>
                  <a:pt x="14151" y="119806"/>
                </a:cubicBezTo>
                <a:cubicBezTo>
                  <a:pt x="105460" y="119806"/>
                  <a:pt x="105460" y="119806"/>
                  <a:pt x="105460" y="119806"/>
                </a:cubicBezTo>
                <a:cubicBezTo>
                  <a:pt x="114184" y="119806"/>
                  <a:pt x="119806" y="114184"/>
                  <a:pt x="119806" y="105654"/>
                </a:cubicBezTo>
                <a:cubicBezTo>
                  <a:pt x="119806" y="14345"/>
                  <a:pt x="119806" y="14345"/>
                  <a:pt x="119806" y="14345"/>
                </a:cubicBezTo>
                <a:cubicBezTo>
                  <a:pt x="119806" y="5621"/>
                  <a:pt x="114184" y="0"/>
                  <a:pt x="105460" y="0"/>
                </a:cubicBezTo>
                <a:close/>
                <a:moveTo>
                  <a:pt x="114184" y="105654"/>
                </a:moveTo>
                <a:lnTo>
                  <a:pt x="114184" y="105654"/>
                </a:lnTo>
                <a:cubicBezTo>
                  <a:pt x="114184" y="108368"/>
                  <a:pt x="108368" y="114184"/>
                  <a:pt x="105460" y="114184"/>
                </a:cubicBezTo>
                <a:cubicBezTo>
                  <a:pt x="14151" y="114184"/>
                  <a:pt x="14151" y="114184"/>
                  <a:pt x="14151" y="114184"/>
                </a:cubicBezTo>
                <a:cubicBezTo>
                  <a:pt x="11437" y="114184"/>
                  <a:pt x="5621" y="108368"/>
                  <a:pt x="5621" y="105654"/>
                </a:cubicBezTo>
                <a:cubicBezTo>
                  <a:pt x="5621" y="14345"/>
                  <a:pt x="5621" y="14345"/>
                  <a:pt x="5621" y="14345"/>
                </a:cubicBezTo>
                <a:cubicBezTo>
                  <a:pt x="5621" y="11437"/>
                  <a:pt x="11437" y="5621"/>
                  <a:pt x="14151" y="5621"/>
                </a:cubicBezTo>
                <a:cubicBezTo>
                  <a:pt x="105460" y="5621"/>
                  <a:pt x="105460" y="5621"/>
                  <a:pt x="105460" y="5621"/>
                </a:cubicBezTo>
                <a:cubicBezTo>
                  <a:pt x="108368" y="5621"/>
                  <a:pt x="114184" y="11437"/>
                  <a:pt x="114184" y="14345"/>
                </a:cubicBezTo>
                <a:lnTo>
                  <a:pt x="114184" y="105654"/>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1" name="Shape 4624"/>
          <p:cNvSpPr/>
          <p:nvPr/>
        </p:nvSpPr>
        <p:spPr>
          <a:xfrm>
            <a:off x="10391760" y="305100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4164" y="33501"/>
                </a:moveTo>
                <a:lnTo>
                  <a:pt x="64164" y="33501"/>
                </a:lnTo>
                <a:cubicBezTo>
                  <a:pt x="64164" y="30662"/>
                  <a:pt x="61324" y="30662"/>
                  <a:pt x="61324" y="30662"/>
                </a:cubicBezTo>
                <a:cubicBezTo>
                  <a:pt x="58675" y="30662"/>
                  <a:pt x="58675" y="30662"/>
                  <a:pt x="55835" y="33501"/>
                </a:cubicBezTo>
                <a:cubicBezTo>
                  <a:pt x="36340" y="52996"/>
                  <a:pt x="36340" y="52996"/>
                  <a:pt x="36340" y="52996"/>
                </a:cubicBezTo>
                <a:cubicBezTo>
                  <a:pt x="33501" y="55835"/>
                  <a:pt x="33501" y="58675"/>
                  <a:pt x="36340" y="58675"/>
                </a:cubicBezTo>
                <a:cubicBezTo>
                  <a:pt x="36340" y="61324"/>
                  <a:pt x="39179" y="61324"/>
                  <a:pt x="41829" y="58675"/>
                </a:cubicBezTo>
                <a:cubicBezTo>
                  <a:pt x="55835" y="44668"/>
                  <a:pt x="55835" y="44668"/>
                  <a:pt x="55835" y="44668"/>
                </a:cubicBezTo>
                <a:cubicBezTo>
                  <a:pt x="55835" y="83659"/>
                  <a:pt x="55835" y="83659"/>
                  <a:pt x="55835" y="83659"/>
                </a:cubicBezTo>
                <a:cubicBezTo>
                  <a:pt x="55835" y="83659"/>
                  <a:pt x="58675" y="86498"/>
                  <a:pt x="61324" y="86498"/>
                </a:cubicBezTo>
                <a:lnTo>
                  <a:pt x="64164" y="83659"/>
                </a:lnTo>
                <a:cubicBezTo>
                  <a:pt x="64164" y="44668"/>
                  <a:pt x="64164" y="44668"/>
                  <a:pt x="64164" y="44668"/>
                </a:cubicBezTo>
                <a:cubicBezTo>
                  <a:pt x="77981" y="58675"/>
                  <a:pt x="77981" y="58675"/>
                  <a:pt x="77981" y="58675"/>
                </a:cubicBezTo>
                <a:cubicBezTo>
                  <a:pt x="81009" y="61324"/>
                  <a:pt x="83659" y="61324"/>
                  <a:pt x="83659" y="58675"/>
                </a:cubicBezTo>
                <a:cubicBezTo>
                  <a:pt x="86498" y="58675"/>
                  <a:pt x="86498" y="55835"/>
                  <a:pt x="83659" y="52996"/>
                </a:cubicBezTo>
                <a:lnTo>
                  <a:pt x="64164" y="33501"/>
                </a:lnTo>
                <a:close/>
                <a:moveTo>
                  <a:pt x="105993" y="0"/>
                </a:moveTo>
                <a:lnTo>
                  <a:pt x="105993" y="0"/>
                </a:lnTo>
                <a:cubicBezTo>
                  <a:pt x="16845" y="0"/>
                  <a:pt x="16845" y="0"/>
                  <a:pt x="16845" y="0"/>
                </a:cubicBezTo>
                <a:cubicBezTo>
                  <a:pt x="8517" y="0"/>
                  <a:pt x="0" y="8517"/>
                  <a:pt x="0" y="16845"/>
                </a:cubicBezTo>
                <a:cubicBezTo>
                  <a:pt x="0" y="105993"/>
                  <a:pt x="0" y="105993"/>
                  <a:pt x="0" y="105993"/>
                </a:cubicBezTo>
                <a:cubicBezTo>
                  <a:pt x="0" y="114321"/>
                  <a:pt x="8517" y="119810"/>
                  <a:pt x="16845" y="119810"/>
                </a:cubicBezTo>
                <a:cubicBezTo>
                  <a:pt x="105993" y="119810"/>
                  <a:pt x="105993" y="119810"/>
                  <a:pt x="105993" y="119810"/>
                </a:cubicBezTo>
                <a:cubicBezTo>
                  <a:pt x="114321" y="119810"/>
                  <a:pt x="119810" y="114321"/>
                  <a:pt x="119810" y="105993"/>
                </a:cubicBezTo>
                <a:cubicBezTo>
                  <a:pt x="119810" y="16845"/>
                  <a:pt x="119810" y="16845"/>
                  <a:pt x="119810" y="16845"/>
                </a:cubicBezTo>
                <a:cubicBezTo>
                  <a:pt x="119810" y="8517"/>
                  <a:pt x="114321" y="0"/>
                  <a:pt x="105993" y="0"/>
                </a:cubicBezTo>
                <a:close/>
                <a:moveTo>
                  <a:pt x="111482" y="105993"/>
                </a:moveTo>
                <a:lnTo>
                  <a:pt x="111482" y="105993"/>
                </a:lnTo>
                <a:cubicBezTo>
                  <a:pt x="111482" y="108832"/>
                  <a:pt x="108832" y="111482"/>
                  <a:pt x="105993" y="111482"/>
                </a:cubicBezTo>
                <a:cubicBezTo>
                  <a:pt x="16845" y="111482"/>
                  <a:pt x="16845" y="111482"/>
                  <a:pt x="16845" y="111482"/>
                </a:cubicBezTo>
                <a:cubicBezTo>
                  <a:pt x="11167" y="111482"/>
                  <a:pt x="8517" y="108832"/>
                  <a:pt x="8517" y="105993"/>
                </a:cubicBezTo>
                <a:cubicBezTo>
                  <a:pt x="8517" y="16845"/>
                  <a:pt x="8517" y="16845"/>
                  <a:pt x="8517" y="16845"/>
                </a:cubicBezTo>
                <a:cubicBezTo>
                  <a:pt x="8517" y="11167"/>
                  <a:pt x="11167" y="8517"/>
                  <a:pt x="16845" y="8517"/>
                </a:cubicBezTo>
                <a:cubicBezTo>
                  <a:pt x="105993" y="8517"/>
                  <a:pt x="105993" y="8517"/>
                  <a:pt x="105993" y="8517"/>
                </a:cubicBezTo>
                <a:cubicBezTo>
                  <a:pt x="108832" y="8517"/>
                  <a:pt x="111482" y="11167"/>
                  <a:pt x="111482" y="16845"/>
                </a:cubicBezTo>
                <a:lnTo>
                  <a:pt x="111482" y="105993"/>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2" name="Shape 4626"/>
          <p:cNvSpPr/>
          <p:nvPr/>
        </p:nvSpPr>
        <p:spPr>
          <a:xfrm>
            <a:off x="9414000" y="3051000"/>
            <a:ext cx="296640" cy="304920"/>
          </a:xfrm>
          <a:custGeom>
            <a:avLst/>
            <a:gdLst>
              <a:gd name="textAreaLeft" fmla="*/ 0 w 296640"/>
              <a:gd name="textAreaRight" fmla="*/ 297000 w 296640"/>
              <a:gd name="textAreaTop" fmla="*/ 0 h 304920"/>
              <a:gd name="textAreaBottom" fmla="*/ 305280 h 304920"/>
            </a:gdLst>
            <a:ahLst/>
            <a:rect l="textAreaLeft" t="textAreaTop" r="textAreaRight" b="textAreaBottom"/>
            <a:pathLst>
              <a:path w="120000" h="120000">
                <a:moveTo>
                  <a:pt x="105654" y="0"/>
                </a:moveTo>
                <a:lnTo>
                  <a:pt x="105654" y="0"/>
                </a:lnTo>
                <a:cubicBezTo>
                  <a:pt x="14151" y="0"/>
                  <a:pt x="14151" y="0"/>
                  <a:pt x="14151" y="0"/>
                </a:cubicBezTo>
                <a:cubicBezTo>
                  <a:pt x="5621" y="0"/>
                  <a:pt x="0" y="8517"/>
                  <a:pt x="0" y="16845"/>
                </a:cubicBezTo>
                <a:cubicBezTo>
                  <a:pt x="0" y="105993"/>
                  <a:pt x="0" y="105993"/>
                  <a:pt x="0" y="105993"/>
                </a:cubicBezTo>
                <a:cubicBezTo>
                  <a:pt x="0" y="114321"/>
                  <a:pt x="5621" y="119810"/>
                  <a:pt x="14151" y="119810"/>
                </a:cubicBezTo>
                <a:cubicBezTo>
                  <a:pt x="105654" y="119810"/>
                  <a:pt x="105654" y="119810"/>
                  <a:pt x="105654" y="119810"/>
                </a:cubicBezTo>
                <a:cubicBezTo>
                  <a:pt x="114184" y="119810"/>
                  <a:pt x="119806" y="114321"/>
                  <a:pt x="119806" y="105993"/>
                </a:cubicBezTo>
                <a:cubicBezTo>
                  <a:pt x="119806" y="16845"/>
                  <a:pt x="119806" y="16845"/>
                  <a:pt x="119806" y="16845"/>
                </a:cubicBezTo>
                <a:cubicBezTo>
                  <a:pt x="119806" y="8517"/>
                  <a:pt x="114184" y="0"/>
                  <a:pt x="105654" y="0"/>
                </a:cubicBezTo>
                <a:close/>
                <a:moveTo>
                  <a:pt x="114184" y="105993"/>
                </a:moveTo>
                <a:lnTo>
                  <a:pt x="114184" y="105993"/>
                </a:lnTo>
                <a:cubicBezTo>
                  <a:pt x="114184" y="108832"/>
                  <a:pt x="108368" y="111482"/>
                  <a:pt x="105654" y="111482"/>
                </a:cubicBezTo>
                <a:cubicBezTo>
                  <a:pt x="14151" y="111482"/>
                  <a:pt x="14151" y="111482"/>
                  <a:pt x="14151" y="111482"/>
                </a:cubicBezTo>
                <a:cubicBezTo>
                  <a:pt x="11437" y="111482"/>
                  <a:pt x="5621" y="108832"/>
                  <a:pt x="5621" y="105993"/>
                </a:cubicBezTo>
                <a:cubicBezTo>
                  <a:pt x="5621" y="16845"/>
                  <a:pt x="5621" y="16845"/>
                  <a:pt x="5621" y="16845"/>
                </a:cubicBezTo>
                <a:cubicBezTo>
                  <a:pt x="5621" y="11167"/>
                  <a:pt x="11437" y="8517"/>
                  <a:pt x="14151" y="8517"/>
                </a:cubicBezTo>
                <a:cubicBezTo>
                  <a:pt x="105654" y="8517"/>
                  <a:pt x="105654" y="8517"/>
                  <a:pt x="105654" y="8517"/>
                </a:cubicBezTo>
                <a:cubicBezTo>
                  <a:pt x="108368" y="8517"/>
                  <a:pt x="114184" y="11167"/>
                  <a:pt x="114184" y="16845"/>
                </a:cubicBezTo>
                <a:lnTo>
                  <a:pt x="114184" y="105993"/>
                </a:lnTo>
                <a:close/>
                <a:moveTo>
                  <a:pt x="82778" y="55835"/>
                </a:moveTo>
                <a:lnTo>
                  <a:pt x="82778" y="55835"/>
                </a:lnTo>
                <a:cubicBezTo>
                  <a:pt x="42843" y="55835"/>
                  <a:pt x="42843" y="55835"/>
                  <a:pt x="42843" y="55835"/>
                </a:cubicBezTo>
                <a:cubicBezTo>
                  <a:pt x="56995" y="41829"/>
                  <a:pt x="56995" y="41829"/>
                  <a:pt x="56995" y="41829"/>
                </a:cubicBezTo>
                <a:cubicBezTo>
                  <a:pt x="59903" y="39179"/>
                  <a:pt x="59903" y="36340"/>
                  <a:pt x="56995" y="36340"/>
                </a:cubicBezTo>
                <a:cubicBezTo>
                  <a:pt x="56995" y="33501"/>
                  <a:pt x="54281" y="33501"/>
                  <a:pt x="51373" y="36340"/>
                </a:cubicBezTo>
                <a:cubicBezTo>
                  <a:pt x="31405" y="55835"/>
                  <a:pt x="31405" y="55835"/>
                  <a:pt x="31405" y="55835"/>
                </a:cubicBezTo>
                <a:cubicBezTo>
                  <a:pt x="31405" y="58675"/>
                  <a:pt x="31405" y="58675"/>
                  <a:pt x="31405" y="61324"/>
                </a:cubicBezTo>
                <a:lnTo>
                  <a:pt x="31405" y="64164"/>
                </a:lnTo>
                <a:cubicBezTo>
                  <a:pt x="51373" y="83659"/>
                  <a:pt x="51373" y="83659"/>
                  <a:pt x="51373" y="83659"/>
                </a:cubicBezTo>
                <a:cubicBezTo>
                  <a:pt x="54281" y="86498"/>
                  <a:pt x="56995" y="86498"/>
                  <a:pt x="56995" y="83659"/>
                </a:cubicBezTo>
                <a:cubicBezTo>
                  <a:pt x="59903" y="83659"/>
                  <a:pt x="59903" y="81009"/>
                  <a:pt x="56995" y="77981"/>
                </a:cubicBezTo>
                <a:cubicBezTo>
                  <a:pt x="42843" y="64164"/>
                  <a:pt x="42843" y="64164"/>
                  <a:pt x="42843" y="64164"/>
                </a:cubicBezTo>
                <a:cubicBezTo>
                  <a:pt x="82778" y="64164"/>
                  <a:pt x="82778" y="64164"/>
                  <a:pt x="82778" y="64164"/>
                </a:cubicBezTo>
                <a:cubicBezTo>
                  <a:pt x="85492" y="64164"/>
                  <a:pt x="85492" y="61324"/>
                  <a:pt x="85492" y="61324"/>
                </a:cubicBezTo>
                <a:cubicBezTo>
                  <a:pt x="85492" y="58675"/>
                  <a:pt x="85492" y="55835"/>
                  <a:pt x="82778" y="55835"/>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3" name="Shape 4628"/>
          <p:cNvSpPr/>
          <p:nvPr/>
        </p:nvSpPr>
        <p:spPr>
          <a:xfrm>
            <a:off x="8429760" y="305100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41829"/>
                </a:moveTo>
                <a:lnTo>
                  <a:pt x="61324" y="41829"/>
                </a:lnTo>
                <a:cubicBezTo>
                  <a:pt x="61324" y="41829"/>
                  <a:pt x="61324" y="41829"/>
                  <a:pt x="58485" y="41829"/>
                </a:cubicBezTo>
                <a:cubicBezTo>
                  <a:pt x="58485" y="41829"/>
                  <a:pt x="58485" y="41829"/>
                  <a:pt x="55646" y="41829"/>
                </a:cubicBezTo>
                <a:cubicBezTo>
                  <a:pt x="22145" y="75331"/>
                  <a:pt x="22145" y="75331"/>
                  <a:pt x="22145" y="75331"/>
                </a:cubicBezTo>
                <a:cubicBezTo>
                  <a:pt x="22145" y="77981"/>
                  <a:pt x="22145" y="81009"/>
                  <a:pt x="22145" y="81009"/>
                </a:cubicBezTo>
                <a:cubicBezTo>
                  <a:pt x="24984" y="83659"/>
                  <a:pt x="27823" y="83659"/>
                  <a:pt x="27823" y="81009"/>
                </a:cubicBezTo>
                <a:cubicBezTo>
                  <a:pt x="58485" y="50347"/>
                  <a:pt x="58485" y="50347"/>
                  <a:pt x="58485" y="50347"/>
                </a:cubicBezTo>
                <a:cubicBezTo>
                  <a:pt x="89148" y="81009"/>
                  <a:pt x="89148" y="81009"/>
                  <a:pt x="89148" y="81009"/>
                </a:cubicBezTo>
                <a:cubicBezTo>
                  <a:pt x="91798" y="83659"/>
                  <a:pt x="94637" y="83659"/>
                  <a:pt x="94637" y="81009"/>
                </a:cubicBezTo>
                <a:cubicBezTo>
                  <a:pt x="97476" y="81009"/>
                  <a:pt x="97476" y="77981"/>
                  <a:pt x="94637" y="75331"/>
                </a:cubicBezTo>
                <a:lnTo>
                  <a:pt x="61324" y="41829"/>
                </a:lnTo>
                <a:close/>
                <a:moveTo>
                  <a:pt x="102965" y="0"/>
                </a:moveTo>
                <a:lnTo>
                  <a:pt x="102965" y="0"/>
                </a:lnTo>
                <a:cubicBezTo>
                  <a:pt x="13817" y="0"/>
                  <a:pt x="13817" y="0"/>
                  <a:pt x="13817" y="0"/>
                </a:cubicBezTo>
                <a:cubicBezTo>
                  <a:pt x="5488" y="0"/>
                  <a:pt x="0" y="8517"/>
                  <a:pt x="0" y="16845"/>
                </a:cubicBezTo>
                <a:cubicBezTo>
                  <a:pt x="0" y="105993"/>
                  <a:pt x="0" y="105993"/>
                  <a:pt x="0" y="105993"/>
                </a:cubicBezTo>
                <a:cubicBezTo>
                  <a:pt x="0" y="114321"/>
                  <a:pt x="5488" y="119810"/>
                  <a:pt x="13817" y="119810"/>
                </a:cubicBezTo>
                <a:cubicBezTo>
                  <a:pt x="102965" y="119810"/>
                  <a:pt x="102965" y="119810"/>
                  <a:pt x="102965" y="119810"/>
                </a:cubicBezTo>
                <a:cubicBezTo>
                  <a:pt x="111293" y="119810"/>
                  <a:pt x="119810" y="114321"/>
                  <a:pt x="119810" y="105993"/>
                </a:cubicBezTo>
                <a:cubicBezTo>
                  <a:pt x="119810" y="16845"/>
                  <a:pt x="119810" y="16845"/>
                  <a:pt x="119810" y="16845"/>
                </a:cubicBezTo>
                <a:cubicBezTo>
                  <a:pt x="119810" y="8517"/>
                  <a:pt x="111293" y="0"/>
                  <a:pt x="102965" y="0"/>
                </a:cubicBezTo>
                <a:close/>
                <a:moveTo>
                  <a:pt x="111293" y="105993"/>
                </a:moveTo>
                <a:lnTo>
                  <a:pt x="111293" y="105993"/>
                </a:lnTo>
                <a:cubicBezTo>
                  <a:pt x="111293" y="108832"/>
                  <a:pt x="108643" y="111482"/>
                  <a:pt x="102965" y="111482"/>
                </a:cubicBezTo>
                <a:cubicBezTo>
                  <a:pt x="13817" y="111482"/>
                  <a:pt x="13817" y="111482"/>
                  <a:pt x="13817" y="111482"/>
                </a:cubicBezTo>
                <a:cubicBezTo>
                  <a:pt x="10977" y="111482"/>
                  <a:pt x="8328" y="108832"/>
                  <a:pt x="8328" y="105993"/>
                </a:cubicBezTo>
                <a:cubicBezTo>
                  <a:pt x="8328" y="16845"/>
                  <a:pt x="8328" y="16845"/>
                  <a:pt x="8328" y="16845"/>
                </a:cubicBezTo>
                <a:cubicBezTo>
                  <a:pt x="8328" y="11167"/>
                  <a:pt x="10977" y="8517"/>
                  <a:pt x="13817" y="8517"/>
                </a:cubicBezTo>
                <a:cubicBezTo>
                  <a:pt x="102965" y="8517"/>
                  <a:pt x="102965" y="8517"/>
                  <a:pt x="102965" y="8517"/>
                </a:cubicBezTo>
                <a:cubicBezTo>
                  <a:pt x="108643" y="8517"/>
                  <a:pt x="111293" y="11167"/>
                  <a:pt x="111293" y="16845"/>
                </a:cubicBezTo>
                <a:lnTo>
                  <a:pt x="111293" y="105993"/>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4" name="Shape 4630"/>
          <p:cNvSpPr/>
          <p:nvPr/>
        </p:nvSpPr>
        <p:spPr>
          <a:xfrm>
            <a:off x="7446960" y="3051000"/>
            <a:ext cx="306360" cy="304920"/>
          </a:xfrm>
          <a:custGeom>
            <a:avLst/>
            <a:gdLst>
              <a:gd name="textAreaLeft" fmla="*/ 0 w 306360"/>
              <a:gd name="textAreaRight" fmla="*/ 306720 w 306360"/>
              <a:gd name="textAreaTop" fmla="*/ 0 h 304920"/>
              <a:gd name="textAreaBottom" fmla="*/ 305280 h 304920"/>
            </a:gdLst>
            <a:ahLst/>
            <a:rect l="textAreaLeft" t="textAreaTop" r="textAreaRight" b="textAreaBottom"/>
            <a:pathLst>
              <a:path w="120000" h="120000">
                <a:moveTo>
                  <a:pt x="80820" y="25173"/>
                </a:moveTo>
                <a:lnTo>
                  <a:pt x="80820" y="25173"/>
                </a:lnTo>
                <a:cubicBezTo>
                  <a:pt x="80820" y="22334"/>
                  <a:pt x="77981" y="22334"/>
                  <a:pt x="75331" y="25173"/>
                </a:cubicBezTo>
                <a:cubicBezTo>
                  <a:pt x="41829" y="58675"/>
                  <a:pt x="41829" y="58675"/>
                  <a:pt x="41829" y="58675"/>
                </a:cubicBezTo>
                <a:cubicBezTo>
                  <a:pt x="41829" y="58675"/>
                  <a:pt x="41829" y="58675"/>
                  <a:pt x="41829" y="61324"/>
                </a:cubicBezTo>
                <a:cubicBezTo>
                  <a:pt x="41829" y="61324"/>
                  <a:pt x="41829" y="61324"/>
                  <a:pt x="41829" y="64164"/>
                </a:cubicBezTo>
                <a:cubicBezTo>
                  <a:pt x="75331" y="97665"/>
                  <a:pt x="75331" y="97665"/>
                  <a:pt x="75331" y="97665"/>
                </a:cubicBezTo>
                <a:cubicBezTo>
                  <a:pt x="77981" y="97665"/>
                  <a:pt x="80820" y="97665"/>
                  <a:pt x="80820" y="97665"/>
                </a:cubicBezTo>
                <a:cubicBezTo>
                  <a:pt x="83659" y="94826"/>
                  <a:pt x="83659" y="91987"/>
                  <a:pt x="80820" y="91987"/>
                </a:cubicBezTo>
                <a:cubicBezTo>
                  <a:pt x="50157" y="61324"/>
                  <a:pt x="50157" y="61324"/>
                  <a:pt x="50157" y="61324"/>
                </a:cubicBezTo>
                <a:cubicBezTo>
                  <a:pt x="80820" y="30662"/>
                  <a:pt x="80820" y="30662"/>
                  <a:pt x="80820" y="30662"/>
                </a:cubicBezTo>
                <a:cubicBezTo>
                  <a:pt x="83659" y="28012"/>
                  <a:pt x="83659" y="25173"/>
                  <a:pt x="80820" y="25173"/>
                </a:cubicBezTo>
                <a:close/>
                <a:moveTo>
                  <a:pt x="105993" y="0"/>
                </a:moveTo>
                <a:lnTo>
                  <a:pt x="105993" y="0"/>
                </a:lnTo>
                <a:cubicBezTo>
                  <a:pt x="16845" y="0"/>
                  <a:pt x="16845" y="0"/>
                  <a:pt x="16845" y="0"/>
                </a:cubicBezTo>
                <a:cubicBezTo>
                  <a:pt x="8328" y="0"/>
                  <a:pt x="0" y="8517"/>
                  <a:pt x="0" y="16845"/>
                </a:cubicBezTo>
                <a:cubicBezTo>
                  <a:pt x="0" y="105993"/>
                  <a:pt x="0" y="105993"/>
                  <a:pt x="0" y="105993"/>
                </a:cubicBezTo>
                <a:cubicBezTo>
                  <a:pt x="0" y="114321"/>
                  <a:pt x="8328" y="119810"/>
                  <a:pt x="16845" y="119810"/>
                </a:cubicBezTo>
                <a:cubicBezTo>
                  <a:pt x="105993" y="119810"/>
                  <a:pt x="105993" y="119810"/>
                  <a:pt x="105993" y="119810"/>
                </a:cubicBezTo>
                <a:cubicBezTo>
                  <a:pt x="114321" y="119810"/>
                  <a:pt x="119810" y="114321"/>
                  <a:pt x="119810" y="105993"/>
                </a:cubicBezTo>
                <a:cubicBezTo>
                  <a:pt x="119810" y="16845"/>
                  <a:pt x="119810" y="16845"/>
                  <a:pt x="119810" y="16845"/>
                </a:cubicBezTo>
                <a:cubicBezTo>
                  <a:pt x="119810" y="8517"/>
                  <a:pt x="114321" y="0"/>
                  <a:pt x="105993" y="0"/>
                </a:cubicBezTo>
                <a:close/>
                <a:moveTo>
                  <a:pt x="111482" y="105993"/>
                </a:moveTo>
                <a:lnTo>
                  <a:pt x="111482" y="105993"/>
                </a:lnTo>
                <a:cubicBezTo>
                  <a:pt x="111482" y="108832"/>
                  <a:pt x="108643" y="111482"/>
                  <a:pt x="105993" y="111482"/>
                </a:cubicBezTo>
                <a:cubicBezTo>
                  <a:pt x="16845" y="111482"/>
                  <a:pt x="16845" y="111482"/>
                  <a:pt x="16845" y="111482"/>
                </a:cubicBezTo>
                <a:cubicBezTo>
                  <a:pt x="11167" y="111482"/>
                  <a:pt x="8328" y="108832"/>
                  <a:pt x="8328" y="105993"/>
                </a:cubicBezTo>
                <a:cubicBezTo>
                  <a:pt x="8328" y="16845"/>
                  <a:pt x="8328" y="16845"/>
                  <a:pt x="8328" y="16845"/>
                </a:cubicBezTo>
                <a:cubicBezTo>
                  <a:pt x="8328" y="11167"/>
                  <a:pt x="11167" y="8517"/>
                  <a:pt x="16845" y="8517"/>
                </a:cubicBezTo>
                <a:cubicBezTo>
                  <a:pt x="105993" y="8517"/>
                  <a:pt x="105993" y="8517"/>
                  <a:pt x="105993" y="8517"/>
                </a:cubicBezTo>
                <a:cubicBezTo>
                  <a:pt x="108643" y="8517"/>
                  <a:pt x="111482" y="11167"/>
                  <a:pt x="111482" y="16845"/>
                </a:cubicBezTo>
                <a:lnTo>
                  <a:pt x="111482" y="105993"/>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5" name="Shape 4632"/>
          <p:cNvSpPr/>
          <p:nvPr/>
        </p:nvSpPr>
        <p:spPr>
          <a:xfrm>
            <a:off x="6470640" y="3051000"/>
            <a:ext cx="297000" cy="304920"/>
          </a:xfrm>
          <a:custGeom>
            <a:avLst/>
            <a:gdLst>
              <a:gd name="textAreaLeft" fmla="*/ 0 w 297000"/>
              <a:gd name="textAreaRight" fmla="*/ 297360 w 297000"/>
              <a:gd name="textAreaTop" fmla="*/ 0 h 304920"/>
              <a:gd name="textAreaBottom" fmla="*/ 305280 h 304920"/>
            </a:gdLst>
            <a:ahLst/>
            <a:rect l="textAreaLeft" t="textAreaTop" r="textAreaRight" b="textAreaBottom"/>
            <a:pathLst>
              <a:path w="120000" h="120000">
                <a:moveTo>
                  <a:pt x="51373" y="64164"/>
                </a:moveTo>
                <a:lnTo>
                  <a:pt x="51373" y="64164"/>
                </a:lnTo>
                <a:cubicBezTo>
                  <a:pt x="17059" y="64164"/>
                  <a:pt x="17059" y="64164"/>
                  <a:pt x="17059" y="64164"/>
                </a:cubicBezTo>
                <a:lnTo>
                  <a:pt x="14151" y="67003"/>
                </a:lnTo>
                <a:cubicBezTo>
                  <a:pt x="14151" y="69842"/>
                  <a:pt x="17059" y="72492"/>
                  <a:pt x="17059" y="72492"/>
                </a:cubicBezTo>
                <a:cubicBezTo>
                  <a:pt x="42843" y="72492"/>
                  <a:pt x="42843" y="72492"/>
                  <a:pt x="42843" y="72492"/>
                </a:cubicBezTo>
                <a:cubicBezTo>
                  <a:pt x="17059" y="97665"/>
                  <a:pt x="17059" y="97665"/>
                  <a:pt x="17059" y="97665"/>
                </a:cubicBezTo>
                <a:cubicBezTo>
                  <a:pt x="22875" y="103154"/>
                  <a:pt x="22875" y="103154"/>
                  <a:pt x="22875" y="103154"/>
                </a:cubicBezTo>
                <a:cubicBezTo>
                  <a:pt x="48465" y="77981"/>
                  <a:pt x="48465" y="77981"/>
                  <a:pt x="48465" y="77981"/>
                </a:cubicBezTo>
                <a:cubicBezTo>
                  <a:pt x="48465" y="100315"/>
                  <a:pt x="48465" y="100315"/>
                  <a:pt x="48465" y="100315"/>
                </a:cubicBezTo>
                <a:cubicBezTo>
                  <a:pt x="48465" y="103154"/>
                  <a:pt x="51373" y="105993"/>
                  <a:pt x="51373" y="105993"/>
                </a:cubicBezTo>
                <a:cubicBezTo>
                  <a:pt x="54281" y="105993"/>
                  <a:pt x="56995" y="103154"/>
                  <a:pt x="56995" y="100315"/>
                </a:cubicBezTo>
                <a:cubicBezTo>
                  <a:pt x="56995" y="67003"/>
                  <a:pt x="56995" y="67003"/>
                  <a:pt x="56995" y="67003"/>
                </a:cubicBezTo>
                <a:cubicBezTo>
                  <a:pt x="56995" y="67003"/>
                  <a:pt x="56995" y="67003"/>
                  <a:pt x="54281" y="64164"/>
                </a:cubicBezTo>
                <a:cubicBezTo>
                  <a:pt x="54281" y="64164"/>
                  <a:pt x="54281" y="64164"/>
                  <a:pt x="51373" y="64164"/>
                </a:cubicBezTo>
                <a:close/>
                <a:moveTo>
                  <a:pt x="102746" y="50347"/>
                </a:moveTo>
                <a:lnTo>
                  <a:pt x="102746" y="50347"/>
                </a:lnTo>
                <a:cubicBezTo>
                  <a:pt x="76962" y="50347"/>
                  <a:pt x="76962" y="50347"/>
                  <a:pt x="76962" y="50347"/>
                </a:cubicBezTo>
                <a:cubicBezTo>
                  <a:pt x="102746" y="25173"/>
                  <a:pt x="102746" y="25173"/>
                  <a:pt x="102746" y="25173"/>
                </a:cubicBezTo>
                <a:cubicBezTo>
                  <a:pt x="96930" y="19495"/>
                  <a:pt x="96930" y="19495"/>
                  <a:pt x="96930" y="19495"/>
                </a:cubicBezTo>
                <a:cubicBezTo>
                  <a:pt x="71340" y="44668"/>
                  <a:pt x="71340" y="44668"/>
                  <a:pt x="71340" y="44668"/>
                </a:cubicBezTo>
                <a:cubicBezTo>
                  <a:pt x="71340" y="19495"/>
                  <a:pt x="71340" y="19495"/>
                  <a:pt x="71340" y="19495"/>
                </a:cubicBezTo>
                <a:cubicBezTo>
                  <a:pt x="71340" y="16845"/>
                  <a:pt x="68432" y="16845"/>
                  <a:pt x="68432" y="16845"/>
                </a:cubicBezTo>
                <a:cubicBezTo>
                  <a:pt x="65718" y="16845"/>
                  <a:pt x="62810" y="16845"/>
                  <a:pt x="62810" y="19495"/>
                </a:cubicBezTo>
                <a:cubicBezTo>
                  <a:pt x="62810" y="52996"/>
                  <a:pt x="62810" y="52996"/>
                  <a:pt x="62810" y="52996"/>
                </a:cubicBezTo>
                <a:cubicBezTo>
                  <a:pt x="62810" y="52996"/>
                  <a:pt x="62810" y="55835"/>
                  <a:pt x="65718" y="55835"/>
                </a:cubicBezTo>
                <a:cubicBezTo>
                  <a:pt x="65718" y="55835"/>
                  <a:pt x="65718" y="55835"/>
                  <a:pt x="68432" y="55835"/>
                </a:cubicBezTo>
                <a:cubicBezTo>
                  <a:pt x="102746" y="55835"/>
                  <a:pt x="102746" y="55835"/>
                  <a:pt x="102746" y="55835"/>
                </a:cubicBezTo>
                <a:cubicBezTo>
                  <a:pt x="102746" y="55835"/>
                  <a:pt x="105460" y="55835"/>
                  <a:pt x="105460" y="52996"/>
                </a:cubicBezTo>
                <a:cubicBezTo>
                  <a:pt x="105460" y="50347"/>
                  <a:pt x="102746" y="50347"/>
                  <a:pt x="102746" y="50347"/>
                </a:cubicBezTo>
                <a:close/>
                <a:moveTo>
                  <a:pt x="105460" y="0"/>
                </a:moveTo>
                <a:lnTo>
                  <a:pt x="105460" y="0"/>
                </a:lnTo>
                <a:cubicBezTo>
                  <a:pt x="14151" y="0"/>
                  <a:pt x="14151" y="0"/>
                  <a:pt x="14151" y="0"/>
                </a:cubicBezTo>
                <a:cubicBezTo>
                  <a:pt x="5621" y="0"/>
                  <a:pt x="0" y="8517"/>
                  <a:pt x="0" y="16845"/>
                </a:cubicBezTo>
                <a:cubicBezTo>
                  <a:pt x="0" y="105993"/>
                  <a:pt x="0" y="105993"/>
                  <a:pt x="0" y="105993"/>
                </a:cubicBezTo>
                <a:cubicBezTo>
                  <a:pt x="0" y="114321"/>
                  <a:pt x="5621" y="119810"/>
                  <a:pt x="14151" y="119810"/>
                </a:cubicBezTo>
                <a:cubicBezTo>
                  <a:pt x="105460" y="119810"/>
                  <a:pt x="105460" y="119810"/>
                  <a:pt x="105460" y="119810"/>
                </a:cubicBezTo>
                <a:cubicBezTo>
                  <a:pt x="114184" y="119810"/>
                  <a:pt x="119806" y="114321"/>
                  <a:pt x="119806" y="105993"/>
                </a:cubicBezTo>
                <a:cubicBezTo>
                  <a:pt x="119806" y="16845"/>
                  <a:pt x="119806" y="16845"/>
                  <a:pt x="119806" y="16845"/>
                </a:cubicBezTo>
                <a:cubicBezTo>
                  <a:pt x="119806" y="8517"/>
                  <a:pt x="114184" y="0"/>
                  <a:pt x="105460" y="0"/>
                </a:cubicBezTo>
                <a:close/>
                <a:moveTo>
                  <a:pt x="114184" y="105993"/>
                </a:moveTo>
                <a:lnTo>
                  <a:pt x="114184" y="105993"/>
                </a:lnTo>
                <a:cubicBezTo>
                  <a:pt x="114184" y="108832"/>
                  <a:pt x="108368" y="111482"/>
                  <a:pt x="105460" y="111482"/>
                </a:cubicBezTo>
                <a:cubicBezTo>
                  <a:pt x="14151" y="111482"/>
                  <a:pt x="14151" y="111482"/>
                  <a:pt x="14151" y="111482"/>
                </a:cubicBezTo>
                <a:cubicBezTo>
                  <a:pt x="11437" y="111482"/>
                  <a:pt x="5621" y="108832"/>
                  <a:pt x="5621" y="105993"/>
                </a:cubicBezTo>
                <a:cubicBezTo>
                  <a:pt x="5621" y="16845"/>
                  <a:pt x="5621" y="16845"/>
                  <a:pt x="5621" y="16845"/>
                </a:cubicBezTo>
                <a:cubicBezTo>
                  <a:pt x="5621" y="11167"/>
                  <a:pt x="11437" y="8517"/>
                  <a:pt x="14151" y="8517"/>
                </a:cubicBezTo>
                <a:cubicBezTo>
                  <a:pt x="105460" y="8517"/>
                  <a:pt x="105460" y="8517"/>
                  <a:pt x="105460" y="8517"/>
                </a:cubicBezTo>
                <a:cubicBezTo>
                  <a:pt x="108368" y="8517"/>
                  <a:pt x="114184" y="11167"/>
                  <a:pt x="114184" y="16845"/>
                </a:cubicBezTo>
                <a:lnTo>
                  <a:pt x="114184" y="105993"/>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6" name="Shape 4634"/>
          <p:cNvSpPr/>
          <p:nvPr/>
        </p:nvSpPr>
        <p:spPr>
          <a:xfrm>
            <a:off x="10417320" y="2149560"/>
            <a:ext cx="269640" cy="304560"/>
          </a:xfrm>
          <a:custGeom>
            <a:avLst/>
            <a:gdLst>
              <a:gd name="textAreaLeft" fmla="*/ 0 w 269640"/>
              <a:gd name="textAreaRight" fmla="*/ 270000 w 269640"/>
              <a:gd name="textAreaTop" fmla="*/ 0 h 304560"/>
              <a:gd name="textAreaBottom" fmla="*/ 304920 h 304560"/>
            </a:gdLst>
            <a:ahLst/>
            <a:rect l="textAreaLeft" t="textAreaTop" r="textAreaRight" b="textAreaBottom"/>
            <a:pathLst>
              <a:path w="120000" h="120000">
                <a:moveTo>
                  <a:pt x="28449" y="69652"/>
                </a:moveTo>
                <a:lnTo>
                  <a:pt x="28449" y="69652"/>
                </a:lnTo>
                <a:cubicBezTo>
                  <a:pt x="56684" y="94637"/>
                  <a:pt x="56684" y="94637"/>
                  <a:pt x="56684" y="94637"/>
                </a:cubicBezTo>
                <a:lnTo>
                  <a:pt x="59893" y="97476"/>
                </a:lnTo>
                <a:lnTo>
                  <a:pt x="63101" y="94637"/>
                </a:lnTo>
                <a:cubicBezTo>
                  <a:pt x="91336" y="69652"/>
                  <a:pt x="91336" y="69652"/>
                  <a:pt x="91336" y="69652"/>
                </a:cubicBezTo>
                <a:cubicBezTo>
                  <a:pt x="94545" y="66813"/>
                  <a:pt x="94545" y="66813"/>
                  <a:pt x="91336" y="63974"/>
                </a:cubicBezTo>
                <a:cubicBezTo>
                  <a:pt x="91336" y="63974"/>
                  <a:pt x="88128" y="63974"/>
                  <a:pt x="85133" y="63974"/>
                </a:cubicBezTo>
                <a:cubicBezTo>
                  <a:pt x="63101" y="83470"/>
                  <a:pt x="63101" y="83470"/>
                  <a:pt x="63101" y="83470"/>
                </a:cubicBezTo>
                <a:cubicBezTo>
                  <a:pt x="63101" y="2649"/>
                  <a:pt x="63101" y="2649"/>
                  <a:pt x="63101" y="2649"/>
                </a:cubicBezTo>
                <a:cubicBezTo>
                  <a:pt x="63101" y="2649"/>
                  <a:pt x="63101" y="0"/>
                  <a:pt x="59893" y="0"/>
                </a:cubicBezTo>
                <a:cubicBezTo>
                  <a:pt x="56684" y="0"/>
                  <a:pt x="56684" y="2649"/>
                  <a:pt x="56684" y="2649"/>
                </a:cubicBezTo>
                <a:cubicBezTo>
                  <a:pt x="56684" y="83470"/>
                  <a:pt x="56684" y="83470"/>
                  <a:pt x="56684" y="83470"/>
                </a:cubicBezTo>
                <a:cubicBezTo>
                  <a:pt x="34652" y="63974"/>
                  <a:pt x="34652" y="63974"/>
                  <a:pt x="34652" y="63974"/>
                </a:cubicBezTo>
                <a:cubicBezTo>
                  <a:pt x="31657" y="63974"/>
                  <a:pt x="28449" y="63974"/>
                  <a:pt x="28449" y="63974"/>
                </a:cubicBezTo>
                <a:cubicBezTo>
                  <a:pt x="25240" y="66813"/>
                  <a:pt x="25240" y="66813"/>
                  <a:pt x="28449" y="69652"/>
                </a:cubicBezTo>
                <a:close/>
                <a:moveTo>
                  <a:pt x="100748" y="13817"/>
                </a:moveTo>
                <a:lnTo>
                  <a:pt x="100748" y="13817"/>
                </a:lnTo>
                <a:cubicBezTo>
                  <a:pt x="88128" y="13817"/>
                  <a:pt x="88128" y="13817"/>
                  <a:pt x="88128" y="13817"/>
                </a:cubicBezTo>
                <a:cubicBezTo>
                  <a:pt x="88128" y="22145"/>
                  <a:pt x="88128" y="22145"/>
                  <a:pt x="88128" y="22145"/>
                </a:cubicBezTo>
                <a:cubicBezTo>
                  <a:pt x="100748" y="22145"/>
                  <a:pt x="100748" y="22145"/>
                  <a:pt x="100748" y="22145"/>
                </a:cubicBezTo>
                <a:cubicBezTo>
                  <a:pt x="107165" y="22145"/>
                  <a:pt x="110374" y="24984"/>
                  <a:pt x="110374" y="30662"/>
                </a:cubicBezTo>
                <a:cubicBezTo>
                  <a:pt x="110374" y="102965"/>
                  <a:pt x="110374" y="102965"/>
                  <a:pt x="110374" y="102965"/>
                </a:cubicBezTo>
                <a:cubicBezTo>
                  <a:pt x="110374" y="108643"/>
                  <a:pt x="107165" y="111293"/>
                  <a:pt x="100748" y="111293"/>
                </a:cubicBezTo>
                <a:cubicBezTo>
                  <a:pt x="19037" y="111293"/>
                  <a:pt x="19037" y="111293"/>
                  <a:pt x="19037" y="111293"/>
                </a:cubicBezTo>
                <a:cubicBezTo>
                  <a:pt x="12620" y="111293"/>
                  <a:pt x="9411" y="108643"/>
                  <a:pt x="9411" y="102965"/>
                </a:cubicBezTo>
                <a:cubicBezTo>
                  <a:pt x="9411" y="30662"/>
                  <a:pt x="9411" y="30662"/>
                  <a:pt x="9411" y="30662"/>
                </a:cubicBezTo>
                <a:cubicBezTo>
                  <a:pt x="9411" y="24984"/>
                  <a:pt x="12620" y="22145"/>
                  <a:pt x="19037" y="22145"/>
                </a:cubicBezTo>
                <a:cubicBezTo>
                  <a:pt x="31657" y="22145"/>
                  <a:pt x="31657" y="22145"/>
                  <a:pt x="31657" y="22145"/>
                </a:cubicBezTo>
                <a:cubicBezTo>
                  <a:pt x="31657" y="13817"/>
                  <a:pt x="31657" y="13817"/>
                  <a:pt x="31657" y="13817"/>
                </a:cubicBezTo>
                <a:cubicBezTo>
                  <a:pt x="19037" y="13817"/>
                  <a:pt x="19037" y="13817"/>
                  <a:pt x="19037" y="13817"/>
                </a:cubicBezTo>
                <a:cubicBezTo>
                  <a:pt x="9411" y="13817"/>
                  <a:pt x="0" y="22145"/>
                  <a:pt x="0" y="30662"/>
                </a:cubicBezTo>
                <a:cubicBezTo>
                  <a:pt x="0" y="102965"/>
                  <a:pt x="0" y="102965"/>
                  <a:pt x="0" y="102965"/>
                </a:cubicBezTo>
                <a:cubicBezTo>
                  <a:pt x="0" y="111293"/>
                  <a:pt x="9411" y="119810"/>
                  <a:pt x="19037" y="119810"/>
                </a:cubicBezTo>
                <a:cubicBezTo>
                  <a:pt x="100748" y="119810"/>
                  <a:pt x="100748" y="119810"/>
                  <a:pt x="100748" y="119810"/>
                </a:cubicBezTo>
                <a:cubicBezTo>
                  <a:pt x="110374" y="119810"/>
                  <a:pt x="119786" y="111293"/>
                  <a:pt x="119786" y="102965"/>
                </a:cubicBezTo>
                <a:cubicBezTo>
                  <a:pt x="119786" y="30662"/>
                  <a:pt x="119786" y="30662"/>
                  <a:pt x="119786" y="30662"/>
                </a:cubicBezTo>
                <a:cubicBezTo>
                  <a:pt x="119786" y="22145"/>
                  <a:pt x="110374" y="13817"/>
                  <a:pt x="100748" y="13817"/>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7" name="Shape 4636"/>
          <p:cNvSpPr/>
          <p:nvPr/>
        </p:nvSpPr>
        <p:spPr>
          <a:xfrm>
            <a:off x="9414000" y="2170080"/>
            <a:ext cx="296640" cy="263520"/>
          </a:xfrm>
          <a:custGeom>
            <a:avLst/>
            <a:gdLst>
              <a:gd name="textAreaLeft" fmla="*/ 0 w 296640"/>
              <a:gd name="textAreaRight" fmla="*/ 297000 w 296640"/>
              <a:gd name="textAreaTop" fmla="*/ 0 h 263520"/>
              <a:gd name="textAreaBottom" fmla="*/ 263880 h 263520"/>
            </a:gdLst>
            <a:ahLst/>
            <a:rect l="textAreaLeft" t="textAreaTop" r="textAreaRight" b="textAreaBottom"/>
            <a:pathLst>
              <a:path w="120000" h="120000">
                <a:moveTo>
                  <a:pt x="116898" y="55045"/>
                </a:moveTo>
                <a:lnTo>
                  <a:pt x="116898" y="55045"/>
                </a:lnTo>
                <a:cubicBezTo>
                  <a:pt x="34313" y="55045"/>
                  <a:pt x="34313" y="55045"/>
                  <a:pt x="34313" y="55045"/>
                </a:cubicBezTo>
                <a:cubicBezTo>
                  <a:pt x="54281" y="32366"/>
                  <a:pt x="54281" y="32366"/>
                  <a:pt x="54281" y="32366"/>
                </a:cubicBezTo>
                <a:cubicBezTo>
                  <a:pt x="56995" y="29064"/>
                  <a:pt x="56995" y="29064"/>
                  <a:pt x="54281" y="25981"/>
                </a:cubicBezTo>
                <a:cubicBezTo>
                  <a:pt x="54281" y="25981"/>
                  <a:pt x="51373" y="25981"/>
                  <a:pt x="48465" y="25981"/>
                </a:cubicBezTo>
                <a:cubicBezTo>
                  <a:pt x="22875" y="55045"/>
                  <a:pt x="22875" y="55045"/>
                  <a:pt x="22875" y="55045"/>
                </a:cubicBezTo>
                <a:cubicBezTo>
                  <a:pt x="22875" y="58348"/>
                  <a:pt x="22875" y="58348"/>
                  <a:pt x="22875" y="58348"/>
                </a:cubicBezTo>
                <a:cubicBezTo>
                  <a:pt x="22875" y="61651"/>
                  <a:pt x="22875" y="61651"/>
                  <a:pt x="22875" y="61651"/>
                </a:cubicBezTo>
                <a:cubicBezTo>
                  <a:pt x="48465" y="94018"/>
                  <a:pt x="48465" y="94018"/>
                  <a:pt x="48465" y="94018"/>
                </a:cubicBezTo>
                <a:cubicBezTo>
                  <a:pt x="51373" y="94018"/>
                  <a:pt x="54281" y="94018"/>
                  <a:pt x="54281" y="94018"/>
                </a:cubicBezTo>
                <a:cubicBezTo>
                  <a:pt x="56995" y="90715"/>
                  <a:pt x="56995" y="87412"/>
                  <a:pt x="54281" y="87412"/>
                </a:cubicBezTo>
                <a:cubicBezTo>
                  <a:pt x="34313" y="64733"/>
                  <a:pt x="34313" y="64733"/>
                  <a:pt x="34313" y="64733"/>
                </a:cubicBezTo>
                <a:cubicBezTo>
                  <a:pt x="116898" y="64733"/>
                  <a:pt x="116898" y="64733"/>
                  <a:pt x="116898" y="64733"/>
                </a:cubicBezTo>
                <a:cubicBezTo>
                  <a:pt x="119806" y="64733"/>
                  <a:pt x="119806" y="61651"/>
                  <a:pt x="119806" y="58348"/>
                </a:cubicBezTo>
                <a:cubicBezTo>
                  <a:pt x="119806" y="58348"/>
                  <a:pt x="119806" y="55045"/>
                  <a:pt x="116898" y="55045"/>
                </a:cubicBezTo>
                <a:close/>
                <a:moveTo>
                  <a:pt x="96930" y="103706"/>
                </a:moveTo>
                <a:lnTo>
                  <a:pt x="96930" y="103706"/>
                </a:lnTo>
                <a:cubicBezTo>
                  <a:pt x="96930" y="107009"/>
                  <a:pt x="94216" y="110091"/>
                  <a:pt x="91308" y="110091"/>
                </a:cubicBezTo>
                <a:cubicBezTo>
                  <a:pt x="14151" y="110091"/>
                  <a:pt x="14151" y="110091"/>
                  <a:pt x="14151" y="110091"/>
                </a:cubicBezTo>
                <a:cubicBezTo>
                  <a:pt x="11437" y="110091"/>
                  <a:pt x="5621" y="107009"/>
                  <a:pt x="5621" y="103706"/>
                </a:cubicBezTo>
                <a:cubicBezTo>
                  <a:pt x="5621" y="16073"/>
                  <a:pt x="5621" y="16073"/>
                  <a:pt x="5621" y="16073"/>
                </a:cubicBezTo>
                <a:cubicBezTo>
                  <a:pt x="5621" y="12990"/>
                  <a:pt x="11437" y="6385"/>
                  <a:pt x="14151" y="6385"/>
                </a:cubicBezTo>
                <a:cubicBezTo>
                  <a:pt x="91308" y="6385"/>
                  <a:pt x="91308" y="6385"/>
                  <a:pt x="91308" y="6385"/>
                </a:cubicBezTo>
                <a:cubicBezTo>
                  <a:pt x="94216" y="6385"/>
                  <a:pt x="96930" y="12990"/>
                  <a:pt x="96930" y="16073"/>
                </a:cubicBezTo>
                <a:cubicBezTo>
                  <a:pt x="96930" y="29064"/>
                  <a:pt x="96930" y="29064"/>
                  <a:pt x="96930" y="29064"/>
                </a:cubicBezTo>
                <a:cubicBezTo>
                  <a:pt x="105654" y="29064"/>
                  <a:pt x="105654" y="29064"/>
                  <a:pt x="105654" y="29064"/>
                </a:cubicBezTo>
                <a:cubicBezTo>
                  <a:pt x="105654" y="16073"/>
                  <a:pt x="105654" y="16073"/>
                  <a:pt x="105654" y="16073"/>
                </a:cubicBezTo>
                <a:cubicBezTo>
                  <a:pt x="105654" y="6385"/>
                  <a:pt x="99838" y="0"/>
                  <a:pt x="91308" y="0"/>
                </a:cubicBezTo>
                <a:cubicBezTo>
                  <a:pt x="14151" y="0"/>
                  <a:pt x="14151" y="0"/>
                  <a:pt x="14151" y="0"/>
                </a:cubicBezTo>
                <a:cubicBezTo>
                  <a:pt x="5621" y="0"/>
                  <a:pt x="0" y="6385"/>
                  <a:pt x="0" y="16073"/>
                </a:cubicBezTo>
                <a:cubicBezTo>
                  <a:pt x="0" y="103706"/>
                  <a:pt x="0" y="103706"/>
                  <a:pt x="0" y="103706"/>
                </a:cubicBezTo>
                <a:cubicBezTo>
                  <a:pt x="0" y="113394"/>
                  <a:pt x="5621" y="119779"/>
                  <a:pt x="14151" y="119779"/>
                </a:cubicBezTo>
                <a:cubicBezTo>
                  <a:pt x="91308" y="119779"/>
                  <a:pt x="91308" y="119779"/>
                  <a:pt x="91308" y="119779"/>
                </a:cubicBezTo>
                <a:cubicBezTo>
                  <a:pt x="99838" y="119779"/>
                  <a:pt x="105654" y="113394"/>
                  <a:pt x="105654" y="103706"/>
                </a:cubicBezTo>
                <a:cubicBezTo>
                  <a:pt x="105654" y="90715"/>
                  <a:pt x="105654" y="90715"/>
                  <a:pt x="105654" y="90715"/>
                </a:cubicBezTo>
                <a:cubicBezTo>
                  <a:pt x="96930" y="90715"/>
                  <a:pt x="96930" y="90715"/>
                  <a:pt x="96930" y="90715"/>
                </a:cubicBezTo>
                <a:lnTo>
                  <a:pt x="96930" y="103706"/>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8" name="Shape 4638"/>
          <p:cNvSpPr/>
          <p:nvPr/>
        </p:nvSpPr>
        <p:spPr>
          <a:xfrm>
            <a:off x="8451720" y="2170080"/>
            <a:ext cx="262080" cy="263520"/>
          </a:xfrm>
          <a:custGeom>
            <a:avLst/>
            <a:gdLst>
              <a:gd name="textAreaLeft" fmla="*/ 0 w 262080"/>
              <a:gd name="textAreaRight" fmla="*/ 262440 w 262080"/>
              <a:gd name="textAreaTop" fmla="*/ 0 h 263520"/>
              <a:gd name="textAreaBottom" fmla="*/ 263880 h 263520"/>
            </a:gdLst>
            <a:ahLst/>
            <a:rect l="textAreaLeft" t="textAreaTop" r="textAreaRight" b="textAreaBottom"/>
            <a:pathLst>
              <a:path w="120000" h="120000">
                <a:moveTo>
                  <a:pt x="116697" y="0"/>
                </a:moveTo>
                <a:lnTo>
                  <a:pt x="116697" y="0"/>
                </a:lnTo>
                <a:cubicBezTo>
                  <a:pt x="84110" y="0"/>
                  <a:pt x="84110" y="0"/>
                  <a:pt x="84110" y="0"/>
                </a:cubicBezTo>
                <a:cubicBezTo>
                  <a:pt x="84110" y="0"/>
                  <a:pt x="81027" y="0"/>
                  <a:pt x="81027" y="3082"/>
                </a:cubicBezTo>
                <a:cubicBezTo>
                  <a:pt x="81027" y="6385"/>
                  <a:pt x="84110" y="6385"/>
                  <a:pt x="84110" y="6385"/>
                </a:cubicBezTo>
                <a:cubicBezTo>
                  <a:pt x="103706" y="6385"/>
                  <a:pt x="103706" y="6385"/>
                  <a:pt x="103706" y="6385"/>
                </a:cubicBezTo>
                <a:cubicBezTo>
                  <a:pt x="38972" y="68036"/>
                  <a:pt x="38972" y="68036"/>
                  <a:pt x="38972" y="68036"/>
                </a:cubicBezTo>
                <a:cubicBezTo>
                  <a:pt x="38972" y="71339"/>
                  <a:pt x="38972" y="74642"/>
                  <a:pt x="38972" y="74642"/>
                </a:cubicBezTo>
                <a:cubicBezTo>
                  <a:pt x="42055" y="77724"/>
                  <a:pt x="42055" y="77724"/>
                  <a:pt x="45357" y="74642"/>
                </a:cubicBezTo>
                <a:cubicBezTo>
                  <a:pt x="110091" y="12990"/>
                  <a:pt x="110091" y="12990"/>
                  <a:pt x="110091" y="12990"/>
                </a:cubicBezTo>
                <a:cubicBezTo>
                  <a:pt x="110091" y="32366"/>
                  <a:pt x="110091" y="32366"/>
                  <a:pt x="110091" y="32366"/>
                </a:cubicBezTo>
                <a:cubicBezTo>
                  <a:pt x="110091" y="35669"/>
                  <a:pt x="113394" y="38972"/>
                  <a:pt x="116697" y="38972"/>
                </a:cubicBezTo>
                <a:cubicBezTo>
                  <a:pt x="116697" y="38972"/>
                  <a:pt x="119779" y="35669"/>
                  <a:pt x="119779" y="32366"/>
                </a:cubicBezTo>
                <a:cubicBezTo>
                  <a:pt x="119779" y="3082"/>
                  <a:pt x="119779" y="3082"/>
                  <a:pt x="119779" y="3082"/>
                </a:cubicBezTo>
                <a:cubicBezTo>
                  <a:pt x="119779" y="0"/>
                  <a:pt x="116697" y="0"/>
                  <a:pt x="116697" y="0"/>
                </a:cubicBezTo>
                <a:close/>
                <a:moveTo>
                  <a:pt x="110091" y="103706"/>
                </a:moveTo>
                <a:lnTo>
                  <a:pt x="110091" y="103706"/>
                </a:lnTo>
                <a:cubicBezTo>
                  <a:pt x="110091" y="107009"/>
                  <a:pt x="107009" y="110091"/>
                  <a:pt x="103706" y="110091"/>
                </a:cubicBezTo>
                <a:cubicBezTo>
                  <a:pt x="16073" y="110091"/>
                  <a:pt x="16073" y="110091"/>
                  <a:pt x="16073" y="110091"/>
                </a:cubicBezTo>
                <a:cubicBezTo>
                  <a:pt x="9688" y="110091"/>
                  <a:pt x="6385" y="107009"/>
                  <a:pt x="6385" y="103706"/>
                </a:cubicBezTo>
                <a:cubicBezTo>
                  <a:pt x="6385" y="16073"/>
                  <a:pt x="6385" y="16073"/>
                  <a:pt x="6385" y="16073"/>
                </a:cubicBezTo>
                <a:cubicBezTo>
                  <a:pt x="6385" y="12990"/>
                  <a:pt x="12990" y="6385"/>
                  <a:pt x="16073" y="6385"/>
                </a:cubicBezTo>
                <a:cubicBezTo>
                  <a:pt x="64733" y="6385"/>
                  <a:pt x="64733" y="6385"/>
                  <a:pt x="64733" y="6385"/>
                </a:cubicBezTo>
                <a:cubicBezTo>
                  <a:pt x="64733" y="0"/>
                  <a:pt x="64733" y="0"/>
                  <a:pt x="64733" y="0"/>
                </a:cubicBezTo>
                <a:cubicBezTo>
                  <a:pt x="16073" y="0"/>
                  <a:pt x="16073" y="0"/>
                  <a:pt x="16073" y="0"/>
                </a:cubicBezTo>
                <a:cubicBezTo>
                  <a:pt x="6385" y="0"/>
                  <a:pt x="0" y="9688"/>
                  <a:pt x="0" y="19376"/>
                </a:cubicBezTo>
                <a:cubicBezTo>
                  <a:pt x="0" y="103706"/>
                  <a:pt x="0" y="103706"/>
                  <a:pt x="0" y="103706"/>
                </a:cubicBezTo>
                <a:cubicBezTo>
                  <a:pt x="0" y="113394"/>
                  <a:pt x="6385" y="119779"/>
                  <a:pt x="16073" y="119779"/>
                </a:cubicBezTo>
                <a:cubicBezTo>
                  <a:pt x="100403" y="119779"/>
                  <a:pt x="100403" y="119779"/>
                  <a:pt x="100403" y="119779"/>
                </a:cubicBezTo>
                <a:cubicBezTo>
                  <a:pt x="110091" y="119779"/>
                  <a:pt x="119779" y="113394"/>
                  <a:pt x="119779" y="103706"/>
                </a:cubicBezTo>
                <a:cubicBezTo>
                  <a:pt x="119779" y="55045"/>
                  <a:pt x="119779" y="55045"/>
                  <a:pt x="119779" y="55045"/>
                </a:cubicBezTo>
                <a:cubicBezTo>
                  <a:pt x="110091" y="55045"/>
                  <a:pt x="110091" y="55045"/>
                  <a:pt x="110091" y="55045"/>
                </a:cubicBezTo>
                <a:lnTo>
                  <a:pt x="110091" y="103706"/>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9" name="Shape 4640"/>
          <p:cNvSpPr/>
          <p:nvPr/>
        </p:nvSpPr>
        <p:spPr>
          <a:xfrm>
            <a:off x="7446960" y="2149560"/>
            <a:ext cx="306360" cy="304560"/>
          </a:xfrm>
          <a:custGeom>
            <a:avLst/>
            <a:gdLst>
              <a:gd name="textAreaLeft" fmla="*/ 0 w 306360"/>
              <a:gd name="textAreaRight" fmla="*/ 306720 w 306360"/>
              <a:gd name="textAreaTop" fmla="*/ 0 h 304560"/>
              <a:gd name="textAreaBottom" fmla="*/ 304920 h 304560"/>
            </a:gdLst>
            <a:ahLst/>
            <a:rect l="textAreaLeft" t="textAreaTop" r="textAreaRight" b="textAreaBottom"/>
            <a:pathLst>
              <a:path w="120000" h="120000">
                <a:moveTo>
                  <a:pt x="83659" y="102965"/>
                </a:moveTo>
                <a:lnTo>
                  <a:pt x="83659" y="102965"/>
                </a:lnTo>
                <a:cubicBezTo>
                  <a:pt x="83659" y="108643"/>
                  <a:pt x="77981" y="111293"/>
                  <a:pt x="75331" y="111293"/>
                </a:cubicBezTo>
                <a:cubicBezTo>
                  <a:pt x="16845" y="111293"/>
                  <a:pt x="16845" y="111293"/>
                  <a:pt x="16845" y="111293"/>
                </a:cubicBezTo>
                <a:cubicBezTo>
                  <a:pt x="11167" y="111293"/>
                  <a:pt x="8328" y="108643"/>
                  <a:pt x="8328" y="102965"/>
                </a:cubicBezTo>
                <a:cubicBezTo>
                  <a:pt x="8328" y="44479"/>
                  <a:pt x="8328" y="44479"/>
                  <a:pt x="8328" y="44479"/>
                </a:cubicBezTo>
                <a:cubicBezTo>
                  <a:pt x="8328" y="41829"/>
                  <a:pt x="11167" y="36151"/>
                  <a:pt x="16845" y="36151"/>
                </a:cubicBezTo>
                <a:cubicBezTo>
                  <a:pt x="22334" y="36151"/>
                  <a:pt x="22334" y="36151"/>
                  <a:pt x="22334" y="36151"/>
                </a:cubicBezTo>
                <a:cubicBezTo>
                  <a:pt x="22334" y="30662"/>
                  <a:pt x="22334" y="30662"/>
                  <a:pt x="22334" y="30662"/>
                </a:cubicBezTo>
                <a:cubicBezTo>
                  <a:pt x="16845" y="30662"/>
                  <a:pt x="16845" y="30662"/>
                  <a:pt x="16845" y="30662"/>
                </a:cubicBezTo>
                <a:cubicBezTo>
                  <a:pt x="8328" y="30662"/>
                  <a:pt x="0" y="36151"/>
                  <a:pt x="0" y="44479"/>
                </a:cubicBezTo>
                <a:cubicBezTo>
                  <a:pt x="0" y="102965"/>
                  <a:pt x="0" y="102965"/>
                  <a:pt x="0" y="102965"/>
                </a:cubicBezTo>
                <a:cubicBezTo>
                  <a:pt x="0" y="111293"/>
                  <a:pt x="8328" y="119810"/>
                  <a:pt x="16845" y="119810"/>
                </a:cubicBezTo>
                <a:cubicBezTo>
                  <a:pt x="75331" y="119810"/>
                  <a:pt x="75331" y="119810"/>
                  <a:pt x="75331" y="119810"/>
                </a:cubicBezTo>
                <a:cubicBezTo>
                  <a:pt x="83659" y="119810"/>
                  <a:pt x="89148" y="111293"/>
                  <a:pt x="89148" y="102965"/>
                </a:cubicBezTo>
                <a:cubicBezTo>
                  <a:pt x="89148" y="97476"/>
                  <a:pt x="89148" y="97476"/>
                  <a:pt x="89148" y="97476"/>
                </a:cubicBezTo>
                <a:cubicBezTo>
                  <a:pt x="83659" y="97476"/>
                  <a:pt x="83659" y="97476"/>
                  <a:pt x="83659" y="97476"/>
                </a:cubicBezTo>
                <a:lnTo>
                  <a:pt x="83659" y="102965"/>
                </a:lnTo>
                <a:close/>
                <a:moveTo>
                  <a:pt x="105993" y="0"/>
                </a:moveTo>
                <a:lnTo>
                  <a:pt x="105993" y="0"/>
                </a:lnTo>
                <a:cubicBezTo>
                  <a:pt x="44668" y="0"/>
                  <a:pt x="44668" y="0"/>
                  <a:pt x="44668" y="0"/>
                </a:cubicBezTo>
                <a:cubicBezTo>
                  <a:pt x="36340" y="0"/>
                  <a:pt x="30662" y="5488"/>
                  <a:pt x="30662" y="13817"/>
                </a:cubicBezTo>
                <a:cubicBezTo>
                  <a:pt x="30662" y="75141"/>
                  <a:pt x="30662" y="75141"/>
                  <a:pt x="30662" y="75141"/>
                </a:cubicBezTo>
                <a:cubicBezTo>
                  <a:pt x="30662" y="83470"/>
                  <a:pt x="36340" y="89148"/>
                  <a:pt x="44668" y="89148"/>
                </a:cubicBezTo>
                <a:cubicBezTo>
                  <a:pt x="105993" y="89148"/>
                  <a:pt x="105993" y="89148"/>
                  <a:pt x="105993" y="89148"/>
                </a:cubicBezTo>
                <a:cubicBezTo>
                  <a:pt x="114321" y="89148"/>
                  <a:pt x="119810" y="83470"/>
                  <a:pt x="119810" y="75141"/>
                </a:cubicBezTo>
                <a:cubicBezTo>
                  <a:pt x="119810" y="13817"/>
                  <a:pt x="119810" y="13817"/>
                  <a:pt x="119810" y="13817"/>
                </a:cubicBezTo>
                <a:cubicBezTo>
                  <a:pt x="119810" y="5488"/>
                  <a:pt x="114321" y="0"/>
                  <a:pt x="105993" y="0"/>
                </a:cubicBezTo>
                <a:close/>
                <a:moveTo>
                  <a:pt x="111482" y="75141"/>
                </a:moveTo>
                <a:lnTo>
                  <a:pt x="111482" y="75141"/>
                </a:lnTo>
                <a:cubicBezTo>
                  <a:pt x="111482" y="77981"/>
                  <a:pt x="108643" y="80630"/>
                  <a:pt x="105993" y="80630"/>
                </a:cubicBezTo>
                <a:cubicBezTo>
                  <a:pt x="44668" y="80630"/>
                  <a:pt x="44668" y="80630"/>
                  <a:pt x="44668" y="80630"/>
                </a:cubicBezTo>
                <a:cubicBezTo>
                  <a:pt x="41829" y="80630"/>
                  <a:pt x="39179" y="77981"/>
                  <a:pt x="39179" y="75141"/>
                </a:cubicBezTo>
                <a:cubicBezTo>
                  <a:pt x="39179" y="13817"/>
                  <a:pt x="39179" y="13817"/>
                  <a:pt x="39179" y="13817"/>
                </a:cubicBezTo>
                <a:cubicBezTo>
                  <a:pt x="39179" y="10977"/>
                  <a:pt x="41829" y="8328"/>
                  <a:pt x="44668" y="8328"/>
                </a:cubicBezTo>
                <a:cubicBezTo>
                  <a:pt x="105993" y="8328"/>
                  <a:pt x="105993" y="8328"/>
                  <a:pt x="105993" y="8328"/>
                </a:cubicBezTo>
                <a:cubicBezTo>
                  <a:pt x="108643" y="8328"/>
                  <a:pt x="111482" y="10977"/>
                  <a:pt x="111482" y="13817"/>
                </a:cubicBezTo>
                <a:lnTo>
                  <a:pt x="111482" y="75141"/>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0" name="Shape 4642"/>
          <p:cNvSpPr/>
          <p:nvPr/>
        </p:nvSpPr>
        <p:spPr>
          <a:xfrm>
            <a:off x="6485040" y="2170080"/>
            <a:ext cx="269640" cy="263520"/>
          </a:xfrm>
          <a:custGeom>
            <a:avLst/>
            <a:gdLst>
              <a:gd name="textAreaLeft" fmla="*/ 0 w 269640"/>
              <a:gd name="textAreaRight" fmla="*/ 270000 w 269640"/>
              <a:gd name="textAreaTop" fmla="*/ 0 h 263520"/>
              <a:gd name="textAreaBottom" fmla="*/ 263880 h 263520"/>
            </a:gdLst>
            <a:ahLst/>
            <a:rect l="textAreaLeft" t="textAreaTop" r="textAreaRight" b="textAreaBottom"/>
            <a:pathLst>
              <a:path w="120000" h="120000">
                <a:moveTo>
                  <a:pt x="34652" y="68036"/>
                </a:moveTo>
                <a:lnTo>
                  <a:pt x="34652" y="68036"/>
                </a:lnTo>
                <a:cubicBezTo>
                  <a:pt x="19037" y="68036"/>
                  <a:pt x="19037" y="68036"/>
                  <a:pt x="19037" y="68036"/>
                </a:cubicBezTo>
                <a:cubicBezTo>
                  <a:pt x="9411" y="68036"/>
                  <a:pt x="0" y="74642"/>
                  <a:pt x="0" y="84110"/>
                </a:cubicBezTo>
                <a:cubicBezTo>
                  <a:pt x="0" y="103706"/>
                  <a:pt x="0" y="103706"/>
                  <a:pt x="0" y="103706"/>
                </a:cubicBezTo>
                <a:cubicBezTo>
                  <a:pt x="0" y="113394"/>
                  <a:pt x="9411" y="119779"/>
                  <a:pt x="19037" y="119779"/>
                </a:cubicBezTo>
                <a:cubicBezTo>
                  <a:pt x="34652" y="119779"/>
                  <a:pt x="34652" y="119779"/>
                  <a:pt x="34652" y="119779"/>
                </a:cubicBezTo>
                <a:cubicBezTo>
                  <a:pt x="44064" y="119779"/>
                  <a:pt x="50481" y="113394"/>
                  <a:pt x="50481" y="103706"/>
                </a:cubicBezTo>
                <a:cubicBezTo>
                  <a:pt x="50481" y="84110"/>
                  <a:pt x="50481" y="84110"/>
                  <a:pt x="50481" y="84110"/>
                </a:cubicBezTo>
                <a:cubicBezTo>
                  <a:pt x="50481" y="74642"/>
                  <a:pt x="44064" y="68036"/>
                  <a:pt x="34652" y="68036"/>
                </a:cubicBezTo>
                <a:close/>
                <a:moveTo>
                  <a:pt x="44064" y="103706"/>
                </a:moveTo>
                <a:lnTo>
                  <a:pt x="44064" y="103706"/>
                </a:lnTo>
                <a:cubicBezTo>
                  <a:pt x="44064" y="107009"/>
                  <a:pt x="37860" y="110091"/>
                  <a:pt x="34652" y="110091"/>
                </a:cubicBezTo>
                <a:cubicBezTo>
                  <a:pt x="19037" y="110091"/>
                  <a:pt x="19037" y="110091"/>
                  <a:pt x="19037" y="110091"/>
                </a:cubicBezTo>
                <a:cubicBezTo>
                  <a:pt x="12620" y="110091"/>
                  <a:pt x="9411" y="107009"/>
                  <a:pt x="9411" y="103706"/>
                </a:cubicBezTo>
                <a:cubicBezTo>
                  <a:pt x="9411" y="84110"/>
                  <a:pt x="9411" y="84110"/>
                  <a:pt x="9411" y="84110"/>
                </a:cubicBezTo>
                <a:cubicBezTo>
                  <a:pt x="9411" y="81027"/>
                  <a:pt x="12620" y="77724"/>
                  <a:pt x="19037" y="77724"/>
                </a:cubicBezTo>
                <a:cubicBezTo>
                  <a:pt x="34652" y="77724"/>
                  <a:pt x="34652" y="77724"/>
                  <a:pt x="34652" y="77724"/>
                </a:cubicBezTo>
                <a:cubicBezTo>
                  <a:pt x="37860" y="77724"/>
                  <a:pt x="44064" y="81027"/>
                  <a:pt x="44064" y="84110"/>
                </a:cubicBezTo>
                <a:lnTo>
                  <a:pt x="44064" y="103706"/>
                </a:lnTo>
                <a:close/>
                <a:moveTo>
                  <a:pt x="34652" y="0"/>
                </a:moveTo>
                <a:lnTo>
                  <a:pt x="34652" y="0"/>
                </a:lnTo>
                <a:cubicBezTo>
                  <a:pt x="19037" y="0"/>
                  <a:pt x="19037" y="0"/>
                  <a:pt x="19037" y="0"/>
                </a:cubicBezTo>
                <a:cubicBezTo>
                  <a:pt x="9411" y="0"/>
                  <a:pt x="0" y="6385"/>
                  <a:pt x="0" y="16073"/>
                </a:cubicBezTo>
                <a:cubicBezTo>
                  <a:pt x="0" y="32366"/>
                  <a:pt x="0" y="32366"/>
                  <a:pt x="0" y="32366"/>
                </a:cubicBezTo>
                <a:cubicBezTo>
                  <a:pt x="0" y="42055"/>
                  <a:pt x="9411" y="51743"/>
                  <a:pt x="19037" y="51743"/>
                </a:cubicBezTo>
                <a:cubicBezTo>
                  <a:pt x="34652" y="51743"/>
                  <a:pt x="34652" y="51743"/>
                  <a:pt x="34652" y="51743"/>
                </a:cubicBezTo>
                <a:cubicBezTo>
                  <a:pt x="44064" y="51743"/>
                  <a:pt x="50481" y="42055"/>
                  <a:pt x="50481" y="32366"/>
                </a:cubicBezTo>
                <a:cubicBezTo>
                  <a:pt x="50481" y="16073"/>
                  <a:pt x="50481" y="16073"/>
                  <a:pt x="50481" y="16073"/>
                </a:cubicBezTo>
                <a:cubicBezTo>
                  <a:pt x="50481" y="6385"/>
                  <a:pt x="44064" y="0"/>
                  <a:pt x="34652" y="0"/>
                </a:cubicBezTo>
                <a:close/>
                <a:moveTo>
                  <a:pt x="44064" y="32366"/>
                </a:moveTo>
                <a:lnTo>
                  <a:pt x="44064" y="32366"/>
                </a:lnTo>
                <a:cubicBezTo>
                  <a:pt x="44064" y="38972"/>
                  <a:pt x="37860" y="42055"/>
                  <a:pt x="34652" y="42055"/>
                </a:cubicBezTo>
                <a:cubicBezTo>
                  <a:pt x="19037" y="42055"/>
                  <a:pt x="19037" y="42055"/>
                  <a:pt x="19037" y="42055"/>
                </a:cubicBezTo>
                <a:cubicBezTo>
                  <a:pt x="12620" y="42055"/>
                  <a:pt x="9411" y="38972"/>
                  <a:pt x="9411" y="32366"/>
                </a:cubicBezTo>
                <a:cubicBezTo>
                  <a:pt x="9411" y="16073"/>
                  <a:pt x="9411" y="16073"/>
                  <a:pt x="9411" y="16073"/>
                </a:cubicBezTo>
                <a:cubicBezTo>
                  <a:pt x="9411" y="12990"/>
                  <a:pt x="12620" y="6385"/>
                  <a:pt x="19037" y="6385"/>
                </a:cubicBezTo>
                <a:cubicBezTo>
                  <a:pt x="34652" y="6385"/>
                  <a:pt x="34652" y="6385"/>
                  <a:pt x="34652" y="6385"/>
                </a:cubicBezTo>
                <a:cubicBezTo>
                  <a:pt x="37860" y="6385"/>
                  <a:pt x="44064" y="12990"/>
                  <a:pt x="44064" y="16073"/>
                </a:cubicBezTo>
                <a:lnTo>
                  <a:pt x="44064" y="32366"/>
                </a:lnTo>
                <a:close/>
                <a:moveTo>
                  <a:pt x="100748" y="68036"/>
                </a:moveTo>
                <a:lnTo>
                  <a:pt x="100748" y="68036"/>
                </a:lnTo>
                <a:cubicBezTo>
                  <a:pt x="85133" y="68036"/>
                  <a:pt x="85133" y="68036"/>
                  <a:pt x="85133" y="68036"/>
                </a:cubicBezTo>
                <a:cubicBezTo>
                  <a:pt x="75508" y="68036"/>
                  <a:pt x="69304" y="74642"/>
                  <a:pt x="69304" y="84110"/>
                </a:cubicBezTo>
                <a:cubicBezTo>
                  <a:pt x="69304" y="103706"/>
                  <a:pt x="69304" y="103706"/>
                  <a:pt x="69304" y="103706"/>
                </a:cubicBezTo>
                <a:cubicBezTo>
                  <a:pt x="69304" y="113394"/>
                  <a:pt x="75508" y="119779"/>
                  <a:pt x="85133" y="119779"/>
                </a:cubicBezTo>
                <a:cubicBezTo>
                  <a:pt x="100748" y="119779"/>
                  <a:pt x="100748" y="119779"/>
                  <a:pt x="100748" y="119779"/>
                </a:cubicBezTo>
                <a:cubicBezTo>
                  <a:pt x="110160" y="119779"/>
                  <a:pt x="119786" y="113394"/>
                  <a:pt x="119786" y="103706"/>
                </a:cubicBezTo>
                <a:cubicBezTo>
                  <a:pt x="119786" y="84110"/>
                  <a:pt x="119786" y="84110"/>
                  <a:pt x="119786" y="84110"/>
                </a:cubicBezTo>
                <a:cubicBezTo>
                  <a:pt x="119786" y="74642"/>
                  <a:pt x="110160" y="68036"/>
                  <a:pt x="100748" y="68036"/>
                </a:cubicBezTo>
                <a:close/>
                <a:moveTo>
                  <a:pt x="110160" y="103706"/>
                </a:moveTo>
                <a:lnTo>
                  <a:pt x="110160" y="103706"/>
                </a:lnTo>
                <a:cubicBezTo>
                  <a:pt x="110160" y="107009"/>
                  <a:pt x="107165" y="110091"/>
                  <a:pt x="100748" y="110091"/>
                </a:cubicBezTo>
                <a:cubicBezTo>
                  <a:pt x="85133" y="110091"/>
                  <a:pt x="85133" y="110091"/>
                  <a:pt x="85133" y="110091"/>
                </a:cubicBezTo>
                <a:cubicBezTo>
                  <a:pt x="81925" y="110091"/>
                  <a:pt x="75508" y="107009"/>
                  <a:pt x="75508" y="103706"/>
                </a:cubicBezTo>
                <a:cubicBezTo>
                  <a:pt x="75508" y="84110"/>
                  <a:pt x="75508" y="84110"/>
                  <a:pt x="75508" y="84110"/>
                </a:cubicBezTo>
                <a:cubicBezTo>
                  <a:pt x="75508" y="81027"/>
                  <a:pt x="81925" y="77724"/>
                  <a:pt x="85133" y="77724"/>
                </a:cubicBezTo>
                <a:cubicBezTo>
                  <a:pt x="100748" y="77724"/>
                  <a:pt x="100748" y="77724"/>
                  <a:pt x="100748" y="77724"/>
                </a:cubicBezTo>
                <a:cubicBezTo>
                  <a:pt x="107165" y="77724"/>
                  <a:pt x="110160" y="81027"/>
                  <a:pt x="110160" y="84110"/>
                </a:cubicBezTo>
                <a:lnTo>
                  <a:pt x="110160" y="103706"/>
                </a:lnTo>
                <a:close/>
                <a:moveTo>
                  <a:pt x="100748" y="0"/>
                </a:moveTo>
                <a:lnTo>
                  <a:pt x="100748" y="0"/>
                </a:lnTo>
                <a:cubicBezTo>
                  <a:pt x="85133" y="0"/>
                  <a:pt x="85133" y="0"/>
                  <a:pt x="85133" y="0"/>
                </a:cubicBezTo>
                <a:cubicBezTo>
                  <a:pt x="75508" y="0"/>
                  <a:pt x="69304" y="6385"/>
                  <a:pt x="69304" y="16073"/>
                </a:cubicBezTo>
                <a:cubicBezTo>
                  <a:pt x="69304" y="32366"/>
                  <a:pt x="69304" y="32366"/>
                  <a:pt x="69304" y="32366"/>
                </a:cubicBezTo>
                <a:cubicBezTo>
                  <a:pt x="69304" y="42055"/>
                  <a:pt x="75508" y="51743"/>
                  <a:pt x="85133" y="51743"/>
                </a:cubicBezTo>
                <a:cubicBezTo>
                  <a:pt x="100748" y="51743"/>
                  <a:pt x="100748" y="51743"/>
                  <a:pt x="100748" y="51743"/>
                </a:cubicBezTo>
                <a:cubicBezTo>
                  <a:pt x="110160" y="51743"/>
                  <a:pt x="119786" y="42055"/>
                  <a:pt x="119786" y="32366"/>
                </a:cubicBezTo>
                <a:cubicBezTo>
                  <a:pt x="119786" y="16073"/>
                  <a:pt x="119786" y="16073"/>
                  <a:pt x="119786" y="16073"/>
                </a:cubicBezTo>
                <a:cubicBezTo>
                  <a:pt x="119786" y="6385"/>
                  <a:pt x="110160" y="0"/>
                  <a:pt x="100748" y="0"/>
                </a:cubicBezTo>
                <a:close/>
                <a:moveTo>
                  <a:pt x="110160" y="32366"/>
                </a:moveTo>
                <a:lnTo>
                  <a:pt x="110160" y="32366"/>
                </a:lnTo>
                <a:cubicBezTo>
                  <a:pt x="110160" y="38972"/>
                  <a:pt x="107165" y="42055"/>
                  <a:pt x="100748" y="42055"/>
                </a:cubicBezTo>
                <a:cubicBezTo>
                  <a:pt x="85133" y="42055"/>
                  <a:pt x="85133" y="42055"/>
                  <a:pt x="85133" y="42055"/>
                </a:cubicBezTo>
                <a:cubicBezTo>
                  <a:pt x="81925" y="42055"/>
                  <a:pt x="75508" y="38972"/>
                  <a:pt x="75508" y="32366"/>
                </a:cubicBezTo>
                <a:cubicBezTo>
                  <a:pt x="75508" y="16073"/>
                  <a:pt x="75508" y="16073"/>
                  <a:pt x="75508" y="16073"/>
                </a:cubicBezTo>
                <a:cubicBezTo>
                  <a:pt x="75508" y="12990"/>
                  <a:pt x="81925" y="6385"/>
                  <a:pt x="85133" y="6385"/>
                </a:cubicBezTo>
                <a:cubicBezTo>
                  <a:pt x="100748" y="6385"/>
                  <a:pt x="100748" y="6385"/>
                  <a:pt x="100748" y="6385"/>
                </a:cubicBezTo>
                <a:cubicBezTo>
                  <a:pt x="107165" y="6385"/>
                  <a:pt x="110160" y="12990"/>
                  <a:pt x="110160" y="16073"/>
                </a:cubicBezTo>
                <a:lnTo>
                  <a:pt x="110160" y="32366"/>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1" name="Shape 4644"/>
          <p:cNvSpPr/>
          <p:nvPr/>
        </p:nvSpPr>
        <p:spPr>
          <a:xfrm>
            <a:off x="10391760" y="1660680"/>
            <a:ext cx="304920" cy="298440"/>
          </a:xfrm>
          <a:custGeom>
            <a:avLst/>
            <a:gdLst>
              <a:gd name="textAreaLeft" fmla="*/ 0 w 304920"/>
              <a:gd name="textAreaRight" fmla="*/ 305280 w 304920"/>
              <a:gd name="textAreaTop" fmla="*/ 0 h 298440"/>
              <a:gd name="textAreaBottom" fmla="*/ 298800 h 298440"/>
            </a:gdLst>
            <a:ahLst/>
            <a:rect l="textAreaLeft" t="textAreaTop" r="textAreaRight" b="textAreaBottom"/>
            <a:pathLst>
              <a:path w="120000" h="120000">
                <a:moveTo>
                  <a:pt x="0" y="14151"/>
                </a:moveTo>
                <a:lnTo>
                  <a:pt x="0" y="14151"/>
                </a:lnTo>
                <a:cubicBezTo>
                  <a:pt x="0" y="45557"/>
                  <a:pt x="0" y="45557"/>
                  <a:pt x="0" y="45557"/>
                </a:cubicBezTo>
                <a:cubicBezTo>
                  <a:pt x="8517" y="45557"/>
                  <a:pt x="8517" y="45557"/>
                  <a:pt x="8517" y="45557"/>
                </a:cubicBezTo>
                <a:cubicBezTo>
                  <a:pt x="8517" y="14151"/>
                  <a:pt x="8517" y="14151"/>
                  <a:pt x="8517" y="14151"/>
                </a:cubicBezTo>
                <a:cubicBezTo>
                  <a:pt x="8517" y="11437"/>
                  <a:pt x="11167" y="5621"/>
                  <a:pt x="16845" y="5621"/>
                </a:cubicBezTo>
                <a:cubicBezTo>
                  <a:pt x="44668" y="5621"/>
                  <a:pt x="44668" y="5621"/>
                  <a:pt x="44668" y="5621"/>
                </a:cubicBezTo>
                <a:cubicBezTo>
                  <a:pt x="44668" y="0"/>
                  <a:pt x="44668" y="0"/>
                  <a:pt x="44668" y="0"/>
                </a:cubicBezTo>
                <a:cubicBezTo>
                  <a:pt x="16845" y="0"/>
                  <a:pt x="16845" y="0"/>
                  <a:pt x="16845" y="0"/>
                </a:cubicBezTo>
                <a:cubicBezTo>
                  <a:pt x="8517" y="0"/>
                  <a:pt x="0" y="5621"/>
                  <a:pt x="0" y="14151"/>
                </a:cubicBezTo>
                <a:close/>
                <a:moveTo>
                  <a:pt x="8517" y="105654"/>
                </a:moveTo>
                <a:lnTo>
                  <a:pt x="8517" y="105654"/>
                </a:lnTo>
                <a:cubicBezTo>
                  <a:pt x="8517" y="74054"/>
                  <a:pt x="8517" y="74054"/>
                  <a:pt x="8517" y="74054"/>
                </a:cubicBezTo>
                <a:cubicBezTo>
                  <a:pt x="0" y="74054"/>
                  <a:pt x="0" y="74054"/>
                  <a:pt x="0" y="74054"/>
                </a:cubicBezTo>
                <a:cubicBezTo>
                  <a:pt x="0" y="105654"/>
                  <a:pt x="0" y="105654"/>
                  <a:pt x="0" y="105654"/>
                </a:cubicBezTo>
                <a:cubicBezTo>
                  <a:pt x="0" y="114184"/>
                  <a:pt x="8517" y="119806"/>
                  <a:pt x="16845" y="119806"/>
                </a:cubicBezTo>
                <a:cubicBezTo>
                  <a:pt x="44668" y="119806"/>
                  <a:pt x="44668" y="119806"/>
                  <a:pt x="44668" y="119806"/>
                </a:cubicBezTo>
                <a:cubicBezTo>
                  <a:pt x="44668" y="114184"/>
                  <a:pt x="44668" y="114184"/>
                  <a:pt x="44668" y="114184"/>
                </a:cubicBezTo>
                <a:cubicBezTo>
                  <a:pt x="16845" y="114184"/>
                  <a:pt x="16845" y="114184"/>
                  <a:pt x="16845" y="114184"/>
                </a:cubicBezTo>
                <a:cubicBezTo>
                  <a:pt x="11167" y="114184"/>
                  <a:pt x="8517" y="108368"/>
                  <a:pt x="8517" y="105654"/>
                </a:cubicBezTo>
                <a:close/>
                <a:moveTo>
                  <a:pt x="111482" y="105654"/>
                </a:moveTo>
                <a:lnTo>
                  <a:pt x="111482" y="105654"/>
                </a:lnTo>
                <a:cubicBezTo>
                  <a:pt x="111482" y="108368"/>
                  <a:pt x="108832" y="114184"/>
                  <a:pt x="105993" y="114184"/>
                </a:cubicBezTo>
                <a:cubicBezTo>
                  <a:pt x="75331" y="114184"/>
                  <a:pt x="75331" y="114184"/>
                  <a:pt x="75331" y="114184"/>
                </a:cubicBezTo>
                <a:cubicBezTo>
                  <a:pt x="75331" y="119806"/>
                  <a:pt x="75331" y="119806"/>
                  <a:pt x="75331" y="119806"/>
                </a:cubicBezTo>
                <a:cubicBezTo>
                  <a:pt x="105993" y="119806"/>
                  <a:pt x="105993" y="119806"/>
                  <a:pt x="105993" y="119806"/>
                </a:cubicBezTo>
                <a:cubicBezTo>
                  <a:pt x="114321" y="119806"/>
                  <a:pt x="119810" y="114184"/>
                  <a:pt x="119810" y="105654"/>
                </a:cubicBezTo>
                <a:cubicBezTo>
                  <a:pt x="119810" y="74054"/>
                  <a:pt x="119810" y="74054"/>
                  <a:pt x="119810" y="74054"/>
                </a:cubicBezTo>
                <a:cubicBezTo>
                  <a:pt x="111482" y="74054"/>
                  <a:pt x="111482" y="74054"/>
                  <a:pt x="111482" y="74054"/>
                </a:cubicBezTo>
                <a:lnTo>
                  <a:pt x="111482" y="105654"/>
                </a:lnTo>
                <a:close/>
                <a:moveTo>
                  <a:pt x="105993" y="0"/>
                </a:moveTo>
                <a:lnTo>
                  <a:pt x="105993" y="0"/>
                </a:lnTo>
                <a:cubicBezTo>
                  <a:pt x="75331" y="0"/>
                  <a:pt x="75331" y="0"/>
                  <a:pt x="75331" y="0"/>
                </a:cubicBezTo>
                <a:cubicBezTo>
                  <a:pt x="75331" y="5621"/>
                  <a:pt x="75331" y="5621"/>
                  <a:pt x="75331" y="5621"/>
                </a:cubicBezTo>
                <a:cubicBezTo>
                  <a:pt x="105993" y="5621"/>
                  <a:pt x="105993" y="5621"/>
                  <a:pt x="105993" y="5621"/>
                </a:cubicBezTo>
                <a:cubicBezTo>
                  <a:pt x="108832" y="5621"/>
                  <a:pt x="111482" y="11437"/>
                  <a:pt x="111482" y="14151"/>
                </a:cubicBezTo>
                <a:cubicBezTo>
                  <a:pt x="111482" y="45557"/>
                  <a:pt x="111482" y="45557"/>
                  <a:pt x="111482" y="45557"/>
                </a:cubicBezTo>
                <a:cubicBezTo>
                  <a:pt x="119810" y="45557"/>
                  <a:pt x="119810" y="45557"/>
                  <a:pt x="119810" y="45557"/>
                </a:cubicBezTo>
                <a:cubicBezTo>
                  <a:pt x="119810" y="14151"/>
                  <a:pt x="119810" y="14151"/>
                  <a:pt x="119810" y="14151"/>
                </a:cubicBezTo>
                <a:cubicBezTo>
                  <a:pt x="119810" y="5621"/>
                  <a:pt x="114321" y="0"/>
                  <a:pt x="105993" y="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2" name="Shape 4646"/>
          <p:cNvSpPr/>
          <p:nvPr/>
        </p:nvSpPr>
        <p:spPr>
          <a:xfrm>
            <a:off x="9421920" y="1652760"/>
            <a:ext cx="295200" cy="296640"/>
          </a:xfrm>
          <a:custGeom>
            <a:avLst/>
            <a:gdLst>
              <a:gd name="textAreaLeft" fmla="*/ 0 w 295200"/>
              <a:gd name="textAreaRight" fmla="*/ 295560 w 295200"/>
              <a:gd name="textAreaTop" fmla="*/ 0 h 296640"/>
              <a:gd name="textAreaBottom" fmla="*/ 297000 h 296640"/>
            </a:gdLst>
            <a:ahLst/>
            <a:rect l="textAreaLeft" t="textAreaTop" r="textAreaRight" b="textAreaBottom"/>
            <a:pathLst>
              <a:path w="120000" h="120000">
                <a:moveTo>
                  <a:pt x="94022" y="11437"/>
                </a:moveTo>
                <a:lnTo>
                  <a:pt x="94022" y="11437"/>
                </a:lnTo>
                <a:cubicBezTo>
                  <a:pt x="76962" y="0"/>
                  <a:pt x="54087" y="5815"/>
                  <a:pt x="42843" y="22875"/>
                </a:cubicBezTo>
                <a:cubicBezTo>
                  <a:pt x="28497" y="48465"/>
                  <a:pt x="28497" y="48465"/>
                  <a:pt x="28497" y="48465"/>
                </a:cubicBezTo>
                <a:cubicBezTo>
                  <a:pt x="0" y="68626"/>
                  <a:pt x="0" y="68626"/>
                  <a:pt x="0" y="68626"/>
                </a:cubicBezTo>
                <a:cubicBezTo>
                  <a:pt x="28497" y="85686"/>
                  <a:pt x="28497" y="85686"/>
                  <a:pt x="28497" y="85686"/>
                </a:cubicBezTo>
                <a:cubicBezTo>
                  <a:pt x="25589" y="94216"/>
                  <a:pt x="28497" y="105654"/>
                  <a:pt x="37027" y="111276"/>
                </a:cubicBezTo>
                <a:cubicBezTo>
                  <a:pt x="45557" y="114184"/>
                  <a:pt x="56995" y="111276"/>
                  <a:pt x="62810" y="102746"/>
                </a:cubicBezTo>
                <a:cubicBezTo>
                  <a:pt x="91308" y="119806"/>
                  <a:pt x="91308" y="119806"/>
                  <a:pt x="91308" y="119806"/>
                </a:cubicBezTo>
                <a:cubicBezTo>
                  <a:pt x="94022" y="85686"/>
                  <a:pt x="94022" y="85686"/>
                  <a:pt x="94022" y="85686"/>
                </a:cubicBezTo>
                <a:cubicBezTo>
                  <a:pt x="108368" y="59903"/>
                  <a:pt x="108368" y="59903"/>
                  <a:pt x="108368" y="59903"/>
                </a:cubicBezTo>
                <a:cubicBezTo>
                  <a:pt x="119806" y="42843"/>
                  <a:pt x="113990" y="19967"/>
                  <a:pt x="94022" y="11437"/>
                </a:cubicBezTo>
                <a:close/>
                <a:moveTo>
                  <a:pt x="39935" y="102746"/>
                </a:moveTo>
                <a:lnTo>
                  <a:pt x="39935" y="102746"/>
                </a:lnTo>
                <a:cubicBezTo>
                  <a:pt x="34119" y="99838"/>
                  <a:pt x="34119" y="94216"/>
                  <a:pt x="37027" y="88400"/>
                </a:cubicBezTo>
                <a:cubicBezTo>
                  <a:pt x="56995" y="99838"/>
                  <a:pt x="56995" y="99838"/>
                  <a:pt x="56995" y="99838"/>
                </a:cubicBezTo>
                <a:cubicBezTo>
                  <a:pt x="51373" y="105654"/>
                  <a:pt x="45557" y="105654"/>
                  <a:pt x="39935" y="102746"/>
                </a:cubicBezTo>
                <a:close/>
                <a:moveTo>
                  <a:pt x="102746" y="57189"/>
                </a:moveTo>
                <a:lnTo>
                  <a:pt x="102746" y="57189"/>
                </a:lnTo>
                <a:cubicBezTo>
                  <a:pt x="88400" y="82778"/>
                  <a:pt x="88400" y="82778"/>
                  <a:pt x="88400" y="82778"/>
                </a:cubicBezTo>
                <a:cubicBezTo>
                  <a:pt x="85492" y="108562"/>
                  <a:pt x="85492" y="108562"/>
                  <a:pt x="85492" y="108562"/>
                </a:cubicBezTo>
                <a:cubicBezTo>
                  <a:pt x="14151" y="68626"/>
                  <a:pt x="14151" y="68626"/>
                  <a:pt x="14151" y="68626"/>
                </a:cubicBezTo>
                <a:cubicBezTo>
                  <a:pt x="34119" y="54281"/>
                  <a:pt x="34119" y="54281"/>
                  <a:pt x="34119" y="54281"/>
                </a:cubicBezTo>
                <a:cubicBezTo>
                  <a:pt x="51373" y="28497"/>
                  <a:pt x="51373" y="28497"/>
                  <a:pt x="51373" y="28497"/>
                </a:cubicBezTo>
                <a:cubicBezTo>
                  <a:pt x="56995" y="14345"/>
                  <a:pt x="76962" y="8529"/>
                  <a:pt x="91308" y="17059"/>
                </a:cubicBezTo>
                <a:cubicBezTo>
                  <a:pt x="105460" y="25783"/>
                  <a:pt x="111276" y="42843"/>
                  <a:pt x="102746" y="5718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3" name="Shape 4648"/>
          <p:cNvSpPr/>
          <p:nvPr/>
        </p:nvSpPr>
        <p:spPr>
          <a:xfrm>
            <a:off x="8429760" y="1660680"/>
            <a:ext cx="304560" cy="298440"/>
          </a:xfrm>
          <a:custGeom>
            <a:avLst/>
            <a:gdLst>
              <a:gd name="textAreaLeft" fmla="*/ 0 w 304560"/>
              <a:gd name="textAreaRight" fmla="*/ 304920 w 304560"/>
              <a:gd name="textAreaTop" fmla="*/ 0 h 298440"/>
              <a:gd name="textAreaBottom" fmla="*/ 298800 h 298440"/>
            </a:gdLst>
            <a:ahLst/>
            <a:rect l="textAreaLeft" t="textAreaTop" r="textAreaRight" b="textAreaBottom"/>
            <a:pathLst>
              <a:path w="120000" h="120000">
                <a:moveTo>
                  <a:pt x="114132" y="96930"/>
                </a:moveTo>
                <a:lnTo>
                  <a:pt x="114132" y="96930"/>
                </a:lnTo>
                <a:cubicBezTo>
                  <a:pt x="102965" y="96930"/>
                  <a:pt x="102965" y="96930"/>
                  <a:pt x="102965" y="96930"/>
                </a:cubicBezTo>
                <a:cubicBezTo>
                  <a:pt x="102965" y="34313"/>
                  <a:pt x="102965" y="34313"/>
                  <a:pt x="102965" y="34313"/>
                </a:cubicBezTo>
                <a:cubicBezTo>
                  <a:pt x="97476" y="39935"/>
                  <a:pt x="97476" y="39935"/>
                  <a:pt x="97476" y="39935"/>
                </a:cubicBezTo>
                <a:cubicBezTo>
                  <a:pt x="97476" y="96930"/>
                  <a:pt x="97476" y="96930"/>
                  <a:pt x="97476" y="96930"/>
                </a:cubicBezTo>
                <a:cubicBezTo>
                  <a:pt x="27823" y="96930"/>
                  <a:pt x="27823" y="96930"/>
                  <a:pt x="27823" y="96930"/>
                </a:cubicBezTo>
                <a:cubicBezTo>
                  <a:pt x="108643" y="11437"/>
                  <a:pt x="108643" y="11437"/>
                  <a:pt x="108643" y="11437"/>
                </a:cubicBezTo>
                <a:cubicBezTo>
                  <a:pt x="102965" y="5621"/>
                  <a:pt x="102965" y="5621"/>
                  <a:pt x="102965" y="5621"/>
                </a:cubicBezTo>
                <a:cubicBezTo>
                  <a:pt x="22145" y="91308"/>
                  <a:pt x="22145" y="91308"/>
                  <a:pt x="22145" y="91308"/>
                </a:cubicBezTo>
                <a:cubicBezTo>
                  <a:pt x="22145" y="22875"/>
                  <a:pt x="22145" y="22875"/>
                  <a:pt x="22145" y="22875"/>
                </a:cubicBezTo>
                <a:cubicBezTo>
                  <a:pt x="75141" y="22875"/>
                  <a:pt x="75141" y="22875"/>
                  <a:pt x="75141" y="22875"/>
                </a:cubicBezTo>
                <a:cubicBezTo>
                  <a:pt x="80630" y="14151"/>
                  <a:pt x="80630" y="14151"/>
                  <a:pt x="80630" y="14151"/>
                </a:cubicBezTo>
                <a:cubicBezTo>
                  <a:pt x="22145" y="14151"/>
                  <a:pt x="22145" y="14151"/>
                  <a:pt x="22145" y="14151"/>
                </a:cubicBezTo>
                <a:cubicBezTo>
                  <a:pt x="22145" y="2907"/>
                  <a:pt x="22145" y="2907"/>
                  <a:pt x="22145" y="2907"/>
                </a:cubicBezTo>
                <a:cubicBezTo>
                  <a:pt x="22145" y="0"/>
                  <a:pt x="19495" y="0"/>
                  <a:pt x="19495" y="0"/>
                </a:cubicBezTo>
                <a:cubicBezTo>
                  <a:pt x="16656" y="0"/>
                  <a:pt x="13817" y="0"/>
                  <a:pt x="13817" y="2907"/>
                </a:cubicBezTo>
                <a:cubicBezTo>
                  <a:pt x="13817" y="14151"/>
                  <a:pt x="13817" y="14151"/>
                  <a:pt x="13817" y="14151"/>
                </a:cubicBezTo>
                <a:cubicBezTo>
                  <a:pt x="2649" y="14151"/>
                  <a:pt x="2649" y="14151"/>
                  <a:pt x="2649" y="14151"/>
                </a:cubicBezTo>
                <a:lnTo>
                  <a:pt x="0" y="17059"/>
                </a:lnTo>
                <a:cubicBezTo>
                  <a:pt x="0" y="19967"/>
                  <a:pt x="2649" y="22875"/>
                  <a:pt x="2649" y="22875"/>
                </a:cubicBezTo>
                <a:cubicBezTo>
                  <a:pt x="13817" y="22875"/>
                  <a:pt x="13817" y="22875"/>
                  <a:pt x="13817" y="22875"/>
                </a:cubicBezTo>
                <a:cubicBezTo>
                  <a:pt x="13817" y="96930"/>
                  <a:pt x="13817" y="96930"/>
                  <a:pt x="13817" y="96930"/>
                </a:cubicBezTo>
                <a:cubicBezTo>
                  <a:pt x="13817" y="105654"/>
                  <a:pt x="13817" y="105654"/>
                  <a:pt x="13817" y="105654"/>
                </a:cubicBezTo>
                <a:cubicBezTo>
                  <a:pt x="22145" y="105654"/>
                  <a:pt x="22145" y="105654"/>
                  <a:pt x="22145" y="105654"/>
                </a:cubicBezTo>
                <a:cubicBezTo>
                  <a:pt x="97476" y="105654"/>
                  <a:pt x="97476" y="105654"/>
                  <a:pt x="97476" y="105654"/>
                </a:cubicBezTo>
                <a:cubicBezTo>
                  <a:pt x="97476" y="116898"/>
                  <a:pt x="97476" y="116898"/>
                  <a:pt x="97476" y="116898"/>
                </a:cubicBezTo>
                <a:cubicBezTo>
                  <a:pt x="97476" y="119806"/>
                  <a:pt x="97476" y="119806"/>
                  <a:pt x="100315" y="119806"/>
                </a:cubicBezTo>
                <a:cubicBezTo>
                  <a:pt x="102965" y="119806"/>
                  <a:pt x="102965" y="119806"/>
                  <a:pt x="102965" y="116898"/>
                </a:cubicBezTo>
                <a:cubicBezTo>
                  <a:pt x="102965" y="105654"/>
                  <a:pt x="102965" y="105654"/>
                  <a:pt x="102965" y="105654"/>
                </a:cubicBezTo>
                <a:cubicBezTo>
                  <a:pt x="114132" y="105654"/>
                  <a:pt x="114132" y="105654"/>
                  <a:pt x="114132" y="105654"/>
                </a:cubicBezTo>
                <a:cubicBezTo>
                  <a:pt x="116971" y="105654"/>
                  <a:pt x="119810" y="102746"/>
                  <a:pt x="119810" y="102746"/>
                </a:cubicBezTo>
                <a:cubicBezTo>
                  <a:pt x="119810" y="99838"/>
                  <a:pt x="116971" y="96930"/>
                  <a:pt x="114132" y="96930"/>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4" name="Shape 4650"/>
          <p:cNvSpPr/>
          <p:nvPr/>
        </p:nvSpPr>
        <p:spPr>
          <a:xfrm>
            <a:off x="7504200" y="1731960"/>
            <a:ext cx="190440" cy="168120"/>
          </a:xfrm>
          <a:custGeom>
            <a:avLst/>
            <a:gdLst>
              <a:gd name="textAreaLeft" fmla="*/ 0 w 190440"/>
              <a:gd name="textAreaRight" fmla="*/ 190800 w 190440"/>
              <a:gd name="textAreaTop" fmla="*/ 0 h 168120"/>
              <a:gd name="textAreaBottom" fmla="*/ 168480 h 168120"/>
            </a:gdLst>
            <a:ahLst/>
            <a:rect l="textAreaLeft" t="textAreaTop" r="textAreaRight" b="textAreaBottom"/>
            <a:pathLst>
              <a:path w="120000" h="120000">
                <a:moveTo>
                  <a:pt x="9022" y="14915"/>
                </a:moveTo>
                <a:lnTo>
                  <a:pt x="9022" y="14915"/>
                </a:lnTo>
                <a:cubicBezTo>
                  <a:pt x="115187" y="14915"/>
                  <a:pt x="115187" y="14915"/>
                  <a:pt x="115187" y="14915"/>
                </a:cubicBezTo>
                <a:lnTo>
                  <a:pt x="119699" y="10169"/>
                </a:lnTo>
                <a:cubicBezTo>
                  <a:pt x="119699" y="5084"/>
                  <a:pt x="115187" y="0"/>
                  <a:pt x="115187" y="0"/>
                </a:cubicBezTo>
                <a:cubicBezTo>
                  <a:pt x="9022" y="0"/>
                  <a:pt x="9022" y="0"/>
                  <a:pt x="9022" y="0"/>
                </a:cubicBezTo>
                <a:cubicBezTo>
                  <a:pt x="4511" y="0"/>
                  <a:pt x="0" y="5084"/>
                  <a:pt x="0" y="10169"/>
                </a:cubicBezTo>
                <a:cubicBezTo>
                  <a:pt x="0" y="10169"/>
                  <a:pt x="4511" y="14915"/>
                  <a:pt x="9022" y="14915"/>
                </a:cubicBezTo>
                <a:close/>
                <a:moveTo>
                  <a:pt x="115187" y="109830"/>
                </a:moveTo>
                <a:lnTo>
                  <a:pt x="115187" y="109830"/>
                </a:lnTo>
                <a:cubicBezTo>
                  <a:pt x="9022" y="109830"/>
                  <a:pt x="9022" y="109830"/>
                  <a:pt x="9022" y="109830"/>
                </a:cubicBezTo>
                <a:cubicBezTo>
                  <a:pt x="4511" y="109830"/>
                  <a:pt x="0" y="109830"/>
                  <a:pt x="0" y="114915"/>
                </a:cubicBezTo>
                <a:cubicBezTo>
                  <a:pt x="0" y="119661"/>
                  <a:pt x="4511" y="119661"/>
                  <a:pt x="9022" y="119661"/>
                </a:cubicBezTo>
                <a:cubicBezTo>
                  <a:pt x="115187" y="119661"/>
                  <a:pt x="115187" y="119661"/>
                  <a:pt x="115187" y="119661"/>
                </a:cubicBezTo>
                <a:cubicBezTo>
                  <a:pt x="115187" y="119661"/>
                  <a:pt x="119699" y="119661"/>
                  <a:pt x="119699" y="114915"/>
                </a:cubicBezTo>
                <a:cubicBezTo>
                  <a:pt x="119699" y="109830"/>
                  <a:pt x="115187" y="109830"/>
                  <a:pt x="115187" y="109830"/>
                </a:cubicBezTo>
                <a:close/>
                <a:moveTo>
                  <a:pt x="115187" y="54915"/>
                </a:moveTo>
                <a:lnTo>
                  <a:pt x="115187" y="54915"/>
                </a:lnTo>
                <a:cubicBezTo>
                  <a:pt x="9022" y="54915"/>
                  <a:pt x="9022" y="54915"/>
                  <a:pt x="9022" y="54915"/>
                </a:cubicBezTo>
                <a:cubicBezTo>
                  <a:pt x="4511" y="54915"/>
                  <a:pt x="0" y="59999"/>
                  <a:pt x="0" y="59999"/>
                </a:cubicBezTo>
                <a:cubicBezTo>
                  <a:pt x="0" y="65084"/>
                  <a:pt x="4511" y="69830"/>
                  <a:pt x="9022" y="69830"/>
                </a:cubicBezTo>
                <a:cubicBezTo>
                  <a:pt x="115187" y="69830"/>
                  <a:pt x="115187" y="69830"/>
                  <a:pt x="115187" y="69830"/>
                </a:cubicBezTo>
                <a:cubicBezTo>
                  <a:pt x="115187" y="69830"/>
                  <a:pt x="119699" y="65084"/>
                  <a:pt x="119699" y="59999"/>
                </a:cubicBezTo>
                <a:lnTo>
                  <a:pt x="115187" y="54915"/>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5" name="Shape 4652"/>
          <p:cNvSpPr/>
          <p:nvPr/>
        </p:nvSpPr>
        <p:spPr>
          <a:xfrm>
            <a:off x="6470640" y="1668600"/>
            <a:ext cx="297000" cy="290520"/>
          </a:xfrm>
          <a:custGeom>
            <a:avLst/>
            <a:gdLst>
              <a:gd name="textAreaLeft" fmla="*/ 0 w 297000"/>
              <a:gd name="textAreaRight" fmla="*/ 297360 w 297000"/>
              <a:gd name="textAreaTop" fmla="*/ 0 h 290520"/>
              <a:gd name="textAreaBottom" fmla="*/ 290880 h 290520"/>
            </a:gdLst>
            <a:ahLst/>
            <a:rect l="textAreaLeft" t="textAreaTop" r="textAreaRight" b="textAreaBottom"/>
            <a:pathLst>
              <a:path w="120000" h="120000">
                <a:moveTo>
                  <a:pt x="91308" y="0"/>
                </a:moveTo>
                <a:lnTo>
                  <a:pt x="91308" y="0"/>
                </a:lnTo>
                <a:cubicBezTo>
                  <a:pt x="76962" y="0"/>
                  <a:pt x="68432" y="8741"/>
                  <a:pt x="59903" y="14503"/>
                </a:cubicBezTo>
                <a:cubicBezTo>
                  <a:pt x="51373" y="5761"/>
                  <a:pt x="42843" y="0"/>
                  <a:pt x="28497" y="0"/>
                </a:cubicBezTo>
                <a:cubicBezTo>
                  <a:pt x="11437" y="0"/>
                  <a:pt x="0" y="14503"/>
                  <a:pt x="0" y="32185"/>
                </a:cubicBezTo>
                <a:cubicBezTo>
                  <a:pt x="0" y="40927"/>
                  <a:pt x="2907" y="49668"/>
                  <a:pt x="5621" y="55430"/>
                </a:cubicBezTo>
                <a:cubicBezTo>
                  <a:pt x="54281" y="114039"/>
                  <a:pt x="54281" y="114039"/>
                  <a:pt x="54281" y="114039"/>
                </a:cubicBezTo>
                <a:cubicBezTo>
                  <a:pt x="59903" y="119801"/>
                  <a:pt x="59903" y="119801"/>
                  <a:pt x="65718" y="114039"/>
                </a:cubicBezTo>
                <a:cubicBezTo>
                  <a:pt x="114184" y="55430"/>
                  <a:pt x="114184" y="55430"/>
                  <a:pt x="114184" y="55430"/>
                </a:cubicBezTo>
                <a:cubicBezTo>
                  <a:pt x="116898" y="49668"/>
                  <a:pt x="119806" y="40927"/>
                  <a:pt x="119806" y="32185"/>
                </a:cubicBezTo>
                <a:cubicBezTo>
                  <a:pt x="119806" y="14503"/>
                  <a:pt x="108368" y="0"/>
                  <a:pt x="91308" y="0"/>
                </a:cubicBezTo>
                <a:close/>
                <a:moveTo>
                  <a:pt x="105460" y="52649"/>
                </a:moveTo>
                <a:lnTo>
                  <a:pt x="105460" y="52649"/>
                </a:lnTo>
                <a:cubicBezTo>
                  <a:pt x="59903" y="108079"/>
                  <a:pt x="59903" y="108079"/>
                  <a:pt x="59903" y="108079"/>
                </a:cubicBezTo>
                <a:cubicBezTo>
                  <a:pt x="14151" y="52649"/>
                  <a:pt x="14151" y="52649"/>
                  <a:pt x="14151" y="52649"/>
                </a:cubicBezTo>
                <a:cubicBezTo>
                  <a:pt x="8529" y="46688"/>
                  <a:pt x="5621" y="40927"/>
                  <a:pt x="5621" y="32185"/>
                </a:cubicBezTo>
                <a:cubicBezTo>
                  <a:pt x="5621" y="20463"/>
                  <a:pt x="17059" y="8741"/>
                  <a:pt x="28497" y="5761"/>
                </a:cubicBezTo>
                <a:cubicBezTo>
                  <a:pt x="39935" y="5761"/>
                  <a:pt x="54281" y="17483"/>
                  <a:pt x="59903" y="26225"/>
                </a:cubicBezTo>
                <a:cubicBezTo>
                  <a:pt x="65718" y="20463"/>
                  <a:pt x="79870" y="5761"/>
                  <a:pt x="91308" y="5761"/>
                </a:cubicBezTo>
                <a:cubicBezTo>
                  <a:pt x="102746" y="5761"/>
                  <a:pt x="114184" y="20463"/>
                  <a:pt x="114184" y="32185"/>
                </a:cubicBezTo>
                <a:cubicBezTo>
                  <a:pt x="114184" y="40927"/>
                  <a:pt x="111276" y="46688"/>
                  <a:pt x="105460" y="5264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6" name="Shape 4654"/>
          <p:cNvSpPr/>
          <p:nvPr/>
        </p:nvSpPr>
        <p:spPr>
          <a:xfrm>
            <a:off x="10391760" y="1179360"/>
            <a:ext cx="304920" cy="284400"/>
          </a:xfrm>
          <a:custGeom>
            <a:avLst/>
            <a:gdLst>
              <a:gd name="textAreaLeft" fmla="*/ 0 w 304920"/>
              <a:gd name="textAreaRight" fmla="*/ 305280 w 304920"/>
              <a:gd name="textAreaTop" fmla="*/ 0 h 284400"/>
              <a:gd name="textAreaBottom" fmla="*/ 284760 h 284400"/>
            </a:gdLst>
            <a:ahLst/>
            <a:rect l="textAreaLeft" t="textAreaTop" r="textAreaRight" b="textAreaBottom"/>
            <a:pathLst>
              <a:path w="120000" h="120000">
                <a:moveTo>
                  <a:pt x="64164" y="110644"/>
                </a:moveTo>
                <a:lnTo>
                  <a:pt x="64164" y="110644"/>
                </a:lnTo>
                <a:cubicBezTo>
                  <a:pt x="28012" y="110644"/>
                  <a:pt x="28012" y="110644"/>
                  <a:pt x="28012" y="110644"/>
                </a:cubicBezTo>
                <a:cubicBezTo>
                  <a:pt x="25173" y="110644"/>
                  <a:pt x="22334" y="113694"/>
                  <a:pt x="22334" y="113694"/>
                </a:cubicBezTo>
                <a:cubicBezTo>
                  <a:pt x="22334" y="116745"/>
                  <a:pt x="25173" y="119796"/>
                  <a:pt x="28012" y="119796"/>
                </a:cubicBezTo>
                <a:cubicBezTo>
                  <a:pt x="64164" y="119796"/>
                  <a:pt x="64164" y="119796"/>
                  <a:pt x="64164" y="119796"/>
                </a:cubicBezTo>
                <a:cubicBezTo>
                  <a:pt x="67003" y="119796"/>
                  <a:pt x="67003" y="116745"/>
                  <a:pt x="67003" y="113694"/>
                </a:cubicBezTo>
                <a:cubicBezTo>
                  <a:pt x="67003" y="113694"/>
                  <a:pt x="67003" y="110644"/>
                  <a:pt x="64164" y="110644"/>
                </a:cubicBezTo>
                <a:close/>
                <a:moveTo>
                  <a:pt x="72492" y="95796"/>
                </a:moveTo>
                <a:lnTo>
                  <a:pt x="72492" y="95796"/>
                </a:lnTo>
                <a:cubicBezTo>
                  <a:pt x="19495" y="95796"/>
                  <a:pt x="19495" y="95796"/>
                  <a:pt x="19495" y="95796"/>
                </a:cubicBezTo>
                <a:cubicBezTo>
                  <a:pt x="16845" y="95796"/>
                  <a:pt x="16845" y="95796"/>
                  <a:pt x="16845" y="98847"/>
                </a:cubicBezTo>
                <a:cubicBezTo>
                  <a:pt x="16845" y="101694"/>
                  <a:pt x="16845" y="101694"/>
                  <a:pt x="19495" y="101694"/>
                </a:cubicBezTo>
                <a:cubicBezTo>
                  <a:pt x="72492" y="101694"/>
                  <a:pt x="72492" y="101694"/>
                  <a:pt x="72492" y="101694"/>
                </a:cubicBezTo>
                <a:cubicBezTo>
                  <a:pt x="72492" y="101694"/>
                  <a:pt x="75331" y="101694"/>
                  <a:pt x="75331" y="98847"/>
                </a:cubicBezTo>
                <a:cubicBezTo>
                  <a:pt x="75331" y="95796"/>
                  <a:pt x="72492" y="95796"/>
                  <a:pt x="72492" y="95796"/>
                </a:cubicBezTo>
                <a:close/>
                <a:moveTo>
                  <a:pt x="117160" y="77694"/>
                </a:moveTo>
                <a:lnTo>
                  <a:pt x="117160" y="77694"/>
                </a:lnTo>
                <a:cubicBezTo>
                  <a:pt x="61324" y="77694"/>
                  <a:pt x="61324" y="77694"/>
                  <a:pt x="61324" y="77694"/>
                </a:cubicBezTo>
                <a:cubicBezTo>
                  <a:pt x="61324" y="74847"/>
                  <a:pt x="61324" y="68949"/>
                  <a:pt x="61324" y="65694"/>
                </a:cubicBezTo>
                <a:cubicBezTo>
                  <a:pt x="61324" y="35796"/>
                  <a:pt x="77981" y="14847"/>
                  <a:pt x="100315" y="5898"/>
                </a:cubicBezTo>
                <a:cubicBezTo>
                  <a:pt x="91987" y="2847"/>
                  <a:pt x="83659" y="0"/>
                  <a:pt x="72492" y="0"/>
                </a:cubicBezTo>
                <a:cubicBezTo>
                  <a:pt x="41829" y="0"/>
                  <a:pt x="16845" y="26847"/>
                  <a:pt x="16845" y="59796"/>
                </a:cubicBezTo>
                <a:cubicBezTo>
                  <a:pt x="16845" y="65694"/>
                  <a:pt x="16845" y="71796"/>
                  <a:pt x="19495" y="77694"/>
                </a:cubicBezTo>
                <a:cubicBezTo>
                  <a:pt x="5678" y="77694"/>
                  <a:pt x="5678" y="77694"/>
                  <a:pt x="5678" y="77694"/>
                </a:cubicBezTo>
                <a:cubicBezTo>
                  <a:pt x="2839" y="77694"/>
                  <a:pt x="0" y="80745"/>
                  <a:pt x="0" y="83796"/>
                </a:cubicBezTo>
                <a:cubicBezTo>
                  <a:pt x="0" y="83796"/>
                  <a:pt x="2839" y="86847"/>
                  <a:pt x="5678" y="86847"/>
                </a:cubicBezTo>
                <a:cubicBezTo>
                  <a:pt x="117160" y="86847"/>
                  <a:pt x="117160" y="86847"/>
                  <a:pt x="117160" y="86847"/>
                </a:cubicBezTo>
                <a:lnTo>
                  <a:pt x="119810" y="83796"/>
                </a:lnTo>
                <a:cubicBezTo>
                  <a:pt x="119810" y="80745"/>
                  <a:pt x="117160" y="77694"/>
                  <a:pt x="117160" y="77694"/>
                </a:cubicBezTo>
                <a:close/>
                <a:moveTo>
                  <a:pt x="28012" y="77694"/>
                </a:moveTo>
                <a:lnTo>
                  <a:pt x="28012" y="77694"/>
                </a:lnTo>
                <a:cubicBezTo>
                  <a:pt x="25173" y="71796"/>
                  <a:pt x="22334" y="68949"/>
                  <a:pt x="22334" y="62847"/>
                </a:cubicBezTo>
                <a:cubicBezTo>
                  <a:pt x="22334" y="29898"/>
                  <a:pt x="39179" y="17898"/>
                  <a:pt x="52996" y="12000"/>
                </a:cubicBezTo>
                <a:cubicBezTo>
                  <a:pt x="64164" y="5898"/>
                  <a:pt x="75331" y="5898"/>
                  <a:pt x="83659" y="5898"/>
                </a:cubicBezTo>
                <a:cubicBezTo>
                  <a:pt x="67003" y="14847"/>
                  <a:pt x="52996" y="38847"/>
                  <a:pt x="52996" y="65694"/>
                </a:cubicBezTo>
                <a:cubicBezTo>
                  <a:pt x="52996" y="68949"/>
                  <a:pt x="52996" y="74847"/>
                  <a:pt x="52996" y="77694"/>
                </a:cubicBezTo>
                <a:lnTo>
                  <a:pt x="28012" y="77694"/>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7" name="Shape 4656"/>
          <p:cNvSpPr/>
          <p:nvPr/>
        </p:nvSpPr>
        <p:spPr>
          <a:xfrm>
            <a:off x="9414000" y="1165320"/>
            <a:ext cx="296640" cy="304560"/>
          </a:xfrm>
          <a:custGeom>
            <a:avLst/>
            <a:gdLst>
              <a:gd name="textAreaLeft" fmla="*/ 0 w 296640"/>
              <a:gd name="textAreaRight" fmla="*/ 297000 w 296640"/>
              <a:gd name="textAreaTop" fmla="*/ 0 h 304560"/>
              <a:gd name="textAreaBottom" fmla="*/ 304920 h 304560"/>
            </a:gdLst>
            <a:ahLst/>
            <a:rect l="textAreaLeft" t="textAreaTop" r="textAreaRight" b="textAreaBottom"/>
            <a:pathLst>
              <a:path w="120000" h="120000">
                <a:moveTo>
                  <a:pt x="14151" y="55835"/>
                </a:moveTo>
                <a:lnTo>
                  <a:pt x="14151" y="55835"/>
                </a:lnTo>
                <a:cubicBezTo>
                  <a:pt x="2907" y="55835"/>
                  <a:pt x="2907" y="55835"/>
                  <a:pt x="2907" y="55835"/>
                </a:cubicBezTo>
                <a:cubicBezTo>
                  <a:pt x="0" y="55835"/>
                  <a:pt x="0" y="58675"/>
                  <a:pt x="0" y="61324"/>
                </a:cubicBezTo>
                <a:cubicBezTo>
                  <a:pt x="0" y="61324"/>
                  <a:pt x="0" y="64164"/>
                  <a:pt x="2907" y="64164"/>
                </a:cubicBezTo>
                <a:cubicBezTo>
                  <a:pt x="14151" y="64164"/>
                  <a:pt x="14151" y="64164"/>
                  <a:pt x="14151" y="64164"/>
                </a:cubicBezTo>
                <a:cubicBezTo>
                  <a:pt x="17059" y="64164"/>
                  <a:pt x="17059" y="61324"/>
                  <a:pt x="17059" y="61324"/>
                </a:cubicBezTo>
                <a:cubicBezTo>
                  <a:pt x="17059" y="58675"/>
                  <a:pt x="17059" y="55835"/>
                  <a:pt x="14151" y="55835"/>
                </a:cubicBezTo>
                <a:close/>
                <a:moveTo>
                  <a:pt x="96930" y="30662"/>
                </a:moveTo>
                <a:lnTo>
                  <a:pt x="96930" y="30662"/>
                </a:lnTo>
                <a:cubicBezTo>
                  <a:pt x="105654" y="22334"/>
                  <a:pt x="105654" y="22334"/>
                  <a:pt x="105654" y="22334"/>
                </a:cubicBezTo>
                <a:cubicBezTo>
                  <a:pt x="105654" y="19495"/>
                  <a:pt x="105654" y="19495"/>
                  <a:pt x="105654" y="16845"/>
                </a:cubicBezTo>
                <a:cubicBezTo>
                  <a:pt x="102746" y="16845"/>
                  <a:pt x="99838" y="16845"/>
                  <a:pt x="99838" y="16845"/>
                </a:cubicBezTo>
                <a:cubicBezTo>
                  <a:pt x="91308" y="25173"/>
                  <a:pt x="91308" y="25173"/>
                  <a:pt x="91308" y="25173"/>
                </a:cubicBezTo>
                <a:cubicBezTo>
                  <a:pt x="88400" y="25173"/>
                  <a:pt x="88400" y="28012"/>
                  <a:pt x="91308" y="30662"/>
                </a:cubicBezTo>
                <a:cubicBezTo>
                  <a:pt x="91308" y="30662"/>
                  <a:pt x="94216" y="30662"/>
                  <a:pt x="96930" y="30662"/>
                </a:cubicBezTo>
                <a:close/>
                <a:moveTo>
                  <a:pt x="25589" y="30662"/>
                </a:moveTo>
                <a:lnTo>
                  <a:pt x="25589" y="30662"/>
                </a:lnTo>
                <a:cubicBezTo>
                  <a:pt x="25589" y="33501"/>
                  <a:pt x="28497" y="33501"/>
                  <a:pt x="31405" y="30662"/>
                </a:cubicBezTo>
                <a:cubicBezTo>
                  <a:pt x="31405" y="30662"/>
                  <a:pt x="31405" y="28012"/>
                  <a:pt x="31405" y="25173"/>
                </a:cubicBezTo>
                <a:cubicBezTo>
                  <a:pt x="22875" y="19495"/>
                  <a:pt x="22875" y="19495"/>
                  <a:pt x="22875" y="19495"/>
                </a:cubicBezTo>
                <a:cubicBezTo>
                  <a:pt x="19967" y="16845"/>
                  <a:pt x="17059" y="16845"/>
                  <a:pt x="17059" y="19495"/>
                </a:cubicBezTo>
                <a:cubicBezTo>
                  <a:pt x="14151" y="19495"/>
                  <a:pt x="14151" y="22334"/>
                  <a:pt x="17059" y="22334"/>
                </a:cubicBezTo>
                <a:lnTo>
                  <a:pt x="25589" y="30662"/>
                </a:lnTo>
                <a:close/>
                <a:moveTo>
                  <a:pt x="59903" y="19495"/>
                </a:moveTo>
                <a:lnTo>
                  <a:pt x="59903" y="19495"/>
                </a:lnTo>
                <a:cubicBezTo>
                  <a:pt x="62810" y="19495"/>
                  <a:pt x="62810" y="16845"/>
                  <a:pt x="62810" y="16845"/>
                </a:cubicBezTo>
                <a:cubicBezTo>
                  <a:pt x="62810" y="5678"/>
                  <a:pt x="62810" y="5678"/>
                  <a:pt x="62810" y="5678"/>
                </a:cubicBezTo>
                <a:cubicBezTo>
                  <a:pt x="62810" y="2839"/>
                  <a:pt x="62810" y="0"/>
                  <a:pt x="59903" y="0"/>
                </a:cubicBezTo>
                <a:cubicBezTo>
                  <a:pt x="56995" y="0"/>
                  <a:pt x="56995" y="2839"/>
                  <a:pt x="56995" y="5678"/>
                </a:cubicBezTo>
                <a:cubicBezTo>
                  <a:pt x="56995" y="16845"/>
                  <a:pt x="56995" y="16845"/>
                  <a:pt x="56995" y="16845"/>
                </a:cubicBezTo>
                <a:cubicBezTo>
                  <a:pt x="56995" y="16845"/>
                  <a:pt x="56995" y="19495"/>
                  <a:pt x="59903" y="19495"/>
                </a:cubicBezTo>
                <a:close/>
                <a:moveTo>
                  <a:pt x="59903" y="100315"/>
                </a:moveTo>
                <a:lnTo>
                  <a:pt x="59903" y="100315"/>
                </a:lnTo>
                <a:cubicBezTo>
                  <a:pt x="56995" y="100315"/>
                  <a:pt x="56995" y="103154"/>
                  <a:pt x="56995" y="105993"/>
                </a:cubicBezTo>
                <a:cubicBezTo>
                  <a:pt x="56995" y="117160"/>
                  <a:pt x="56995" y="117160"/>
                  <a:pt x="56995" y="117160"/>
                </a:cubicBezTo>
                <a:cubicBezTo>
                  <a:pt x="56995" y="117160"/>
                  <a:pt x="56995" y="119810"/>
                  <a:pt x="59903" y="119810"/>
                </a:cubicBezTo>
                <a:cubicBezTo>
                  <a:pt x="62810" y="119810"/>
                  <a:pt x="62810" y="117160"/>
                  <a:pt x="62810" y="117160"/>
                </a:cubicBezTo>
                <a:cubicBezTo>
                  <a:pt x="62810" y="105993"/>
                  <a:pt x="62810" y="105993"/>
                  <a:pt x="62810" y="105993"/>
                </a:cubicBezTo>
                <a:cubicBezTo>
                  <a:pt x="62810" y="103154"/>
                  <a:pt x="62810" y="100315"/>
                  <a:pt x="59903" y="100315"/>
                </a:cubicBezTo>
                <a:close/>
                <a:moveTo>
                  <a:pt x="94216" y="89148"/>
                </a:moveTo>
                <a:lnTo>
                  <a:pt x="94216" y="89148"/>
                </a:lnTo>
                <a:cubicBezTo>
                  <a:pt x="94216" y="89148"/>
                  <a:pt x="91308" y="89148"/>
                  <a:pt x="88400" y="89148"/>
                </a:cubicBezTo>
                <a:cubicBezTo>
                  <a:pt x="88400" y="91987"/>
                  <a:pt x="88400" y="91987"/>
                  <a:pt x="88400" y="94826"/>
                </a:cubicBezTo>
                <a:cubicBezTo>
                  <a:pt x="96930" y="103154"/>
                  <a:pt x="96930" y="103154"/>
                  <a:pt x="96930" y="103154"/>
                </a:cubicBezTo>
                <a:cubicBezTo>
                  <a:pt x="99838" y="103154"/>
                  <a:pt x="102746" y="103154"/>
                  <a:pt x="102746" y="103154"/>
                </a:cubicBezTo>
                <a:cubicBezTo>
                  <a:pt x="105654" y="100315"/>
                  <a:pt x="105654" y="97665"/>
                  <a:pt x="102746" y="97665"/>
                </a:cubicBezTo>
                <a:lnTo>
                  <a:pt x="94216" y="89148"/>
                </a:lnTo>
                <a:close/>
                <a:moveTo>
                  <a:pt x="116898" y="55835"/>
                </a:moveTo>
                <a:lnTo>
                  <a:pt x="116898" y="55835"/>
                </a:lnTo>
                <a:cubicBezTo>
                  <a:pt x="105654" y="55835"/>
                  <a:pt x="105654" y="55835"/>
                  <a:pt x="105654" y="55835"/>
                </a:cubicBezTo>
                <a:cubicBezTo>
                  <a:pt x="102746" y="55835"/>
                  <a:pt x="102746" y="58675"/>
                  <a:pt x="102746" y="61324"/>
                </a:cubicBezTo>
                <a:cubicBezTo>
                  <a:pt x="102746" y="61324"/>
                  <a:pt x="102746" y="64164"/>
                  <a:pt x="105654" y="64164"/>
                </a:cubicBezTo>
                <a:cubicBezTo>
                  <a:pt x="116898" y="64164"/>
                  <a:pt x="116898" y="64164"/>
                  <a:pt x="116898" y="64164"/>
                </a:cubicBezTo>
                <a:cubicBezTo>
                  <a:pt x="119806" y="64164"/>
                  <a:pt x="119806" y="61324"/>
                  <a:pt x="119806" y="61324"/>
                </a:cubicBezTo>
                <a:cubicBezTo>
                  <a:pt x="119806" y="58675"/>
                  <a:pt x="119806" y="55835"/>
                  <a:pt x="116898" y="55835"/>
                </a:cubicBezTo>
                <a:close/>
                <a:moveTo>
                  <a:pt x="28497" y="86498"/>
                </a:moveTo>
                <a:lnTo>
                  <a:pt x="28497" y="86498"/>
                </a:lnTo>
                <a:cubicBezTo>
                  <a:pt x="19967" y="94826"/>
                  <a:pt x="19967" y="94826"/>
                  <a:pt x="19967" y="94826"/>
                </a:cubicBezTo>
                <a:cubicBezTo>
                  <a:pt x="17059" y="97665"/>
                  <a:pt x="17059" y="97665"/>
                  <a:pt x="19967" y="100315"/>
                </a:cubicBezTo>
                <a:cubicBezTo>
                  <a:pt x="19967" y="100315"/>
                  <a:pt x="22875" y="100315"/>
                  <a:pt x="25589" y="100315"/>
                </a:cubicBezTo>
                <a:cubicBezTo>
                  <a:pt x="31405" y="91987"/>
                  <a:pt x="31405" y="91987"/>
                  <a:pt x="31405" y="91987"/>
                </a:cubicBezTo>
                <a:cubicBezTo>
                  <a:pt x="34313" y="91987"/>
                  <a:pt x="34313" y="89148"/>
                  <a:pt x="31405" y="86498"/>
                </a:cubicBezTo>
                <a:lnTo>
                  <a:pt x="28497" y="86498"/>
                </a:lnTo>
                <a:close/>
                <a:moveTo>
                  <a:pt x="59903" y="28012"/>
                </a:moveTo>
                <a:lnTo>
                  <a:pt x="59903" y="28012"/>
                </a:lnTo>
                <a:cubicBezTo>
                  <a:pt x="39935" y="28012"/>
                  <a:pt x="25589" y="41829"/>
                  <a:pt x="25589" y="61324"/>
                </a:cubicBezTo>
                <a:cubicBezTo>
                  <a:pt x="25589" y="77981"/>
                  <a:pt x="39935" y="94826"/>
                  <a:pt x="59903" y="94826"/>
                </a:cubicBezTo>
                <a:cubicBezTo>
                  <a:pt x="79870" y="94826"/>
                  <a:pt x="94216" y="77981"/>
                  <a:pt x="94216" y="61324"/>
                </a:cubicBezTo>
                <a:cubicBezTo>
                  <a:pt x="94216" y="41829"/>
                  <a:pt x="79870" y="28012"/>
                  <a:pt x="59903" y="28012"/>
                </a:cubicBezTo>
                <a:close/>
                <a:moveTo>
                  <a:pt x="59903" y="86498"/>
                </a:moveTo>
                <a:lnTo>
                  <a:pt x="59903" y="86498"/>
                </a:lnTo>
                <a:cubicBezTo>
                  <a:pt x="45751" y="86498"/>
                  <a:pt x="34313" y="75331"/>
                  <a:pt x="34313" y="61324"/>
                </a:cubicBezTo>
                <a:cubicBezTo>
                  <a:pt x="34313" y="47507"/>
                  <a:pt x="45751" y="33501"/>
                  <a:pt x="59903" y="33501"/>
                </a:cubicBezTo>
                <a:cubicBezTo>
                  <a:pt x="74248" y="33501"/>
                  <a:pt x="85492" y="47507"/>
                  <a:pt x="85492" y="61324"/>
                </a:cubicBezTo>
                <a:cubicBezTo>
                  <a:pt x="85492" y="75331"/>
                  <a:pt x="74248" y="86498"/>
                  <a:pt x="59903" y="86498"/>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8" name="Shape 4658"/>
          <p:cNvSpPr/>
          <p:nvPr/>
        </p:nvSpPr>
        <p:spPr>
          <a:xfrm>
            <a:off x="8488440" y="1165320"/>
            <a:ext cx="190440" cy="304560"/>
          </a:xfrm>
          <a:custGeom>
            <a:avLst/>
            <a:gdLst>
              <a:gd name="textAreaLeft" fmla="*/ 0 w 190440"/>
              <a:gd name="textAreaRight" fmla="*/ 190800 w 190440"/>
              <a:gd name="textAreaTop" fmla="*/ 0 h 304560"/>
              <a:gd name="textAreaBottom" fmla="*/ 304920 h 304560"/>
            </a:gdLst>
            <a:ahLst/>
            <a:rect l="textAreaLeft" t="textAreaTop" r="textAreaRight" b="textAreaBottom"/>
            <a:pathLst>
              <a:path w="120000" h="120000">
                <a:moveTo>
                  <a:pt x="57744" y="0"/>
                </a:moveTo>
                <a:lnTo>
                  <a:pt x="57744" y="0"/>
                </a:lnTo>
                <a:cubicBezTo>
                  <a:pt x="40000" y="14006"/>
                  <a:pt x="0" y="61324"/>
                  <a:pt x="0" y="83659"/>
                </a:cubicBezTo>
                <a:cubicBezTo>
                  <a:pt x="0" y="103154"/>
                  <a:pt x="26766" y="119810"/>
                  <a:pt x="57744" y="119810"/>
                </a:cubicBezTo>
                <a:cubicBezTo>
                  <a:pt x="92932" y="119810"/>
                  <a:pt x="119699" y="103154"/>
                  <a:pt x="119699" y="83659"/>
                </a:cubicBezTo>
                <a:cubicBezTo>
                  <a:pt x="119699" y="61324"/>
                  <a:pt x="75488" y="14006"/>
                  <a:pt x="57744" y="0"/>
                </a:cubicBezTo>
                <a:close/>
                <a:moveTo>
                  <a:pt x="57744" y="111482"/>
                </a:moveTo>
                <a:lnTo>
                  <a:pt x="57744" y="111482"/>
                </a:lnTo>
                <a:cubicBezTo>
                  <a:pt x="31278" y="111482"/>
                  <a:pt x="13533" y="100315"/>
                  <a:pt x="13533" y="83659"/>
                </a:cubicBezTo>
                <a:cubicBezTo>
                  <a:pt x="13533" y="66813"/>
                  <a:pt x="44511" y="28012"/>
                  <a:pt x="57744" y="16845"/>
                </a:cubicBezTo>
                <a:cubicBezTo>
                  <a:pt x="75488" y="25173"/>
                  <a:pt x="106466" y="66813"/>
                  <a:pt x="106466" y="83659"/>
                </a:cubicBezTo>
                <a:cubicBezTo>
                  <a:pt x="106466" y="100315"/>
                  <a:pt x="84210" y="111482"/>
                  <a:pt x="57744" y="11148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9" name="Shape 4660"/>
          <p:cNvSpPr/>
          <p:nvPr/>
        </p:nvSpPr>
        <p:spPr>
          <a:xfrm>
            <a:off x="7469280" y="1208160"/>
            <a:ext cx="284040" cy="183960"/>
          </a:xfrm>
          <a:custGeom>
            <a:avLst/>
            <a:gdLst>
              <a:gd name="textAreaLeft" fmla="*/ 0 w 284040"/>
              <a:gd name="textAreaRight" fmla="*/ 284400 w 284040"/>
              <a:gd name="textAreaTop" fmla="*/ 0 h 183960"/>
              <a:gd name="textAreaBottom" fmla="*/ 184320 h 183960"/>
            </a:gdLst>
            <a:ahLst/>
            <a:rect l="textAreaLeft" t="textAreaTop" r="textAreaRight" b="textAreaBottom"/>
            <a:pathLst>
              <a:path w="120000" h="120000">
                <a:moveTo>
                  <a:pt x="60000" y="22872"/>
                </a:moveTo>
                <a:lnTo>
                  <a:pt x="60000" y="22872"/>
                </a:lnTo>
                <a:cubicBezTo>
                  <a:pt x="63050" y="22872"/>
                  <a:pt x="63050" y="18485"/>
                  <a:pt x="63050" y="18485"/>
                </a:cubicBezTo>
                <a:cubicBezTo>
                  <a:pt x="63050" y="4386"/>
                  <a:pt x="63050" y="4386"/>
                  <a:pt x="63050" y="4386"/>
                </a:cubicBezTo>
                <a:cubicBezTo>
                  <a:pt x="63050" y="0"/>
                  <a:pt x="63050" y="0"/>
                  <a:pt x="60000" y="0"/>
                </a:cubicBezTo>
                <a:cubicBezTo>
                  <a:pt x="56949" y="0"/>
                  <a:pt x="56949" y="0"/>
                  <a:pt x="56949" y="4386"/>
                </a:cubicBezTo>
                <a:cubicBezTo>
                  <a:pt x="56949" y="18485"/>
                  <a:pt x="56949" y="18485"/>
                  <a:pt x="56949" y="18485"/>
                </a:cubicBezTo>
                <a:cubicBezTo>
                  <a:pt x="56949" y="18485"/>
                  <a:pt x="56949" y="22872"/>
                  <a:pt x="60000" y="22872"/>
                </a:cubicBezTo>
                <a:close/>
                <a:moveTo>
                  <a:pt x="107796" y="50757"/>
                </a:moveTo>
                <a:lnTo>
                  <a:pt x="107796" y="50757"/>
                </a:lnTo>
                <a:cubicBezTo>
                  <a:pt x="113898" y="41357"/>
                  <a:pt x="113898" y="41357"/>
                  <a:pt x="113898" y="41357"/>
                </a:cubicBezTo>
                <a:cubicBezTo>
                  <a:pt x="113898" y="36657"/>
                  <a:pt x="113898" y="36657"/>
                  <a:pt x="113898" y="32271"/>
                </a:cubicBezTo>
                <a:cubicBezTo>
                  <a:pt x="110847" y="32271"/>
                  <a:pt x="110847" y="32271"/>
                  <a:pt x="107796" y="32271"/>
                </a:cubicBezTo>
                <a:cubicBezTo>
                  <a:pt x="101898" y="41357"/>
                  <a:pt x="101898" y="41357"/>
                  <a:pt x="101898" y="41357"/>
                </a:cubicBezTo>
                <a:cubicBezTo>
                  <a:pt x="101898" y="46057"/>
                  <a:pt x="101898" y="46057"/>
                  <a:pt x="101898" y="50757"/>
                </a:cubicBezTo>
                <a:cubicBezTo>
                  <a:pt x="104949" y="50757"/>
                  <a:pt x="104949" y="50757"/>
                  <a:pt x="107796" y="50757"/>
                </a:cubicBezTo>
                <a:close/>
                <a:moveTo>
                  <a:pt x="12000" y="50757"/>
                </a:moveTo>
                <a:lnTo>
                  <a:pt x="12000" y="50757"/>
                </a:lnTo>
                <a:cubicBezTo>
                  <a:pt x="15050" y="50757"/>
                  <a:pt x="15050" y="50757"/>
                  <a:pt x="18101" y="50757"/>
                </a:cubicBezTo>
                <a:cubicBezTo>
                  <a:pt x="18101" y="46057"/>
                  <a:pt x="18101" y="46057"/>
                  <a:pt x="18101" y="41357"/>
                </a:cubicBezTo>
                <a:cubicBezTo>
                  <a:pt x="12000" y="32271"/>
                  <a:pt x="12000" y="32271"/>
                  <a:pt x="12000" y="32271"/>
                </a:cubicBezTo>
                <a:cubicBezTo>
                  <a:pt x="9152" y="32271"/>
                  <a:pt x="9152" y="32271"/>
                  <a:pt x="6101" y="32271"/>
                </a:cubicBezTo>
                <a:cubicBezTo>
                  <a:pt x="6101" y="36657"/>
                  <a:pt x="6101" y="36657"/>
                  <a:pt x="6101" y="41357"/>
                </a:cubicBezTo>
                <a:lnTo>
                  <a:pt x="12000" y="50757"/>
                </a:lnTo>
                <a:close/>
                <a:moveTo>
                  <a:pt x="116949" y="110600"/>
                </a:moveTo>
                <a:lnTo>
                  <a:pt x="116949" y="110600"/>
                </a:lnTo>
                <a:cubicBezTo>
                  <a:pt x="3050" y="110600"/>
                  <a:pt x="3050" y="110600"/>
                  <a:pt x="3050" y="110600"/>
                </a:cubicBezTo>
                <a:cubicBezTo>
                  <a:pt x="3050" y="110600"/>
                  <a:pt x="0" y="110600"/>
                  <a:pt x="0" y="115300"/>
                </a:cubicBezTo>
                <a:cubicBezTo>
                  <a:pt x="0" y="119686"/>
                  <a:pt x="3050" y="119686"/>
                  <a:pt x="3050" y="119686"/>
                </a:cubicBezTo>
                <a:cubicBezTo>
                  <a:pt x="116949" y="119686"/>
                  <a:pt x="116949" y="119686"/>
                  <a:pt x="116949" y="119686"/>
                </a:cubicBezTo>
                <a:cubicBezTo>
                  <a:pt x="116949" y="119686"/>
                  <a:pt x="119796" y="119686"/>
                  <a:pt x="119796" y="115300"/>
                </a:cubicBezTo>
                <a:cubicBezTo>
                  <a:pt x="119796" y="110600"/>
                  <a:pt x="116949" y="110600"/>
                  <a:pt x="116949" y="110600"/>
                </a:cubicBezTo>
                <a:close/>
                <a:moveTo>
                  <a:pt x="21152" y="96814"/>
                </a:moveTo>
                <a:lnTo>
                  <a:pt x="21152" y="96814"/>
                </a:lnTo>
                <a:cubicBezTo>
                  <a:pt x="24000" y="69242"/>
                  <a:pt x="42101" y="46057"/>
                  <a:pt x="60000" y="46057"/>
                </a:cubicBezTo>
                <a:cubicBezTo>
                  <a:pt x="77898" y="46057"/>
                  <a:pt x="96000" y="69242"/>
                  <a:pt x="98847" y="96814"/>
                </a:cubicBezTo>
                <a:cubicBezTo>
                  <a:pt x="107796" y="96814"/>
                  <a:pt x="107796" y="96814"/>
                  <a:pt x="107796" y="96814"/>
                </a:cubicBezTo>
                <a:cubicBezTo>
                  <a:pt x="104949" y="59843"/>
                  <a:pt x="84000" y="36657"/>
                  <a:pt x="60000" y="36657"/>
                </a:cubicBezTo>
                <a:cubicBezTo>
                  <a:pt x="36000" y="36657"/>
                  <a:pt x="15050" y="59843"/>
                  <a:pt x="12000" y="96814"/>
                </a:cubicBezTo>
                <a:lnTo>
                  <a:pt x="21152" y="96814"/>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0" name="Shape 4662"/>
          <p:cNvSpPr/>
          <p:nvPr/>
        </p:nvSpPr>
        <p:spPr>
          <a:xfrm>
            <a:off x="6470640" y="1165320"/>
            <a:ext cx="297000" cy="226800"/>
          </a:xfrm>
          <a:custGeom>
            <a:avLst/>
            <a:gdLst>
              <a:gd name="textAreaLeft" fmla="*/ 0 w 297000"/>
              <a:gd name="textAreaRight" fmla="*/ 297360 w 297000"/>
              <a:gd name="textAreaTop" fmla="*/ 0 h 226800"/>
              <a:gd name="textAreaBottom" fmla="*/ 227160 h 226800"/>
            </a:gdLst>
            <a:ahLst/>
            <a:rect l="textAreaLeft" t="textAreaTop" r="textAreaRight" b="textAreaBottom"/>
            <a:pathLst>
              <a:path w="120000" h="120000">
                <a:moveTo>
                  <a:pt x="71340" y="56186"/>
                </a:moveTo>
                <a:lnTo>
                  <a:pt x="71340" y="56186"/>
                </a:lnTo>
                <a:cubicBezTo>
                  <a:pt x="56995" y="56186"/>
                  <a:pt x="56995" y="56186"/>
                  <a:pt x="56995" y="56186"/>
                </a:cubicBezTo>
                <a:cubicBezTo>
                  <a:pt x="62810" y="33813"/>
                  <a:pt x="62810" y="33813"/>
                  <a:pt x="62810" y="33813"/>
                </a:cubicBezTo>
                <a:cubicBezTo>
                  <a:pt x="62810" y="33813"/>
                  <a:pt x="62810" y="30000"/>
                  <a:pt x="59903" y="30000"/>
                </a:cubicBezTo>
                <a:cubicBezTo>
                  <a:pt x="56995" y="26186"/>
                  <a:pt x="56995" y="30000"/>
                  <a:pt x="54281" y="30000"/>
                </a:cubicBezTo>
                <a:cubicBezTo>
                  <a:pt x="45557" y="60000"/>
                  <a:pt x="45557" y="60000"/>
                  <a:pt x="45557" y="60000"/>
                </a:cubicBezTo>
                <a:lnTo>
                  <a:pt x="45557" y="63813"/>
                </a:lnTo>
                <a:lnTo>
                  <a:pt x="48465" y="67372"/>
                </a:lnTo>
                <a:cubicBezTo>
                  <a:pt x="65718" y="67372"/>
                  <a:pt x="65718" y="67372"/>
                  <a:pt x="65718" y="67372"/>
                </a:cubicBezTo>
                <a:cubicBezTo>
                  <a:pt x="56995" y="89745"/>
                  <a:pt x="56995" y="89745"/>
                  <a:pt x="56995" y="89745"/>
                </a:cubicBezTo>
                <a:cubicBezTo>
                  <a:pt x="54281" y="89745"/>
                  <a:pt x="56995" y="93813"/>
                  <a:pt x="56995" y="97372"/>
                </a:cubicBezTo>
                <a:cubicBezTo>
                  <a:pt x="59903" y="97372"/>
                  <a:pt x="62810" y="97372"/>
                  <a:pt x="62810" y="93813"/>
                </a:cubicBezTo>
                <a:cubicBezTo>
                  <a:pt x="62810" y="93813"/>
                  <a:pt x="74054" y="63813"/>
                  <a:pt x="74054" y="60000"/>
                </a:cubicBezTo>
                <a:cubicBezTo>
                  <a:pt x="74054" y="60000"/>
                  <a:pt x="74054" y="56186"/>
                  <a:pt x="71340" y="56186"/>
                </a:cubicBezTo>
                <a:close/>
                <a:moveTo>
                  <a:pt x="85492" y="26186"/>
                </a:moveTo>
                <a:lnTo>
                  <a:pt x="85492" y="26186"/>
                </a:lnTo>
                <a:cubicBezTo>
                  <a:pt x="79870" y="11186"/>
                  <a:pt x="68432" y="0"/>
                  <a:pt x="56995" y="0"/>
                </a:cubicBezTo>
                <a:cubicBezTo>
                  <a:pt x="37027" y="0"/>
                  <a:pt x="22875" y="18813"/>
                  <a:pt x="22875" y="41186"/>
                </a:cubicBezTo>
                <a:cubicBezTo>
                  <a:pt x="8529" y="48813"/>
                  <a:pt x="0" y="63813"/>
                  <a:pt x="0" y="82372"/>
                </a:cubicBezTo>
                <a:cubicBezTo>
                  <a:pt x="0" y="101186"/>
                  <a:pt x="11437" y="119745"/>
                  <a:pt x="28497" y="119745"/>
                </a:cubicBezTo>
                <a:lnTo>
                  <a:pt x="82778" y="119745"/>
                </a:lnTo>
                <a:cubicBezTo>
                  <a:pt x="102746" y="119745"/>
                  <a:pt x="119806" y="101186"/>
                  <a:pt x="119806" y="75000"/>
                </a:cubicBezTo>
                <a:cubicBezTo>
                  <a:pt x="119806" y="48813"/>
                  <a:pt x="105460" y="26186"/>
                  <a:pt x="85492" y="26186"/>
                </a:cubicBezTo>
                <a:close/>
                <a:moveTo>
                  <a:pt x="82778" y="112372"/>
                </a:moveTo>
                <a:lnTo>
                  <a:pt x="82778" y="112372"/>
                </a:lnTo>
                <a:lnTo>
                  <a:pt x="28497" y="112372"/>
                </a:lnTo>
                <a:cubicBezTo>
                  <a:pt x="28497" y="112372"/>
                  <a:pt x="5621" y="108559"/>
                  <a:pt x="5621" y="82372"/>
                </a:cubicBezTo>
                <a:cubicBezTo>
                  <a:pt x="5621" y="67372"/>
                  <a:pt x="17059" y="52372"/>
                  <a:pt x="28497" y="52372"/>
                </a:cubicBezTo>
                <a:cubicBezTo>
                  <a:pt x="28497" y="30000"/>
                  <a:pt x="39935" y="11186"/>
                  <a:pt x="56995" y="11186"/>
                </a:cubicBezTo>
                <a:cubicBezTo>
                  <a:pt x="68432" y="11186"/>
                  <a:pt x="76962" y="22627"/>
                  <a:pt x="79870" y="37627"/>
                </a:cubicBezTo>
                <a:cubicBezTo>
                  <a:pt x="99838" y="33813"/>
                  <a:pt x="111276" y="56186"/>
                  <a:pt x="114184" y="71186"/>
                </a:cubicBezTo>
                <a:cubicBezTo>
                  <a:pt x="114184" y="93813"/>
                  <a:pt x="96930" y="112372"/>
                  <a:pt x="82778" y="11237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1" name="Shape 4664"/>
          <p:cNvSpPr/>
          <p:nvPr/>
        </p:nvSpPr>
        <p:spPr>
          <a:xfrm>
            <a:off x="5440320" y="5541840"/>
            <a:ext cx="297000" cy="227160"/>
          </a:xfrm>
          <a:custGeom>
            <a:avLst/>
            <a:gdLst>
              <a:gd name="textAreaLeft" fmla="*/ 0 w 297000"/>
              <a:gd name="textAreaRight" fmla="*/ 297360 w 297000"/>
              <a:gd name="textAreaTop" fmla="*/ 0 h 227160"/>
              <a:gd name="textAreaBottom" fmla="*/ 227520 h 227160"/>
            </a:gdLst>
            <a:ahLst/>
            <a:rect l="textAreaLeft" t="textAreaTop" r="textAreaRight" b="textAreaBottom"/>
            <a:pathLst>
              <a:path w="120000" h="120000">
                <a:moveTo>
                  <a:pt x="85492" y="26186"/>
                </a:moveTo>
                <a:lnTo>
                  <a:pt x="85492" y="26186"/>
                </a:lnTo>
                <a:cubicBezTo>
                  <a:pt x="79870" y="11186"/>
                  <a:pt x="68432" y="0"/>
                  <a:pt x="56995" y="0"/>
                </a:cubicBezTo>
                <a:cubicBezTo>
                  <a:pt x="37027" y="0"/>
                  <a:pt x="22875" y="18813"/>
                  <a:pt x="22875" y="41186"/>
                </a:cubicBezTo>
                <a:cubicBezTo>
                  <a:pt x="8529" y="48813"/>
                  <a:pt x="0" y="63813"/>
                  <a:pt x="0" y="82372"/>
                </a:cubicBezTo>
                <a:cubicBezTo>
                  <a:pt x="0" y="101186"/>
                  <a:pt x="11437" y="119745"/>
                  <a:pt x="28497" y="119745"/>
                </a:cubicBezTo>
                <a:lnTo>
                  <a:pt x="82778" y="119745"/>
                </a:lnTo>
                <a:cubicBezTo>
                  <a:pt x="102746" y="119745"/>
                  <a:pt x="119806" y="101186"/>
                  <a:pt x="119806" y="74745"/>
                </a:cubicBezTo>
                <a:cubicBezTo>
                  <a:pt x="119806" y="48813"/>
                  <a:pt x="105654" y="26186"/>
                  <a:pt x="85492" y="26186"/>
                </a:cubicBezTo>
                <a:close/>
                <a:moveTo>
                  <a:pt x="82778" y="112372"/>
                </a:moveTo>
                <a:lnTo>
                  <a:pt x="82778" y="112372"/>
                </a:lnTo>
                <a:lnTo>
                  <a:pt x="28497" y="112372"/>
                </a:lnTo>
                <a:cubicBezTo>
                  <a:pt x="28497" y="112372"/>
                  <a:pt x="5621" y="108559"/>
                  <a:pt x="5621" y="82372"/>
                </a:cubicBezTo>
                <a:cubicBezTo>
                  <a:pt x="5621" y="67372"/>
                  <a:pt x="17059" y="52372"/>
                  <a:pt x="28497" y="52372"/>
                </a:cubicBezTo>
                <a:cubicBezTo>
                  <a:pt x="28497" y="30000"/>
                  <a:pt x="39935" y="11186"/>
                  <a:pt x="56995" y="11186"/>
                </a:cubicBezTo>
                <a:cubicBezTo>
                  <a:pt x="68432" y="11186"/>
                  <a:pt x="77156" y="22627"/>
                  <a:pt x="79870" y="37372"/>
                </a:cubicBezTo>
                <a:cubicBezTo>
                  <a:pt x="99838" y="33813"/>
                  <a:pt x="111276" y="56186"/>
                  <a:pt x="114184" y="71186"/>
                </a:cubicBezTo>
                <a:cubicBezTo>
                  <a:pt x="114184" y="93559"/>
                  <a:pt x="96930" y="112372"/>
                  <a:pt x="82778" y="11237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2" name="Shape 4666"/>
          <p:cNvSpPr/>
          <p:nvPr/>
        </p:nvSpPr>
        <p:spPr>
          <a:xfrm>
            <a:off x="4467240" y="5508720"/>
            <a:ext cx="268200" cy="304560"/>
          </a:xfrm>
          <a:custGeom>
            <a:avLst/>
            <a:gdLst>
              <a:gd name="textAreaLeft" fmla="*/ 0 w 268200"/>
              <a:gd name="textAreaRight" fmla="*/ 268560 w 268200"/>
              <a:gd name="textAreaTop" fmla="*/ 0 h 304560"/>
              <a:gd name="textAreaBottom" fmla="*/ 304920 h 304560"/>
            </a:gdLst>
            <a:ahLst/>
            <a:rect l="textAreaLeft" t="textAreaTop" r="textAreaRight" b="textAreaBottom"/>
            <a:pathLst>
              <a:path w="120000" h="120000">
                <a:moveTo>
                  <a:pt x="100748" y="0"/>
                </a:moveTo>
                <a:lnTo>
                  <a:pt x="100748" y="0"/>
                </a:lnTo>
                <a:cubicBezTo>
                  <a:pt x="19037" y="0"/>
                  <a:pt x="19037" y="0"/>
                  <a:pt x="19037" y="0"/>
                </a:cubicBezTo>
                <a:cubicBezTo>
                  <a:pt x="9411" y="0"/>
                  <a:pt x="0" y="5669"/>
                  <a:pt x="0" y="13984"/>
                </a:cubicBezTo>
                <a:cubicBezTo>
                  <a:pt x="0" y="119811"/>
                  <a:pt x="0" y="119811"/>
                  <a:pt x="0" y="119811"/>
                </a:cubicBezTo>
                <a:cubicBezTo>
                  <a:pt x="9411" y="119811"/>
                  <a:pt x="9411" y="119811"/>
                  <a:pt x="9411" y="119811"/>
                </a:cubicBezTo>
                <a:cubicBezTo>
                  <a:pt x="25240" y="108661"/>
                  <a:pt x="25240" y="108661"/>
                  <a:pt x="25240" y="108661"/>
                </a:cubicBezTo>
                <a:cubicBezTo>
                  <a:pt x="44278" y="119811"/>
                  <a:pt x="44278" y="119811"/>
                  <a:pt x="44278" y="119811"/>
                </a:cubicBezTo>
                <a:cubicBezTo>
                  <a:pt x="59893" y="108661"/>
                  <a:pt x="59893" y="108661"/>
                  <a:pt x="59893" y="108661"/>
                </a:cubicBezTo>
                <a:cubicBezTo>
                  <a:pt x="75721" y="119811"/>
                  <a:pt x="75721" y="119811"/>
                  <a:pt x="75721" y="119811"/>
                </a:cubicBezTo>
                <a:cubicBezTo>
                  <a:pt x="94545" y="108661"/>
                  <a:pt x="94545" y="108661"/>
                  <a:pt x="94545" y="108661"/>
                </a:cubicBezTo>
                <a:cubicBezTo>
                  <a:pt x="110374" y="119811"/>
                  <a:pt x="110374" y="119811"/>
                  <a:pt x="110374" y="119811"/>
                </a:cubicBezTo>
                <a:cubicBezTo>
                  <a:pt x="119786" y="119811"/>
                  <a:pt x="119786" y="119811"/>
                  <a:pt x="119786" y="119811"/>
                </a:cubicBezTo>
                <a:cubicBezTo>
                  <a:pt x="119786" y="13984"/>
                  <a:pt x="119786" y="13984"/>
                  <a:pt x="119786" y="13984"/>
                </a:cubicBezTo>
                <a:cubicBezTo>
                  <a:pt x="119786" y="5669"/>
                  <a:pt x="110374" y="0"/>
                  <a:pt x="100748" y="0"/>
                </a:cubicBezTo>
                <a:close/>
                <a:moveTo>
                  <a:pt x="110374" y="111307"/>
                </a:moveTo>
                <a:lnTo>
                  <a:pt x="110374" y="111307"/>
                </a:lnTo>
                <a:cubicBezTo>
                  <a:pt x="94545" y="100157"/>
                  <a:pt x="94545" y="100157"/>
                  <a:pt x="94545" y="100157"/>
                </a:cubicBezTo>
                <a:cubicBezTo>
                  <a:pt x="75721" y="111307"/>
                  <a:pt x="75721" y="111307"/>
                  <a:pt x="75721" y="111307"/>
                </a:cubicBezTo>
                <a:cubicBezTo>
                  <a:pt x="59893" y="100157"/>
                  <a:pt x="59893" y="100157"/>
                  <a:pt x="59893" y="100157"/>
                </a:cubicBezTo>
                <a:cubicBezTo>
                  <a:pt x="44278" y="111307"/>
                  <a:pt x="44278" y="111307"/>
                  <a:pt x="44278" y="111307"/>
                </a:cubicBezTo>
                <a:cubicBezTo>
                  <a:pt x="25240" y="100157"/>
                  <a:pt x="25240" y="100157"/>
                  <a:pt x="25240" y="100157"/>
                </a:cubicBezTo>
                <a:cubicBezTo>
                  <a:pt x="9411" y="111307"/>
                  <a:pt x="9411" y="111307"/>
                  <a:pt x="9411" y="111307"/>
                </a:cubicBezTo>
                <a:cubicBezTo>
                  <a:pt x="9411" y="13984"/>
                  <a:pt x="9411" y="13984"/>
                  <a:pt x="9411" y="13984"/>
                </a:cubicBezTo>
                <a:cubicBezTo>
                  <a:pt x="9411" y="11149"/>
                  <a:pt x="12620" y="8503"/>
                  <a:pt x="19037" y="8503"/>
                </a:cubicBezTo>
                <a:cubicBezTo>
                  <a:pt x="100748" y="8503"/>
                  <a:pt x="100748" y="8503"/>
                  <a:pt x="100748" y="8503"/>
                </a:cubicBezTo>
                <a:cubicBezTo>
                  <a:pt x="107165" y="8503"/>
                  <a:pt x="110374" y="11149"/>
                  <a:pt x="110374" y="13984"/>
                </a:cubicBezTo>
                <a:lnTo>
                  <a:pt x="110374" y="111307"/>
                </a:lnTo>
                <a:close/>
                <a:moveTo>
                  <a:pt x="88128" y="66897"/>
                </a:moveTo>
                <a:lnTo>
                  <a:pt x="88128" y="66897"/>
                </a:lnTo>
                <a:cubicBezTo>
                  <a:pt x="31657" y="66897"/>
                  <a:pt x="31657" y="66897"/>
                  <a:pt x="31657" y="66897"/>
                </a:cubicBezTo>
                <a:cubicBezTo>
                  <a:pt x="28449" y="66897"/>
                  <a:pt x="25240" y="69543"/>
                  <a:pt x="25240" y="69543"/>
                </a:cubicBezTo>
                <a:cubicBezTo>
                  <a:pt x="25240" y="72377"/>
                  <a:pt x="28449" y="75212"/>
                  <a:pt x="31657" y="75212"/>
                </a:cubicBezTo>
                <a:cubicBezTo>
                  <a:pt x="88128" y="75212"/>
                  <a:pt x="88128" y="75212"/>
                  <a:pt x="88128" y="75212"/>
                </a:cubicBezTo>
                <a:cubicBezTo>
                  <a:pt x="91336" y="75212"/>
                  <a:pt x="94545" y="72377"/>
                  <a:pt x="94545" y="69543"/>
                </a:cubicBezTo>
                <a:cubicBezTo>
                  <a:pt x="94545" y="69543"/>
                  <a:pt x="91336" y="66897"/>
                  <a:pt x="88128" y="66897"/>
                </a:cubicBezTo>
                <a:close/>
                <a:moveTo>
                  <a:pt x="88128" y="44598"/>
                </a:moveTo>
                <a:lnTo>
                  <a:pt x="88128" y="44598"/>
                </a:lnTo>
                <a:cubicBezTo>
                  <a:pt x="31657" y="44598"/>
                  <a:pt x="31657" y="44598"/>
                  <a:pt x="31657" y="44598"/>
                </a:cubicBezTo>
                <a:cubicBezTo>
                  <a:pt x="28449" y="44598"/>
                  <a:pt x="25240" y="47433"/>
                  <a:pt x="25240" y="47433"/>
                </a:cubicBezTo>
                <a:cubicBezTo>
                  <a:pt x="25240" y="50267"/>
                  <a:pt x="28449" y="52913"/>
                  <a:pt x="31657" y="52913"/>
                </a:cubicBezTo>
                <a:cubicBezTo>
                  <a:pt x="88128" y="52913"/>
                  <a:pt x="88128" y="52913"/>
                  <a:pt x="88128" y="52913"/>
                </a:cubicBezTo>
                <a:cubicBezTo>
                  <a:pt x="91336" y="52913"/>
                  <a:pt x="94545" y="50267"/>
                  <a:pt x="94545" y="47433"/>
                </a:cubicBezTo>
                <a:cubicBezTo>
                  <a:pt x="94545" y="47433"/>
                  <a:pt x="91336" y="44598"/>
                  <a:pt x="88128" y="44598"/>
                </a:cubicBezTo>
                <a:close/>
                <a:moveTo>
                  <a:pt x="88128" y="22299"/>
                </a:moveTo>
                <a:lnTo>
                  <a:pt x="88128" y="22299"/>
                </a:lnTo>
                <a:cubicBezTo>
                  <a:pt x="31657" y="22299"/>
                  <a:pt x="31657" y="22299"/>
                  <a:pt x="31657" y="22299"/>
                </a:cubicBezTo>
                <a:cubicBezTo>
                  <a:pt x="28449" y="22299"/>
                  <a:pt x="25240" y="25133"/>
                  <a:pt x="25240" y="25133"/>
                </a:cubicBezTo>
                <a:cubicBezTo>
                  <a:pt x="25240" y="27968"/>
                  <a:pt x="28449" y="30803"/>
                  <a:pt x="31657" y="30803"/>
                </a:cubicBezTo>
                <a:cubicBezTo>
                  <a:pt x="88128" y="30803"/>
                  <a:pt x="88128" y="30803"/>
                  <a:pt x="88128" y="30803"/>
                </a:cubicBezTo>
                <a:cubicBezTo>
                  <a:pt x="91336" y="30803"/>
                  <a:pt x="94545" y="27968"/>
                  <a:pt x="94545" y="25133"/>
                </a:cubicBezTo>
                <a:cubicBezTo>
                  <a:pt x="94545" y="25133"/>
                  <a:pt x="91336" y="22299"/>
                  <a:pt x="88128" y="2229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3" name="Shape 4668"/>
          <p:cNvSpPr/>
          <p:nvPr/>
        </p:nvSpPr>
        <p:spPr>
          <a:xfrm>
            <a:off x="3519360" y="5508720"/>
            <a:ext cx="204840" cy="304560"/>
          </a:xfrm>
          <a:custGeom>
            <a:avLst/>
            <a:gdLst>
              <a:gd name="textAreaLeft" fmla="*/ 0 w 204840"/>
              <a:gd name="textAreaRight" fmla="*/ 205200 w 204840"/>
              <a:gd name="textAreaTop" fmla="*/ 0 h 304560"/>
              <a:gd name="textAreaBottom" fmla="*/ 304920 h 304560"/>
            </a:gdLst>
            <a:ahLst/>
            <a:rect l="textAreaLeft" t="textAreaTop" r="textAreaRight" b="textAreaBottom"/>
            <a:pathLst>
              <a:path w="120000" h="120000">
                <a:moveTo>
                  <a:pt x="115514" y="36283"/>
                </a:moveTo>
                <a:lnTo>
                  <a:pt x="115514" y="36283"/>
                </a:lnTo>
                <a:cubicBezTo>
                  <a:pt x="65887" y="2834"/>
                  <a:pt x="65887" y="2834"/>
                  <a:pt x="65887" y="2834"/>
                </a:cubicBezTo>
                <a:cubicBezTo>
                  <a:pt x="61962" y="0"/>
                  <a:pt x="53551" y="0"/>
                  <a:pt x="49345" y="2834"/>
                </a:cubicBezTo>
                <a:cubicBezTo>
                  <a:pt x="0" y="36283"/>
                  <a:pt x="0" y="36283"/>
                  <a:pt x="0" y="36283"/>
                </a:cubicBezTo>
                <a:cubicBezTo>
                  <a:pt x="0" y="39118"/>
                  <a:pt x="0" y="39118"/>
                  <a:pt x="0" y="41763"/>
                </a:cubicBezTo>
                <a:lnTo>
                  <a:pt x="0" y="41763"/>
                </a:lnTo>
                <a:cubicBezTo>
                  <a:pt x="0" y="102992"/>
                  <a:pt x="0" y="102992"/>
                  <a:pt x="0" y="102992"/>
                </a:cubicBezTo>
                <a:cubicBezTo>
                  <a:pt x="0" y="111307"/>
                  <a:pt x="8130" y="119811"/>
                  <a:pt x="20467" y="119811"/>
                </a:cubicBezTo>
                <a:cubicBezTo>
                  <a:pt x="98971" y="119811"/>
                  <a:pt x="98971" y="119811"/>
                  <a:pt x="98971" y="119811"/>
                </a:cubicBezTo>
                <a:cubicBezTo>
                  <a:pt x="107102" y="119811"/>
                  <a:pt x="119719" y="111307"/>
                  <a:pt x="119719" y="102992"/>
                </a:cubicBezTo>
                <a:cubicBezTo>
                  <a:pt x="119719" y="47433"/>
                  <a:pt x="119719" y="47433"/>
                  <a:pt x="119719" y="47433"/>
                </a:cubicBezTo>
                <a:cubicBezTo>
                  <a:pt x="119719" y="41763"/>
                  <a:pt x="119719" y="39118"/>
                  <a:pt x="115514" y="36283"/>
                </a:cubicBezTo>
                <a:close/>
                <a:moveTo>
                  <a:pt x="107102" y="102992"/>
                </a:moveTo>
                <a:lnTo>
                  <a:pt x="107102" y="102992"/>
                </a:lnTo>
                <a:cubicBezTo>
                  <a:pt x="107102" y="108661"/>
                  <a:pt x="103177" y="111307"/>
                  <a:pt x="98971" y="111307"/>
                </a:cubicBezTo>
                <a:cubicBezTo>
                  <a:pt x="20467" y="111307"/>
                  <a:pt x="20467" y="111307"/>
                  <a:pt x="20467" y="111307"/>
                </a:cubicBezTo>
                <a:cubicBezTo>
                  <a:pt x="16542" y="111307"/>
                  <a:pt x="8130" y="108661"/>
                  <a:pt x="8130" y="102992"/>
                </a:cubicBezTo>
                <a:cubicBezTo>
                  <a:pt x="8130" y="44598"/>
                  <a:pt x="8130" y="44598"/>
                  <a:pt x="8130" y="44598"/>
                </a:cubicBezTo>
                <a:cubicBezTo>
                  <a:pt x="8130" y="41763"/>
                  <a:pt x="8130" y="41763"/>
                  <a:pt x="12336" y="39118"/>
                </a:cubicBezTo>
                <a:cubicBezTo>
                  <a:pt x="53551" y="8503"/>
                  <a:pt x="53551" y="8503"/>
                  <a:pt x="53551" y="8503"/>
                </a:cubicBezTo>
                <a:cubicBezTo>
                  <a:pt x="57757" y="8503"/>
                  <a:pt x="61962" y="8503"/>
                  <a:pt x="61962" y="8503"/>
                </a:cubicBezTo>
                <a:cubicBezTo>
                  <a:pt x="103177" y="39118"/>
                  <a:pt x="103177" y="39118"/>
                  <a:pt x="103177" y="39118"/>
                </a:cubicBezTo>
                <a:cubicBezTo>
                  <a:pt x="107102" y="41763"/>
                  <a:pt x="107102" y="41763"/>
                  <a:pt x="107102" y="44598"/>
                </a:cubicBezTo>
                <a:lnTo>
                  <a:pt x="107102" y="102992"/>
                </a:lnTo>
                <a:close/>
                <a:moveTo>
                  <a:pt x="57757" y="30803"/>
                </a:moveTo>
                <a:lnTo>
                  <a:pt x="57757" y="30803"/>
                </a:lnTo>
                <a:cubicBezTo>
                  <a:pt x="45420" y="30803"/>
                  <a:pt x="37009" y="39118"/>
                  <a:pt x="37009" y="47433"/>
                </a:cubicBezTo>
                <a:cubicBezTo>
                  <a:pt x="37009" y="55748"/>
                  <a:pt x="45420" y="61417"/>
                  <a:pt x="57757" y="61417"/>
                </a:cubicBezTo>
                <a:cubicBezTo>
                  <a:pt x="70093" y="61417"/>
                  <a:pt x="82429" y="55748"/>
                  <a:pt x="82429" y="47433"/>
                </a:cubicBezTo>
                <a:cubicBezTo>
                  <a:pt x="82429" y="39118"/>
                  <a:pt x="70093" y="30803"/>
                  <a:pt x="57757" y="30803"/>
                </a:cubicBezTo>
                <a:close/>
                <a:moveTo>
                  <a:pt x="57757" y="52913"/>
                </a:moveTo>
                <a:lnTo>
                  <a:pt x="57757" y="52913"/>
                </a:lnTo>
                <a:cubicBezTo>
                  <a:pt x="53551" y="52913"/>
                  <a:pt x="49345" y="50267"/>
                  <a:pt x="49345" y="47433"/>
                </a:cubicBezTo>
                <a:cubicBezTo>
                  <a:pt x="49345" y="41763"/>
                  <a:pt x="53551" y="39118"/>
                  <a:pt x="57757" y="39118"/>
                </a:cubicBezTo>
                <a:cubicBezTo>
                  <a:pt x="65887" y="39118"/>
                  <a:pt x="70093" y="41763"/>
                  <a:pt x="70093" y="47433"/>
                </a:cubicBezTo>
                <a:cubicBezTo>
                  <a:pt x="70093" y="50267"/>
                  <a:pt x="65887" y="52913"/>
                  <a:pt x="57757" y="5291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4" name="Shape 4670"/>
          <p:cNvSpPr/>
          <p:nvPr/>
        </p:nvSpPr>
        <p:spPr>
          <a:xfrm>
            <a:off x="2484360" y="5508720"/>
            <a:ext cx="304920" cy="304560"/>
          </a:xfrm>
          <a:custGeom>
            <a:avLst/>
            <a:gdLst>
              <a:gd name="textAreaLeft" fmla="*/ 0 w 304920"/>
              <a:gd name="textAreaRight" fmla="*/ 305280 w 304920"/>
              <a:gd name="textAreaTop" fmla="*/ 0 h 304560"/>
              <a:gd name="textAreaBottom" fmla="*/ 304920 h 304560"/>
            </a:gdLst>
            <a:ahLst/>
            <a:rect l="textAreaLeft" t="textAreaTop" r="textAreaRight" b="textAreaBottom"/>
            <a:pathLst>
              <a:path w="120000" h="120000">
                <a:moveTo>
                  <a:pt x="64164" y="30803"/>
                </a:moveTo>
                <a:lnTo>
                  <a:pt x="64164" y="30803"/>
                </a:lnTo>
                <a:cubicBezTo>
                  <a:pt x="61324" y="30803"/>
                  <a:pt x="61324" y="30803"/>
                  <a:pt x="61324" y="30803"/>
                </a:cubicBezTo>
                <a:cubicBezTo>
                  <a:pt x="58675" y="30803"/>
                  <a:pt x="58675" y="30803"/>
                  <a:pt x="58675" y="30803"/>
                </a:cubicBezTo>
                <a:cubicBezTo>
                  <a:pt x="39179" y="52913"/>
                  <a:pt x="39179" y="52913"/>
                  <a:pt x="39179" y="52913"/>
                </a:cubicBezTo>
                <a:cubicBezTo>
                  <a:pt x="39179" y="55748"/>
                  <a:pt x="39179" y="55748"/>
                  <a:pt x="39179" y="58582"/>
                </a:cubicBezTo>
                <a:cubicBezTo>
                  <a:pt x="41829" y="58582"/>
                  <a:pt x="41829" y="58582"/>
                  <a:pt x="44668" y="58582"/>
                </a:cubicBezTo>
                <a:cubicBezTo>
                  <a:pt x="55835" y="44598"/>
                  <a:pt x="55835" y="44598"/>
                  <a:pt x="55835" y="44598"/>
                </a:cubicBezTo>
                <a:cubicBezTo>
                  <a:pt x="55835" y="100157"/>
                  <a:pt x="55835" y="100157"/>
                  <a:pt x="55835" y="100157"/>
                </a:cubicBezTo>
                <a:cubicBezTo>
                  <a:pt x="55835" y="102992"/>
                  <a:pt x="58675" y="102992"/>
                  <a:pt x="61324" y="102992"/>
                </a:cubicBezTo>
                <a:cubicBezTo>
                  <a:pt x="61324" y="102992"/>
                  <a:pt x="64164" y="102992"/>
                  <a:pt x="64164" y="100157"/>
                </a:cubicBezTo>
                <a:cubicBezTo>
                  <a:pt x="64164" y="44598"/>
                  <a:pt x="64164" y="44598"/>
                  <a:pt x="64164" y="44598"/>
                </a:cubicBezTo>
                <a:cubicBezTo>
                  <a:pt x="75331" y="58582"/>
                  <a:pt x="75331" y="58582"/>
                  <a:pt x="75331" y="58582"/>
                </a:cubicBezTo>
                <a:cubicBezTo>
                  <a:pt x="77981" y="58582"/>
                  <a:pt x="80820" y="58582"/>
                  <a:pt x="80820" y="58582"/>
                </a:cubicBezTo>
                <a:cubicBezTo>
                  <a:pt x="83659" y="55748"/>
                  <a:pt x="83659" y="55748"/>
                  <a:pt x="80820" y="52913"/>
                </a:cubicBezTo>
                <a:lnTo>
                  <a:pt x="64164" y="30803"/>
                </a:lnTo>
                <a:close/>
                <a:moveTo>
                  <a:pt x="105993" y="0"/>
                </a:moveTo>
                <a:lnTo>
                  <a:pt x="105993" y="0"/>
                </a:lnTo>
                <a:cubicBezTo>
                  <a:pt x="16845" y="0"/>
                  <a:pt x="16845" y="0"/>
                  <a:pt x="16845" y="0"/>
                </a:cubicBezTo>
                <a:cubicBezTo>
                  <a:pt x="8328" y="0"/>
                  <a:pt x="0" y="5669"/>
                  <a:pt x="0" y="13984"/>
                </a:cubicBezTo>
                <a:cubicBezTo>
                  <a:pt x="0" y="102992"/>
                  <a:pt x="0" y="102992"/>
                  <a:pt x="0" y="102992"/>
                </a:cubicBezTo>
                <a:cubicBezTo>
                  <a:pt x="0" y="111307"/>
                  <a:pt x="8328" y="119811"/>
                  <a:pt x="16845" y="119811"/>
                </a:cubicBezTo>
                <a:cubicBezTo>
                  <a:pt x="105993" y="119811"/>
                  <a:pt x="105993" y="119811"/>
                  <a:pt x="105993" y="119811"/>
                </a:cubicBezTo>
                <a:cubicBezTo>
                  <a:pt x="114321" y="119811"/>
                  <a:pt x="119810" y="111307"/>
                  <a:pt x="119810" y="102992"/>
                </a:cubicBezTo>
                <a:cubicBezTo>
                  <a:pt x="119810" y="13984"/>
                  <a:pt x="119810" y="13984"/>
                  <a:pt x="119810" y="13984"/>
                </a:cubicBezTo>
                <a:cubicBezTo>
                  <a:pt x="119810" y="5669"/>
                  <a:pt x="114321" y="0"/>
                  <a:pt x="105993" y="0"/>
                </a:cubicBezTo>
                <a:close/>
                <a:moveTo>
                  <a:pt x="111482" y="102992"/>
                </a:moveTo>
                <a:lnTo>
                  <a:pt x="111482" y="102992"/>
                </a:lnTo>
                <a:cubicBezTo>
                  <a:pt x="111482" y="108661"/>
                  <a:pt x="108643" y="111307"/>
                  <a:pt x="105993" y="111307"/>
                </a:cubicBezTo>
                <a:cubicBezTo>
                  <a:pt x="16845" y="111307"/>
                  <a:pt x="16845" y="111307"/>
                  <a:pt x="16845" y="111307"/>
                </a:cubicBezTo>
                <a:cubicBezTo>
                  <a:pt x="11167" y="111307"/>
                  <a:pt x="8328" y="108661"/>
                  <a:pt x="8328" y="102992"/>
                </a:cubicBezTo>
                <a:cubicBezTo>
                  <a:pt x="8328" y="13984"/>
                  <a:pt x="8328" y="13984"/>
                  <a:pt x="8328" y="13984"/>
                </a:cubicBezTo>
                <a:cubicBezTo>
                  <a:pt x="8328" y="11149"/>
                  <a:pt x="11167" y="8503"/>
                  <a:pt x="16845" y="8503"/>
                </a:cubicBezTo>
                <a:cubicBezTo>
                  <a:pt x="105993" y="8503"/>
                  <a:pt x="105993" y="8503"/>
                  <a:pt x="105993" y="8503"/>
                </a:cubicBezTo>
                <a:cubicBezTo>
                  <a:pt x="108643" y="8503"/>
                  <a:pt x="111482" y="11149"/>
                  <a:pt x="111482" y="13984"/>
                </a:cubicBezTo>
                <a:lnTo>
                  <a:pt x="111482" y="102992"/>
                </a:lnTo>
                <a:close/>
                <a:moveTo>
                  <a:pt x="94826" y="13984"/>
                </a:moveTo>
                <a:lnTo>
                  <a:pt x="94826" y="13984"/>
                </a:lnTo>
                <a:cubicBezTo>
                  <a:pt x="28012" y="13984"/>
                  <a:pt x="28012" y="13984"/>
                  <a:pt x="28012" y="13984"/>
                </a:cubicBezTo>
                <a:cubicBezTo>
                  <a:pt x="25173" y="13984"/>
                  <a:pt x="22334" y="16818"/>
                  <a:pt x="22334" y="19653"/>
                </a:cubicBezTo>
                <a:cubicBezTo>
                  <a:pt x="22334" y="19653"/>
                  <a:pt x="25173" y="22299"/>
                  <a:pt x="28012" y="22299"/>
                </a:cubicBezTo>
                <a:cubicBezTo>
                  <a:pt x="94826" y="22299"/>
                  <a:pt x="94826" y="22299"/>
                  <a:pt x="94826" y="22299"/>
                </a:cubicBezTo>
                <a:lnTo>
                  <a:pt x="97665" y="19653"/>
                </a:lnTo>
                <a:cubicBezTo>
                  <a:pt x="97665" y="16818"/>
                  <a:pt x="94826" y="13984"/>
                  <a:pt x="94826" y="1398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5" name="Shape 4672"/>
          <p:cNvSpPr/>
          <p:nvPr/>
        </p:nvSpPr>
        <p:spPr>
          <a:xfrm>
            <a:off x="1509840" y="5508720"/>
            <a:ext cx="295200" cy="304560"/>
          </a:xfrm>
          <a:custGeom>
            <a:avLst/>
            <a:gdLst>
              <a:gd name="textAreaLeft" fmla="*/ 0 w 295200"/>
              <a:gd name="textAreaRight" fmla="*/ 295560 w 295200"/>
              <a:gd name="textAreaTop" fmla="*/ 0 h 304560"/>
              <a:gd name="textAreaBottom" fmla="*/ 304920 h 304560"/>
            </a:gdLst>
            <a:ahLst/>
            <a:rect l="textAreaLeft" t="textAreaTop" r="textAreaRight" b="textAreaBottom"/>
            <a:pathLst>
              <a:path w="120000" h="120000">
                <a:moveTo>
                  <a:pt x="114184" y="22299"/>
                </a:moveTo>
                <a:lnTo>
                  <a:pt x="114184" y="22299"/>
                </a:lnTo>
                <a:cubicBezTo>
                  <a:pt x="85492" y="22299"/>
                  <a:pt x="85492" y="22299"/>
                  <a:pt x="85492" y="22299"/>
                </a:cubicBezTo>
                <a:cubicBezTo>
                  <a:pt x="85492" y="19653"/>
                  <a:pt x="85492" y="16818"/>
                  <a:pt x="85492" y="13984"/>
                </a:cubicBezTo>
                <a:cubicBezTo>
                  <a:pt x="85492" y="5669"/>
                  <a:pt x="79870" y="0"/>
                  <a:pt x="71340" y="0"/>
                </a:cubicBezTo>
                <a:cubicBezTo>
                  <a:pt x="65718" y="0"/>
                  <a:pt x="62810" y="2834"/>
                  <a:pt x="59903" y="5669"/>
                </a:cubicBezTo>
                <a:cubicBezTo>
                  <a:pt x="56995" y="2834"/>
                  <a:pt x="54281" y="0"/>
                  <a:pt x="48465" y="0"/>
                </a:cubicBezTo>
                <a:cubicBezTo>
                  <a:pt x="39935" y="0"/>
                  <a:pt x="34313" y="5669"/>
                  <a:pt x="34313" y="13984"/>
                </a:cubicBezTo>
                <a:cubicBezTo>
                  <a:pt x="34313" y="16818"/>
                  <a:pt x="34313" y="19653"/>
                  <a:pt x="34313" y="22299"/>
                </a:cubicBezTo>
                <a:cubicBezTo>
                  <a:pt x="5621" y="22299"/>
                  <a:pt x="5621" y="22299"/>
                  <a:pt x="5621" y="22299"/>
                </a:cubicBezTo>
                <a:cubicBezTo>
                  <a:pt x="2907" y="22299"/>
                  <a:pt x="0" y="25133"/>
                  <a:pt x="0" y="30803"/>
                </a:cubicBezTo>
                <a:cubicBezTo>
                  <a:pt x="0" y="36283"/>
                  <a:pt x="0" y="36283"/>
                  <a:pt x="0" y="36283"/>
                </a:cubicBezTo>
                <a:cubicBezTo>
                  <a:pt x="0" y="41763"/>
                  <a:pt x="2907" y="44598"/>
                  <a:pt x="5621" y="44598"/>
                </a:cubicBezTo>
                <a:cubicBezTo>
                  <a:pt x="5621" y="102992"/>
                  <a:pt x="5621" y="102992"/>
                  <a:pt x="5621" y="102992"/>
                </a:cubicBezTo>
                <a:cubicBezTo>
                  <a:pt x="5621" y="111307"/>
                  <a:pt x="14151" y="119811"/>
                  <a:pt x="22875" y="119811"/>
                </a:cubicBezTo>
                <a:cubicBezTo>
                  <a:pt x="96930" y="119811"/>
                  <a:pt x="96930" y="119811"/>
                  <a:pt x="96930" y="119811"/>
                </a:cubicBezTo>
                <a:cubicBezTo>
                  <a:pt x="105460" y="119811"/>
                  <a:pt x="114184" y="111307"/>
                  <a:pt x="114184" y="102992"/>
                </a:cubicBezTo>
                <a:cubicBezTo>
                  <a:pt x="114184" y="44598"/>
                  <a:pt x="114184" y="44598"/>
                  <a:pt x="114184" y="44598"/>
                </a:cubicBezTo>
                <a:cubicBezTo>
                  <a:pt x="116898" y="44598"/>
                  <a:pt x="119806" y="41763"/>
                  <a:pt x="119806" y="36283"/>
                </a:cubicBezTo>
                <a:cubicBezTo>
                  <a:pt x="119806" y="30803"/>
                  <a:pt x="119806" y="30803"/>
                  <a:pt x="119806" y="30803"/>
                </a:cubicBezTo>
                <a:cubicBezTo>
                  <a:pt x="119806" y="25133"/>
                  <a:pt x="116898" y="22299"/>
                  <a:pt x="114184" y="22299"/>
                </a:cubicBezTo>
                <a:close/>
                <a:moveTo>
                  <a:pt x="71340" y="8503"/>
                </a:moveTo>
                <a:lnTo>
                  <a:pt x="71340" y="8503"/>
                </a:lnTo>
                <a:cubicBezTo>
                  <a:pt x="74054" y="8503"/>
                  <a:pt x="79870" y="11149"/>
                  <a:pt x="79870" y="13984"/>
                </a:cubicBezTo>
                <a:cubicBezTo>
                  <a:pt x="79870" y="19653"/>
                  <a:pt x="74054" y="22299"/>
                  <a:pt x="71340" y="22299"/>
                </a:cubicBezTo>
                <a:cubicBezTo>
                  <a:pt x="68432" y="22299"/>
                  <a:pt x="62810" y="19653"/>
                  <a:pt x="62810" y="13984"/>
                </a:cubicBezTo>
                <a:cubicBezTo>
                  <a:pt x="62810" y="11149"/>
                  <a:pt x="68432" y="8503"/>
                  <a:pt x="71340" y="8503"/>
                </a:cubicBezTo>
                <a:close/>
                <a:moveTo>
                  <a:pt x="48465" y="8503"/>
                </a:moveTo>
                <a:lnTo>
                  <a:pt x="48465" y="8503"/>
                </a:lnTo>
                <a:cubicBezTo>
                  <a:pt x="51373" y="8503"/>
                  <a:pt x="56995" y="11149"/>
                  <a:pt x="56995" y="13984"/>
                </a:cubicBezTo>
                <a:cubicBezTo>
                  <a:pt x="56995" y="19653"/>
                  <a:pt x="51373" y="22299"/>
                  <a:pt x="48465" y="22299"/>
                </a:cubicBezTo>
                <a:cubicBezTo>
                  <a:pt x="45557" y="22299"/>
                  <a:pt x="39935" y="19653"/>
                  <a:pt x="39935" y="13984"/>
                </a:cubicBezTo>
                <a:cubicBezTo>
                  <a:pt x="39935" y="11149"/>
                  <a:pt x="45557" y="8503"/>
                  <a:pt x="48465" y="8503"/>
                </a:cubicBezTo>
                <a:close/>
                <a:moveTo>
                  <a:pt x="56995" y="111307"/>
                </a:moveTo>
                <a:lnTo>
                  <a:pt x="56995" y="111307"/>
                </a:lnTo>
                <a:cubicBezTo>
                  <a:pt x="22875" y="111307"/>
                  <a:pt x="22875" y="111307"/>
                  <a:pt x="22875" y="111307"/>
                </a:cubicBezTo>
                <a:cubicBezTo>
                  <a:pt x="17059" y="111307"/>
                  <a:pt x="14151" y="108661"/>
                  <a:pt x="14151" y="102992"/>
                </a:cubicBezTo>
                <a:cubicBezTo>
                  <a:pt x="14151" y="80692"/>
                  <a:pt x="14151" y="80692"/>
                  <a:pt x="14151" y="80692"/>
                </a:cubicBezTo>
                <a:cubicBezTo>
                  <a:pt x="56995" y="80692"/>
                  <a:pt x="56995" y="80692"/>
                  <a:pt x="56995" y="80692"/>
                </a:cubicBezTo>
                <a:lnTo>
                  <a:pt x="56995" y="111307"/>
                </a:lnTo>
                <a:close/>
                <a:moveTo>
                  <a:pt x="56995" y="75212"/>
                </a:moveTo>
                <a:lnTo>
                  <a:pt x="56995" y="75212"/>
                </a:lnTo>
                <a:cubicBezTo>
                  <a:pt x="14151" y="75212"/>
                  <a:pt x="14151" y="75212"/>
                  <a:pt x="14151" y="75212"/>
                </a:cubicBezTo>
                <a:cubicBezTo>
                  <a:pt x="14151" y="44598"/>
                  <a:pt x="14151" y="44598"/>
                  <a:pt x="14151" y="44598"/>
                </a:cubicBezTo>
                <a:cubicBezTo>
                  <a:pt x="56995" y="44598"/>
                  <a:pt x="56995" y="44598"/>
                  <a:pt x="56995" y="44598"/>
                </a:cubicBezTo>
                <a:lnTo>
                  <a:pt x="56995" y="75212"/>
                </a:lnTo>
                <a:close/>
                <a:moveTo>
                  <a:pt x="105460" y="102992"/>
                </a:moveTo>
                <a:lnTo>
                  <a:pt x="105460" y="102992"/>
                </a:lnTo>
                <a:cubicBezTo>
                  <a:pt x="105460" y="108661"/>
                  <a:pt x="102746" y="111307"/>
                  <a:pt x="96930" y="111307"/>
                </a:cubicBezTo>
                <a:cubicBezTo>
                  <a:pt x="62810" y="111307"/>
                  <a:pt x="62810" y="111307"/>
                  <a:pt x="62810" y="111307"/>
                </a:cubicBezTo>
                <a:cubicBezTo>
                  <a:pt x="62810" y="80692"/>
                  <a:pt x="62810" y="80692"/>
                  <a:pt x="62810" y="80692"/>
                </a:cubicBezTo>
                <a:cubicBezTo>
                  <a:pt x="105460" y="80692"/>
                  <a:pt x="105460" y="80692"/>
                  <a:pt x="105460" y="80692"/>
                </a:cubicBezTo>
                <a:lnTo>
                  <a:pt x="105460" y="102992"/>
                </a:lnTo>
                <a:close/>
                <a:moveTo>
                  <a:pt x="105460" y="75212"/>
                </a:moveTo>
                <a:lnTo>
                  <a:pt x="105460" y="75212"/>
                </a:lnTo>
                <a:cubicBezTo>
                  <a:pt x="62810" y="75212"/>
                  <a:pt x="62810" y="75212"/>
                  <a:pt x="62810" y="75212"/>
                </a:cubicBezTo>
                <a:cubicBezTo>
                  <a:pt x="62810" y="44598"/>
                  <a:pt x="62810" y="44598"/>
                  <a:pt x="62810" y="44598"/>
                </a:cubicBezTo>
                <a:cubicBezTo>
                  <a:pt x="105460" y="44598"/>
                  <a:pt x="105460" y="44598"/>
                  <a:pt x="105460" y="44598"/>
                </a:cubicBezTo>
                <a:lnTo>
                  <a:pt x="105460" y="75212"/>
                </a:lnTo>
                <a:close/>
                <a:moveTo>
                  <a:pt x="108368" y="36283"/>
                </a:moveTo>
                <a:lnTo>
                  <a:pt x="108368" y="36283"/>
                </a:lnTo>
                <a:cubicBezTo>
                  <a:pt x="11437" y="36283"/>
                  <a:pt x="11437" y="36283"/>
                  <a:pt x="11437" y="36283"/>
                </a:cubicBezTo>
                <a:cubicBezTo>
                  <a:pt x="8529" y="36283"/>
                  <a:pt x="5621" y="36283"/>
                  <a:pt x="5621" y="33448"/>
                </a:cubicBezTo>
                <a:cubicBezTo>
                  <a:pt x="5621" y="30803"/>
                  <a:pt x="8529" y="30803"/>
                  <a:pt x="11437" y="30803"/>
                </a:cubicBezTo>
                <a:cubicBezTo>
                  <a:pt x="108368" y="30803"/>
                  <a:pt x="108368" y="30803"/>
                  <a:pt x="108368" y="30803"/>
                </a:cubicBezTo>
                <a:cubicBezTo>
                  <a:pt x="111276" y="30803"/>
                  <a:pt x="114184" y="30803"/>
                  <a:pt x="114184" y="33448"/>
                </a:cubicBezTo>
                <a:cubicBezTo>
                  <a:pt x="114184" y="36283"/>
                  <a:pt x="111276" y="36283"/>
                  <a:pt x="108368" y="3628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6" name="Shape 4674"/>
          <p:cNvSpPr/>
          <p:nvPr/>
        </p:nvSpPr>
        <p:spPr>
          <a:xfrm>
            <a:off x="5427720" y="5018040"/>
            <a:ext cx="304920" cy="297000"/>
          </a:xfrm>
          <a:custGeom>
            <a:avLst/>
            <a:gdLst>
              <a:gd name="textAreaLeft" fmla="*/ 0 w 304920"/>
              <a:gd name="textAreaRight" fmla="*/ 305280 w 304920"/>
              <a:gd name="textAreaTop" fmla="*/ 0 h 297000"/>
              <a:gd name="textAreaBottom" fmla="*/ 297360 h 297000"/>
            </a:gdLst>
            <a:ahLst/>
            <a:rect l="textAreaLeft" t="textAreaTop" r="textAreaRight" b="textAreaBottom"/>
            <a:pathLst>
              <a:path w="120000" h="120000">
                <a:moveTo>
                  <a:pt x="22334" y="105460"/>
                </a:moveTo>
                <a:lnTo>
                  <a:pt x="22334" y="105460"/>
                </a:lnTo>
                <a:cubicBezTo>
                  <a:pt x="22334" y="114184"/>
                  <a:pt x="30662" y="119806"/>
                  <a:pt x="39179" y="119806"/>
                </a:cubicBezTo>
                <a:cubicBezTo>
                  <a:pt x="47507" y="119806"/>
                  <a:pt x="52996" y="114184"/>
                  <a:pt x="52996" y="105460"/>
                </a:cubicBezTo>
                <a:cubicBezTo>
                  <a:pt x="52996" y="96930"/>
                  <a:pt x="47507" y="91308"/>
                  <a:pt x="39179" y="91308"/>
                </a:cubicBezTo>
                <a:cubicBezTo>
                  <a:pt x="30662" y="91308"/>
                  <a:pt x="22334" y="96930"/>
                  <a:pt x="22334" y="105460"/>
                </a:cubicBezTo>
                <a:close/>
                <a:moveTo>
                  <a:pt x="39179" y="96930"/>
                </a:moveTo>
                <a:lnTo>
                  <a:pt x="39179" y="96930"/>
                </a:lnTo>
                <a:cubicBezTo>
                  <a:pt x="41829" y="96930"/>
                  <a:pt x="44668" y="102746"/>
                  <a:pt x="44668" y="105460"/>
                </a:cubicBezTo>
                <a:cubicBezTo>
                  <a:pt x="44668" y="108368"/>
                  <a:pt x="41829" y="114184"/>
                  <a:pt x="39179" y="114184"/>
                </a:cubicBezTo>
                <a:cubicBezTo>
                  <a:pt x="33501" y="114184"/>
                  <a:pt x="30662" y="108368"/>
                  <a:pt x="30662" y="105460"/>
                </a:cubicBezTo>
                <a:cubicBezTo>
                  <a:pt x="30662" y="102746"/>
                  <a:pt x="33501" y="96930"/>
                  <a:pt x="39179" y="96930"/>
                </a:cubicBezTo>
                <a:close/>
                <a:moveTo>
                  <a:pt x="30662" y="82778"/>
                </a:moveTo>
                <a:lnTo>
                  <a:pt x="30662" y="82778"/>
                </a:lnTo>
                <a:cubicBezTo>
                  <a:pt x="28012" y="82778"/>
                  <a:pt x="22334" y="79870"/>
                  <a:pt x="22334" y="74054"/>
                </a:cubicBezTo>
                <a:cubicBezTo>
                  <a:pt x="108832" y="68432"/>
                  <a:pt x="108832" y="68432"/>
                  <a:pt x="108832" y="68432"/>
                </a:cubicBezTo>
                <a:cubicBezTo>
                  <a:pt x="108832" y="68432"/>
                  <a:pt x="119810" y="19967"/>
                  <a:pt x="119810" y="17059"/>
                </a:cubicBezTo>
                <a:lnTo>
                  <a:pt x="117160" y="14151"/>
                </a:lnTo>
                <a:cubicBezTo>
                  <a:pt x="22334" y="14151"/>
                  <a:pt x="22334" y="14151"/>
                  <a:pt x="22334" y="14151"/>
                </a:cubicBezTo>
                <a:cubicBezTo>
                  <a:pt x="22334" y="5621"/>
                  <a:pt x="22334" y="5621"/>
                  <a:pt x="22334" y="5621"/>
                </a:cubicBezTo>
                <a:cubicBezTo>
                  <a:pt x="28012" y="5621"/>
                  <a:pt x="28012" y="5621"/>
                  <a:pt x="28012" y="5621"/>
                </a:cubicBezTo>
                <a:cubicBezTo>
                  <a:pt x="28012" y="5621"/>
                  <a:pt x="30662" y="5621"/>
                  <a:pt x="30662" y="2714"/>
                </a:cubicBezTo>
                <a:cubicBezTo>
                  <a:pt x="30662" y="0"/>
                  <a:pt x="28012" y="0"/>
                  <a:pt x="28012" y="0"/>
                </a:cubicBezTo>
                <a:cubicBezTo>
                  <a:pt x="5678" y="0"/>
                  <a:pt x="5678" y="0"/>
                  <a:pt x="5678" y="0"/>
                </a:cubicBezTo>
                <a:cubicBezTo>
                  <a:pt x="2839" y="0"/>
                  <a:pt x="0" y="0"/>
                  <a:pt x="0" y="2714"/>
                </a:cubicBezTo>
                <a:cubicBezTo>
                  <a:pt x="0" y="5621"/>
                  <a:pt x="2839" y="5621"/>
                  <a:pt x="5678" y="5621"/>
                </a:cubicBezTo>
                <a:cubicBezTo>
                  <a:pt x="16845" y="5621"/>
                  <a:pt x="16845" y="5621"/>
                  <a:pt x="16845" y="5621"/>
                </a:cubicBezTo>
                <a:cubicBezTo>
                  <a:pt x="16845" y="74054"/>
                  <a:pt x="16845" y="74054"/>
                  <a:pt x="16845" y="74054"/>
                </a:cubicBezTo>
                <a:cubicBezTo>
                  <a:pt x="16845" y="82778"/>
                  <a:pt x="22334" y="91308"/>
                  <a:pt x="30662" y="91308"/>
                </a:cubicBezTo>
                <a:cubicBezTo>
                  <a:pt x="39179" y="91308"/>
                  <a:pt x="39179" y="91308"/>
                  <a:pt x="39179" y="91308"/>
                </a:cubicBezTo>
                <a:cubicBezTo>
                  <a:pt x="83659" y="91308"/>
                  <a:pt x="83659" y="91308"/>
                  <a:pt x="83659" y="91308"/>
                </a:cubicBezTo>
                <a:cubicBezTo>
                  <a:pt x="117160" y="91308"/>
                  <a:pt x="117160" y="91308"/>
                  <a:pt x="117160" y="91308"/>
                </a:cubicBezTo>
                <a:cubicBezTo>
                  <a:pt x="117160" y="91308"/>
                  <a:pt x="117160" y="85492"/>
                  <a:pt x="117160" y="82778"/>
                </a:cubicBezTo>
                <a:lnTo>
                  <a:pt x="30662" y="82778"/>
                </a:lnTo>
                <a:close/>
                <a:moveTo>
                  <a:pt x="22334" y="22875"/>
                </a:moveTo>
                <a:lnTo>
                  <a:pt x="22334" y="22875"/>
                </a:lnTo>
                <a:cubicBezTo>
                  <a:pt x="111482" y="22875"/>
                  <a:pt x="111482" y="22875"/>
                  <a:pt x="111482" y="22875"/>
                </a:cubicBezTo>
                <a:cubicBezTo>
                  <a:pt x="103154" y="59903"/>
                  <a:pt x="103154" y="59903"/>
                  <a:pt x="103154" y="59903"/>
                </a:cubicBezTo>
                <a:cubicBezTo>
                  <a:pt x="22334" y="68432"/>
                  <a:pt x="22334" y="68432"/>
                  <a:pt x="22334" y="68432"/>
                </a:cubicBezTo>
                <a:lnTo>
                  <a:pt x="22334" y="22875"/>
                </a:lnTo>
                <a:close/>
                <a:moveTo>
                  <a:pt x="67003" y="105460"/>
                </a:moveTo>
                <a:lnTo>
                  <a:pt x="67003" y="105460"/>
                </a:lnTo>
                <a:cubicBezTo>
                  <a:pt x="67003" y="114184"/>
                  <a:pt x="75331" y="119806"/>
                  <a:pt x="83659" y="119806"/>
                </a:cubicBezTo>
                <a:cubicBezTo>
                  <a:pt x="91987" y="119806"/>
                  <a:pt x="97665" y="114184"/>
                  <a:pt x="97665" y="105460"/>
                </a:cubicBezTo>
                <a:cubicBezTo>
                  <a:pt x="97665" y="96930"/>
                  <a:pt x="91987" y="91308"/>
                  <a:pt x="83659" y="91308"/>
                </a:cubicBezTo>
                <a:cubicBezTo>
                  <a:pt x="75331" y="91308"/>
                  <a:pt x="67003" y="96930"/>
                  <a:pt x="67003" y="105460"/>
                </a:cubicBezTo>
                <a:close/>
                <a:moveTo>
                  <a:pt x="83659" y="96930"/>
                </a:moveTo>
                <a:lnTo>
                  <a:pt x="83659" y="96930"/>
                </a:lnTo>
                <a:cubicBezTo>
                  <a:pt x="86498" y="96930"/>
                  <a:pt x="89148" y="102746"/>
                  <a:pt x="89148" y="105460"/>
                </a:cubicBezTo>
                <a:cubicBezTo>
                  <a:pt x="89148" y="108368"/>
                  <a:pt x="86498" y="114184"/>
                  <a:pt x="83659" y="114184"/>
                </a:cubicBezTo>
                <a:cubicBezTo>
                  <a:pt x="77981" y="114184"/>
                  <a:pt x="75331" y="108368"/>
                  <a:pt x="75331" y="105460"/>
                </a:cubicBezTo>
                <a:cubicBezTo>
                  <a:pt x="75331" y="102746"/>
                  <a:pt x="77981" y="96930"/>
                  <a:pt x="83659" y="9693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7" name="Shape 4676"/>
          <p:cNvSpPr/>
          <p:nvPr/>
        </p:nvSpPr>
        <p:spPr>
          <a:xfrm>
            <a:off x="4451400" y="5048280"/>
            <a:ext cx="295200" cy="241200"/>
          </a:xfrm>
          <a:custGeom>
            <a:avLst/>
            <a:gdLst>
              <a:gd name="textAreaLeft" fmla="*/ 0 w 295200"/>
              <a:gd name="textAreaRight" fmla="*/ 295560 w 295200"/>
              <a:gd name="textAreaTop" fmla="*/ 0 h 241200"/>
              <a:gd name="textAreaBottom" fmla="*/ 241560 h 241200"/>
            </a:gdLst>
            <a:ahLst/>
            <a:rect l="textAreaLeft" t="textAreaTop" r="textAreaRight" b="textAreaBottom"/>
            <a:pathLst>
              <a:path w="120000" h="120000">
                <a:moveTo>
                  <a:pt x="116898" y="28023"/>
                </a:moveTo>
                <a:lnTo>
                  <a:pt x="116898" y="28023"/>
                </a:lnTo>
                <a:cubicBezTo>
                  <a:pt x="91308" y="28023"/>
                  <a:pt x="91308" y="28023"/>
                  <a:pt x="91308" y="28023"/>
                </a:cubicBezTo>
                <a:cubicBezTo>
                  <a:pt x="99838" y="6946"/>
                  <a:pt x="99838" y="6946"/>
                  <a:pt x="99838" y="6946"/>
                </a:cubicBezTo>
                <a:cubicBezTo>
                  <a:pt x="108368" y="6946"/>
                  <a:pt x="108368" y="6946"/>
                  <a:pt x="108368" y="6946"/>
                </a:cubicBezTo>
                <a:cubicBezTo>
                  <a:pt x="111276" y="6946"/>
                  <a:pt x="114184" y="6946"/>
                  <a:pt x="114184" y="3353"/>
                </a:cubicBezTo>
                <a:cubicBezTo>
                  <a:pt x="114184" y="0"/>
                  <a:pt x="111276" y="0"/>
                  <a:pt x="108368" y="0"/>
                </a:cubicBezTo>
                <a:cubicBezTo>
                  <a:pt x="94216" y="0"/>
                  <a:pt x="94216" y="0"/>
                  <a:pt x="94216" y="0"/>
                </a:cubicBezTo>
                <a:cubicBezTo>
                  <a:pt x="82778" y="28023"/>
                  <a:pt x="82778" y="28023"/>
                  <a:pt x="82778" y="28023"/>
                </a:cubicBezTo>
                <a:cubicBezTo>
                  <a:pt x="37027" y="28023"/>
                  <a:pt x="37027" y="28023"/>
                  <a:pt x="37027" y="28023"/>
                </a:cubicBezTo>
                <a:cubicBezTo>
                  <a:pt x="25589" y="0"/>
                  <a:pt x="25589" y="0"/>
                  <a:pt x="25589" y="0"/>
                </a:cubicBezTo>
                <a:cubicBezTo>
                  <a:pt x="11437" y="0"/>
                  <a:pt x="11437" y="0"/>
                  <a:pt x="11437" y="0"/>
                </a:cubicBezTo>
                <a:cubicBezTo>
                  <a:pt x="8529" y="0"/>
                  <a:pt x="5621" y="0"/>
                  <a:pt x="5621" y="3353"/>
                </a:cubicBezTo>
                <a:cubicBezTo>
                  <a:pt x="5621" y="6946"/>
                  <a:pt x="8529" y="6946"/>
                  <a:pt x="11437" y="6946"/>
                </a:cubicBezTo>
                <a:cubicBezTo>
                  <a:pt x="19967" y="6946"/>
                  <a:pt x="19967" y="6946"/>
                  <a:pt x="19967" y="6946"/>
                </a:cubicBezTo>
                <a:cubicBezTo>
                  <a:pt x="28497" y="28023"/>
                  <a:pt x="28497" y="28023"/>
                  <a:pt x="28497" y="28023"/>
                </a:cubicBezTo>
                <a:cubicBezTo>
                  <a:pt x="2907" y="28023"/>
                  <a:pt x="2907" y="28023"/>
                  <a:pt x="2907" y="28023"/>
                </a:cubicBezTo>
                <a:cubicBezTo>
                  <a:pt x="0" y="28023"/>
                  <a:pt x="0" y="28023"/>
                  <a:pt x="0" y="31616"/>
                </a:cubicBezTo>
                <a:cubicBezTo>
                  <a:pt x="0" y="35209"/>
                  <a:pt x="0" y="35209"/>
                  <a:pt x="2907" y="35209"/>
                </a:cubicBezTo>
                <a:cubicBezTo>
                  <a:pt x="5621" y="35209"/>
                  <a:pt x="5621" y="35209"/>
                  <a:pt x="5621" y="35209"/>
                </a:cubicBezTo>
                <a:cubicBezTo>
                  <a:pt x="11437" y="102035"/>
                  <a:pt x="11437" y="102035"/>
                  <a:pt x="11437" y="102035"/>
                </a:cubicBezTo>
                <a:cubicBezTo>
                  <a:pt x="11437" y="112814"/>
                  <a:pt x="17059" y="119760"/>
                  <a:pt x="25589" y="119760"/>
                </a:cubicBezTo>
                <a:cubicBezTo>
                  <a:pt x="91308" y="119760"/>
                  <a:pt x="91308" y="119760"/>
                  <a:pt x="91308" y="119760"/>
                </a:cubicBezTo>
                <a:cubicBezTo>
                  <a:pt x="99838" y="119760"/>
                  <a:pt x="105654" y="112814"/>
                  <a:pt x="105654" y="102035"/>
                </a:cubicBezTo>
                <a:cubicBezTo>
                  <a:pt x="114184" y="35209"/>
                  <a:pt x="114184" y="35209"/>
                  <a:pt x="114184" y="35209"/>
                </a:cubicBezTo>
                <a:cubicBezTo>
                  <a:pt x="116898" y="35209"/>
                  <a:pt x="116898" y="35209"/>
                  <a:pt x="116898" y="35209"/>
                </a:cubicBezTo>
                <a:cubicBezTo>
                  <a:pt x="119806" y="35209"/>
                  <a:pt x="119806" y="35209"/>
                  <a:pt x="119806" y="31616"/>
                </a:cubicBezTo>
                <a:cubicBezTo>
                  <a:pt x="119806" y="28023"/>
                  <a:pt x="119806" y="28023"/>
                  <a:pt x="116898" y="28023"/>
                </a:cubicBezTo>
                <a:close/>
                <a:moveTo>
                  <a:pt x="37027" y="112814"/>
                </a:moveTo>
                <a:lnTo>
                  <a:pt x="37027" y="112814"/>
                </a:lnTo>
                <a:cubicBezTo>
                  <a:pt x="25589" y="112814"/>
                  <a:pt x="25589" y="112814"/>
                  <a:pt x="25589" y="112814"/>
                </a:cubicBezTo>
                <a:cubicBezTo>
                  <a:pt x="22875" y="112814"/>
                  <a:pt x="17059" y="105628"/>
                  <a:pt x="17059" y="102035"/>
                </a:cubicBezTo>
                <a:cubicBezTo>
                  <a:pt x="17059" y="91497"/>
                  <a:pt x="17059" y="91497"/>
                  <a:pt x="17059" y="91497"/>
                </a:cubicBezTo>
                <a:cubicBezTo>
                  <a:pt x="37027" y="91497"/>
                  <a:pt x="37027" y="91497"/>
                  <a:pt x="37027" y="91497"/>
                </a:cubicBezTo>
                <a:lnTo>
                  <a:pt x="37027" y="112814"/>
                </a:lnTo>
                <a:close/>
                <a:moveTo>
                  <a:pt x="37027" y="84550"/>
                </a:moveTo>
                <a:lnTo>
                  <a:pt x="37027" y="84550"/>
                </a:lnTo>
                <a:cubicBezTo>
                  <a:pt x="17059" y="84550"/>
                  <a:pt x="17059" y="84550"/>
                  <a:pt x="17059" y="84550"/>
                </a:cubicBezTo>
                <a:cubicBezTo>
                  <a:pt x="17059" y="63233"/>
                  <a:pt x="17059" y="63233"/>
                  <a:pt x="17059" y="63233"/>
                </a:cubicBezTo>
                <a:cubicBezTo>
                  <a:pt x="37027" y="63233"/>
                  <a:pt x="37027" y="63233"/>
                  <a:pt x="37027" y="63233"/>
                </a:cubicBezTo>
                <a:lnTo>
                  <a:pt x="37027" y="84550"/>
                </a:lnTo>
                <a:close/>
                <a:moveTo>
                  <a:pt x="37027" y="56287"/>
                </a:moveTo>
                <a:lnTo>
                  <a:pt x="37027" y="56287"/>
                </a:lnTo>
                <a:cubicBezTo>
                  <a:pt x="14151" y="56287"/>
                  <a:pt x="14151" y="56287"/>
                  <a:pt x="14151" y="56287"/>
                </a:cubicBezTo>
                <a:cubicBezTo>
                  <a:pt x="14151" y="35209"/>
                  <a:pt x="14151" y="35209"/>
                  <a:pt x="14151" y="35209"/>
                </a:cubicBezTo>
                <a:cubicBezTo>
                  <a:pt x="37027" y="35209"/>
                  <a:pt x="37027" y="35209"/>
                  <a:pt x="37027" y="35209"/>
                </a:cubicBezTo>
                <a:lnTo>
                  <a:pt x="37027" y="56287"/>
                </a:lnTo>
                <a:close/>
                <a:moveTo>
                  <a:pt x="74248" y="112814"/>
                </a:moveTo>
                <a:lnTo>
                  <a:pt x="74248" y="112814"/>
                </a:lnTo>
                <a:cubicBezTo>
                  <a:pt x="45751" y="112814"/>
                  <a:pt x="45751" y="112814"/>
                  <a:pt x="45751" y="112814"/>
                </a:cubicBezTo>
                <a:cubicBezTo>
                  <a:pt x="45751" y="91497"/>
                  <a:pt x="45751" y="91497"/>
                  <a:pt x="45751" y="91497"/>
                </a:cubicBezTo>
                <a:cubicBezTo>
                  <a:pt x="74248" y="91497"/>
                  <a:pt x="74248" y="91497"/>
                  <a:pt x="74248" y="91497"/>
                </a:cubicBezTo>
                <a:lnTo>
                  <a:pt x="74248" y="112814"/>
                </a:lnTo>
                <a:close/>
                <a:moveTo>
                  <a:pt x="74248" y="84550"/>
                </a:moveTo>
                <a:lnTo>
                  <a:pt x="74248" y="84550"/>
                </a:lnTo>
                <a:cubicBezTo>
                  <a:pt x="45751" y="84550"/>
                  <a:pt x="45751" y="84550"/>
                  <a:pt x="45751" y="84550"/>
                </a:cubicBezTo>
                <a:cubicBezTo>
                  <a:pt x="45751" y="63233"/>
                  <a:pt x="45751" y="63233"/>
                  <a:pt x="45751" y="63233"/>
                </a:cubicBezTo>
                <a:cubicBezTo>
                  <a:pt x="74248" y="63233"/>
                  <a:pt x="74248" y="63233"/>
                  <a:pt x="74248" y="63233"/>
                </a:cubicBezTo>
                <a:lnTo>
                  <a:pt x="74248" y="84550"/>
                </a:lnTo>
                <a:close/>
                <a:moveTo>
                  <a:pt x="74248" y="56287"/>
                </a:moveTo>
                <a:lnTo>
                  <a:pt x="74248" y="56287"/>
                </a:lnTo>
                <a:cubicBezTo>
                  <a:pt x="45751" y="56287"/>
                  <a:pt x="45751" y="56287"/>
                  <a:pt x="45751" y="56287"/>
                </a:cubicBezTo>
                <a:cubicBezTo>
                  <a:pt x="45751" y="35209"/>
                  <a:pt x="45751" y="35209"/>
                  <a:pt x="45751" y="35209"/>
                </a:cubicBezTo>
                <a:cubicBezTo>
                  <a:pt x="74248" y="35209"/>
                  <a:pt x="74248" y="35209"/>
                  <a:pt x="74248" y="35209"/>
                </a:cubicBezTo>
                <a:lnTo>
                  <a:pt x="74248" y="56287"/>
                </a:lnTo>
                <a:close/>
                <a:moveTo>
                  <a:pt x="96930" y="102035"/>
                </a:moveTo>
                <a:lnTo>
                  <a:pt x="96930" y="102035"/>
                </a:lnTo>
                <a:cubicBezTo>
                  <a:pt x="96930" y="105628"/>
                  <a:pt x="94216" y="112814"/>
                  <a:pt x="91308" y="112814"/>
                </a:cubicBezTo>
                <a:cubicBezTo>
                  <a:pt x="82778" y="112814"/>
                  <a:pt x="82778" y="112814"/>
                  <a:pt x="82778" y="112814"/>
                </a:cubicBezTo>
                <a:cubicBezTo>
                  <a:pt x="82778" y="91497"/>
                  <a:pt x="82778" y="91497"/>
                  <a:pt x="82778" y="91497"/>
                </a:cubicBezTo>
                <a:cubicBezTo>
                  <a:pt x="99838" y="91497"/>
                  <a:pt x="99838" y="91497"/>
                  <a:pt x="99838" y="91497"/>
                </a:cubicBezTo>
                <a:lnTo>
                  <a:pt x="96930" y="102035"/>
                </a:lnTo>
                <a:close/>
                <a:moveTo>
                  <a:pt x="99838" y="84550"/>
                </a:moveTo>
                <a:lnTo>
                  <a:pt x="99838" y="84550"/>
                </a:lnTo>
                <a:cubicBezTo>
                  <a:pt x="82778" y="84550"/>
                  <a:pt x="82778" y="84550"/>
                  <a:pt x="82778" y="84550"/>
                </a:cubicBezTo>
                <a:cubicBezTo>
                  <a:pt x="82778" y="63233"/>
                  <a:pt x="82778" y="63233"/>
                  <a:pt x="82778" y="63233"/>
                </a:cubicBezTo>
                <a:cubicBezTo>
                  <a:pt x="102746" y="63233"/>
                  <a:pt x="102746" y="63233"/>
                  <a:pt x="102746" y="63233"/>
                </a:cubicBezTo>
                <a:lnTo>
                  <a:pt x="99838" y="84550"/>
                </a:lnTo>
                <a:close/>
                <a:moveTo>
                  <a:pt x="102746" y="56287"/>
                </a:moveTo>
                <a:lnTo>
                  <a:pt x="102746" y="56287"/>
                </a:lnTo>
                <a:cubicBezTo>
                  <a:pt x="82778" y="56287"/>
                  <a:pt x="82778" y="56287"/>
                  <a:pt x="82778" y="56287"/>
                </a:cubicBezTo>
                <a:cubicBezTo>
                  <a:pt x="82778" y="35209"/>
                  <a:pt x="82778" y="35209"/>
                  <a:pt x="82778" y="35209"/>
                </a:cubicBezTo>
                <a:cubicBezTo>
                  <a:pt x="105654" y="35209"/>
                  <a:pt x="105654" y="35209"/>
                  <a:pt x="105654" y="35209"/>
                </a:cubicBezTo>
                <a:lnTo>
                  <a:pt x="102746" y="56287"/>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8" name="Shape 4678"/>
          <p:cNvSpPr/>
          <p:nvPr/>
        </p:nvSpPr>
        <p:spPr>
          <a:xfrm>
            <a:off x="3503520" y="5048280"/>
            <a:ext cx="227160" cy="241200"/>
          </a:xfrm>
          <a:custGeom>
            <a:avLst/>
            <a:gdLst>
              <a:gd name="textAreaLeft" fmla="*/ 0 w 227160"/>
              <a:gd name="textAreaRight" fmla="*/ 227520 w 227160"/>
              <a:gd name="textAreaTop" fmla="*/ 0 h 241200"/>
              <a:gd name="textAreaBottom" fmla="*/ 241560 h 241200"/>
            </a:gdLst>
            <a:ahLst/>
            <a:rect l="textAreaLeft" t="textAreaTop" r="textAreaRight" b="textAreaBottom"/>
            <a:pathLst>
              <a:path w="120000" h="120000">
                <a:moveTo>
                  <a:pt x="97372" y="74011"/>
                </a:moveTo>
                <a:lnTo>
                  <a:pt x="97372" y="74011"/>
                </a:lnTo>
                <a:cubicBezTo>
                  <a:pt x="86186" y="74011"/>
                  <a:pt x="78813" y="77365"/>
                  <a:pt x="75000" y="84550"/>
                </a:cubicBezTo>
                <a:cubicBezTo>
                  <a:pt x="48813" y="70419"/>
                  <a:pt x="48813" y="70419"/>
                  <a:pt x="48813" y="70419"/>
                </a:cubicBezTo>
                <a:cubicBezTo>
                  <a:pt x="48813" y="67065"/>
                  <a:pt x="52372" y="63233"/>
                  <a:pt x="52372" y="59880"/>
                </a:cubicBezTo>
                <a:cubicBezTo>
                  <a:pt x="52372" y="56287"/>
                  <a:pt x="52372" y="56287"/>
                  <a:pt x="48813" y="52934"/>
                </a:cubicBezTo>
                <a:cubicBezTo>
                  <a:pt x="78813" y="38802"/>
                  <a:pt x="78813" y="38802"/>
                  <a:pt x="78813" y="38802"/>
                </a:cubicBezTo>
                <a:cubicBezTo>
                  <a:pt x="82372" y="42155"/>
                  <a:pt x="89745" y="45748"/>
                  <a:pt x="97372" y="45748"/>
                </a:cubicBezTo>
                <a:cubicBezTo>
                  <a:pt x="108559" y="45748"/>
                  <a:pt x="119745" y="35209"/>
                  <a:pt x="119745" y="21077"/>
                </a:cubicBezTo>
                <a:cubicBezTo>
                  <a:pt x="119745" y="10538"/>
                  <a:pt x="108559" y="0"/>
                  <a:pt x="97372" y="0"/>
                </a:cubicBezTo>
                <a:cubicBezTo>
                  <a:pt x="82372" y="0"/>
                  <a:pt x="71186" y="10538"/>
                  <a:pt x="71186" y="21077"/>
                </a:cubicBezTo>
                <a:cubicBezTo>
                  <a:pt x="71186" y="24670"/>
                  <a:pt x="71186" y="28023"/>
                  <a:pt x="71186" y="28023"/>
                </a:cubicBezTo>
                <a:cubicBezTo>
                  <a:pt x="45000" y="42155"/>
                  <a:pt x="45000" y="42155"/>
                  <a:pt x="45000" y="42155"/>
                </a:cubicBezTo>
                <a:cubicBezTo>
                  <a:pt x="41186" y="38802"/>
                  <a:pt x="33813" y="35209"/>
                  <a:pt x="26186" y="35209"/>
                </a:cubicBezTo>
                <a:cubicBezTo>
                  <a:pt x="11186" y="35209"/>
                  <a:pt x="0" y="45748"/>
                  <a:pt x="0" y="59880"/>
                </a:cubicBezTo>
                <a:cubicBezTo>
                  <a:pt x="0" y="74011"/>
                  <a:pt x="11186" y="84550"/>
                  <a:pt x="26186" y="84550"/>
                </a:cubicBezTo>
                <a:cubicBezTo>
                  <a:pt x="33813" y="84550"/>
                  <a:pt x="37627" y="80958"/>
                  <a:pt x="41186" y="77365"/>
                </a:cubicBezTo>
                <a:lnTo>
                  <a:pt x="41186" y="77365"/>
                </a:lnTo>
                <a:cubicBezTo>
                  <a:pt x="71186" y="95089"/>
                  <a:pt x="71186" y="95089"/>
                  <a:pt x="71186" y="95089"/>
                </a:cubicBezTo>
                <a:cubicBezTo>
                  <a:pt x="71186" y="95089"/>
                  <a:pt x="71186" y="95089"/>
                  <a:pt x="71186" y="98682"/>
                </a:cubicBezTo>
                <a:cubicBezTo>
                  <a:pt x="71186" y="109221"/>
                  <a:pt x="82372" y="119760"/>
                  <a:pt x="97372" y="119760"/>
                </a:cubicBezTo>
                <a:cubicBezTo>
                  <a:pt x="108559" y="119760"/>
                  <a:pt x="119745" y="109221"/>
                  <a:pt x="119745" y="98682"/>
                </a:cubicBezTo>
                <a:cubicBezTo>
                  <a:pt x="119745" y="84550"/>
                  <a:pt x="108559" y="74011"/>
                  <a:pt x="97372" y="74011"/>
                </a:cubicBezTo>
                <a:close/>
                <a:moveTo>
                  <a:pt x="97372" y="6946"/>
                </a:moveTo>
                <a:lnTo>
                  <a:pt x="97372" y="6946"/>
                </a:lnTo>
                <a:cubicBezTo>
                  <a:pt x="104745" y="6946"/>
                  <a:pt x="112372" y="14131"/>
                  <a:pt x="112372" y="21077"/>
                </a:cubicBezTo>
                <a:cubicBezTo>
                  <a:pt x="112372" y="31616"/>
                  <a:pt x="104745" y="35209"/>
                  <a:pt x="97372" y="35209"/>
                </a:cubicBezTo>
                <a:cubicBezTo>
                  <a:pt x="86186" y="35209"/>
                  <a:pt x="82372" y="31616"/>
                  <a:pt x="82372" y="21077"/>
                </a:cubicBezTo>
                <a:cubicBezTo>
                  <a:pt x="82372" y="14131"/>
                  <a:pt x="86186" y="6946"/>
                  <a:pt x="97372" y="6946"/>
                </a:cubicBezTo>
                <a:close/>
                <a:moveTo>
                  <a:pt x="26186" y="74011"/>
                </a:moveTo>
                <a:lnTo>
                  <a:pt x="26186" y="74011"/>
                </a:lnTo>
                <a:cubicBezTo>
                  <a:pt x="18813" y="74011"/>
                  <a:pt x="11186" y="67065"/>
                  <a:pt x="11186" y="59880"/>
                </a:cubicBezTo>
                <a:cubicBezTo>
                  <a:pt x="11186" y="52934"/>
                  <a:pt x="18813" y="45748"/>
                  <a:pt x="26186" y="45748"/>
                </a:cubicBezTo>
                <a:cubicBezTo>
                  <a:pt x="33813" y="45748"/>
                  <a:pt x="41186" y="52934"/>
                  <a:pt x="41186" y="59880"/>
                </a:cubicBezTo>
                <a:cubicBezTo>
                  <a:pt x="41186" y="67065"/>
                  <a:pt x="33813" y="74011"/>
                  <a:pt x="26186" y="74011"/>
                </a:cubicBezTo>
                <a:close/>
                <a:moveTo>
                  <a:pt x="97372" y="112814"/>
                </a:moveTo>
                <a:lnTo>
                  <a:pt x="97372" y="112814"/>
                </a:lnTo>
                <a:cubicBezTo>
                  <a:pt x="86186" y="112814"/>
                  <a:pt x="82372" y="105628"/>
                  <a:pt x="82372" y="98682"/>
                </a:cubicBezTo>
                <a:cubicBezTo>
                  <a:pt x="82372" y="88143"/>
                  <a:pt x="86186" y="84550"/>
                  <a:pt x="97372" y="84550"/>
                </a:cubicBezTo>
                <a:cubicBezTo>
                  <a:pt x="104745" y="84550"/>
                  <a:pt x="112372" y="88143"/>
                  <a:pt x="112372" y="98682"/>
                </a:cubicBezTo>
                <a:cubicBezTo>
                  <a:pt x="112372" y="105628"/>
                  <a:pt x="104745" y="112814"/>
                  <a:pt x="97372" y="11281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9" name="Shape 4680"/>
          <p:cNvSpPr/>
          <p:nvPr/>
        </p:nvSpPr>
        <p:spPr>
          <a:xfrm>
            <a:off x="2527200" y="5018040"/>
            <a:ext cx="233640" cy="297000"/>
          </a:xfrm>
          <a:custGeom>
            <a:avLst/>
            <a:gdLst>
              <a:gd name="textAreaLeft" fmla="*/ 0 w 233640"/>
              <a:gd name="textAreaRight" fmla="*/ 234000 w 233640"/>
              <a:gd name="textAreaTop" fmla="*/ 0 h 297000"/>
              <a:gd name="textAreaBottom" fmla="*/ 297360 h 297000"/>
            </a:gdLst>
            <a:ahLst/>
            <a:rect l="textAreaLeft" t="textAreaTop" r="textAreaRight" b="textAreaBottom"/>
            <a:pathLst>
              <a:path w="120000" h="120000">
                <a:moveTo>
                  <a:pt x="108888" y="25589"/>
                </a:moveTo>
                <a:lnTo>
                  <a:pt x="108888" y="25589"/>
                </a:lnTo>
                <a:cubicBezTo>
                  <a:pt x="79753" y="25589"/>
                  <a:pt x="79753" y="25589"/>
                  <a:pt x="79753" y="25589"/>
                </a:cubicBezTo>
                <a:cubicBezTo>
                  <a:pt x="79753" y="17059"/>
                  <a:pt x="79753" y="17059"/>
                  <a:pt x="79753" y="17059"/>
                </a:cubicBezTo>
                <a:cubicBezTo>
                  <a:pt x="79753" y="14151"/>
                  <a:pt x="76296" y="11437"/>
                  <a:pt x="72592" y="11437"/>
                </a:cubicBezTo>
                <a:cubicBezTo>
                  <a:pt x="29135" y="11437"/>
                  <a:pt x="29135" y="11437"/>
                  <a:pt x="29135" y="11437"/>
                </a:cubicBezTo>
                <a:cubicBezTo>
                  <a:pt x="29135" y="5621"/>
                  <a:pt x="29135" y="5621"/>
                  <a:pt x="29135" y="5621"/>
                </a:cubicBezTo>
                <a:cubicBezTo>
                  <a:pt x="29135" y="2714"/>
                  <a:pt x="21728" y="0"/>
                  <a:pt x="18024" y="0"/>
                </a:cubicBezTo>
                <a:cubicBezTo>
                  <a:pt x="7160" y="0"/>
                  <a:pt x="7160" y="0"/>
                  <a:pt x="7160" y="0"/>
                </a:cubicBezTo>
                <a:cubicBezTo>
                  <a:pt x="3456" y="0"/>
                  <a:pt x="0" y="2714"/>
                  <a:pt x="0" y="5621"/>
                </a:cubicBezTo>
                <a:cubicBezTo>
                  <a:pt x="0" y="114184"/>
                  <a:pt x="0" y="114184"/>
                  <a:pt x="0" y="114184"/>
                </a:cubicBezTo>
                <a:cubicBezTo>
                  <a:pt x="0" y="116898"/>
                  <a:pt x="3456" y="119806"/>
                  <a:pt x="7160" y="119806"/>
                </a:cubicBezTo>
                <a:cubicBezTo>
                  <a:pt x="18024" y="119806"/>
                  <a:pt x="18024" y="119806"/>
                  <a:pt x="18024" y="119806"/>
                </a:cubicBezTo>
                <a:cubicBezTo>
                  <a:pt x="21728" y="119806"/>
                  <a:pt x="29135" y="116898"/>
                  <a:pt x="29135" y="114184"/>
                </a:cubicBezTo>
                <a:cubicBezTo>
                  <a:pt x="29135" y="79870"/>
                  <a:pt x="29135" y="79870"/>
                  <a:pt x="29135" y="79870"/>
                </a:cubicBezTo>
                <a:cubicBezTo>
                  <a:pt x="72592" y="79870"/>
                  <a:pt x="72592" y="79870"/>
                  <a:pt x="72592" y="79870"/>
                </a:cubicBezTo>
                <a:cubicBezTo>
                  <a:pt x="72592" y="82778"/>
                  <a:pt x="72592" y="82778"/>
                  <a:pt x="72592" y="82778"/>
                </a:cubicBezTo>
                <a:cubicBezTo>
                  <a:pt x="72592" y="85492"/>
                  <a:pt x="76296" y="91308"/>
                  <a:pt x="79753" y="91308"/>
                </a:cubicBezTo>
                <a:cubicBezTo>
                  <a:pt x="108888" y="91308"/>
                  <a:pt x="108888" y="91308"/>
                  <a:pt x="108888" y="91308"/>
                </a:cubicBezTo>
                <a:cubicBezTo>
                  <a:pt x="116296" y="91308"/>
                  <a:pt x="119753" y="85492"/>
                  <a:pt x="119753" y="82778"/>
                </a:cubicBezTo>
                <a:cubicBezTo>
                  <a:pt x="119753" y="34119"/>
                  <a:pt x="119753" y="34119"/>
                  <a:pt x="119753" y="34119"/>
                </a:cubicBezTo>
                <a:cubicBezTo>
                  <a:pt x="119753" y="28497"/>
                  <a:pt x="116296" y="25589"/>
                  <a:pt x="108888" y="25589"/>
                </a:cubicBezTo>
                <a:close/>
                <a:moveTo>
                  <a:pt x="18024" y="108368"/>
                </a:moveTo>
                <a:lnTo>
                  <a:pt x="18024" y="108368"/>
                </a:lnTo>
                <a:cubicBezTo>
                  <a:pt x="18024" y="111276"/>
                  <a:pt x="14567" y="114184"/>
                  <a:pt x="14567" y="114184"/>
                </a:cubicBezTo>
                <a:cubicBezTo>
                  <a:pt x="10864" y="114184"/>
                  <a:pt x="7160" y="111276"/>
                  <a:pt x="7160" y="108368"/>
                </a:cubicBezTo>
                <a:cubicBezTo>
                  <a:pt x="7160" y="11437"/>
                  <a:pt x="7160" y="11437"/>
                  <a:pt x="7160" y="11437"/>
                </a:cubicBezTo>
                <a:cubicBezTo>
                  <a:pt x="7160" y="8529"/>
                  <a:pt x="10864" y="5621"/>
                  <a:pt x="14567" y="5621"/>
                </a:cubicBezTo>
                <a:cubicBezTo>
                  <a:pt x="14567" y="5621"/>
                  <a:pt x="18024" y="8529"/>
                  <a:pt x="18024" y="11437"/>
                </a:cubicBezTo>
                <a:lnTo>
                  <a:pt x="18024" y="108368"/>
                </a:lnTo>
                <a:close/>
                <a:moveTo>
                  <a:pt x="72592" y="68432"/>
                </a:moveTo>
                <a:lnTo>
                  <a:pt x="72592" y="68432"/>
                </a:lnTo>
                <a:cubicBezTo>
                  <a:pt x="72592" y="68432"/>
                  <a:pt x="69135" y="71340"/>
                  <a:pt x="65432" y="71340"/>
                </a:cubicBezTo>
                <a:cubicBezTo>
                  <a:pt x="29135" y="71340"/>
                  <a:pt x="29135" y="71340"/>
                  <a:pt x="29135" y="71340"/>
                </a:cubicBezTo>
                <a:cubicBezTo>
                  <a:pt x="29135" y="17059"/>
                  <a:pt x="29135" y="17059"/>
                  <a:pt x="29135" y="17059"/>
                </a:cubicBezTo>
                <a:cubicBezTo>
                  <a:pt x="65432" y="17059"/>
                  <a:pt x="65432" y="17059"/>
                  <a:pt x="65432" y="17059"/>
                </a:cubicBezTo>
                <a:cubicBezTo>
                  <a:pt x="69135" y="17059"/>
                  <a:pt x="72592" y="19967"/>
                  <a:pt x="72592" y="22875"/>
                </a:cubicBezTo>
                <a:lnTo>
                  <a:pt x="72592" y="68432"/>
                </a:lnTo>
                <a:close/>
                <a:moveTo>
                  <a:pt x="108888" y="79870"/>
                </a:moveTo>
                <a:lnTo>
                  <a:pt x="108888" y="79870"/>
                </a:lnTo>
                <a:cubicBezTo>
                  <a:pt x="108888" y="79870"/>
                  <a:pt x="108888" y="82778"/>
                  <a:pt x="105432" y="82778"/>
                </a:cubicBezTo>
                <a:cubicBezTo>
                  <a:pt x="79753" y="82778"/>
                  <a:pt x="79753" y="82778"/>
                  <a:pt x="79753" y="82778"/>
                </a:cubicBezTo>
                <a:cubicBezTo>
                  <a:pt x="79753" y="34119"/>
                  <a:pt x="79753" y="34119"/>
                  <a:pt x="79753" y="34119"/>
                </a:cubicBezTo>
                <a:cubicBezTo>
                  <a:pt x="105432" y="34119"/>
                  <a:pt x="105432" y="34119"/>
                  <a:pt x="105432" y="34119"/>
                </a:cubicBezTo>
                <a:cubicBezTo>
                  <a:pt x="108888" y="34119"/>
                  <a:pt x="108888" y="34119"/>
                  <a:pt x="108888" y="37027"/>
                </a:cubicBezTo>
                <a:lnTo>
                  <a:pt x="108888" y="79870"/>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60" name="Shape 4682"/>
          <p:cNvSpPr/>
          <p:nvPr/>
        </p:nvSpPr>
        <p:spPr>
          <a:xfrm>
            <a:off x="1515960" y="5048280"/>
            <a:ext cx="284400" cy="241200"/>
          </a:xfrm>
          <a:custGeom>
            <a:avLst/>
            <a:gdLst>
              <a:gd name="textAreaLeft" fmla="*/ 0 w 284400"/>
              <a:gd name="textAreaRight" fmla="*/ 284760 w 284400"/>
              <a:gd name="textAreaTop" fmla="*/ 0 h 241200"/>
              <a:gd name="textAreaBottom" fmla="*/ 241560 h 241200"/>
            </a:gdLst>
            <a:ahLst/>
            <a:rect l="textAreaLeft" t="textAreaTop" r="textAreaRight" b="textAreaBottom"/>
            <a:pathLst>
              <a:path w="120000" h="120000">
                <a:moveTo>
                  <a:pt x="77826" y="84550"/>
                </a:moveTo>
                <a:lnTo>
                  <a:pt x="77826" y="84550"/>
                </a:lnTo>
                <a:cubicBezTo>
                  <a:pt x="62954" y="102035"/>
                  <a:pt x="62954" y="102035"/>
                  <a:pt x="62954" y="102035"/>
                </a:cubicBezTo>
                <a:cubicBezTo>
                  <a:pt x="62954" y="35209"/>
                  <a:pt x="62954" y="35209"/>
                  <a:pt x="62954" y="35209"/>
                </a:cubicBezTo>
                <a:cubicBezTo>
                  <a:pt x="62954" y="35209"/>
                  <a:pt x="62954" y="31616"/>
                  <a:pt x="59898" y="31616"/>
                </a:cubicBezTo>
                <a:cubicBezTo>
                  <a:pt x="56842" y="31616"/>
                  <a:pt x="56842" y="35209"/>
                  <a:pt x="56842" y="35209"/>
                </a:cubicBezTo>
                <a:cubicBezTo>
                  <a:pt x="56842" y="102035"/>
                  <a:pt x="56842" y="102035"/>
                  <a:pt x="56842" y="102035"/>
                </a:cubicBezTo>
                <a:cubicBezTo>
                  <a:pt x="41969" y="84550"/>
                  <a:pt x="41969" y="84550"/>
                  <a:pt x="41969" y="84550"/>
                </a:cubicBezTo>
                <a:cubicBezTo>
                  <a:pt x="41969" y="84550"/>
                  <a:pt x="38913" y="84550"/>
                  <a:pt x="35857" y="84550"/>
                </a:cubicBezTo>
                <a:cubicBezTo>
                  <a:pt x="35857" y="88143"/>
                  <a:pt x="35857" y="88143"/>
                  <a:pt x="35857" y="91497"/>
                </a:cubicBezTo>
                <a:cubicBezTo>
                  <a:pt x="56842" y="119760"/>
                  <a:pt x="56842" y="119760"/>
                  <a:pt x="56842" y="119760"/>
                </a:cubicBezTo>
                <a:lnTo>
                  <a:pt x="59898" y="119760"/>
                </a:lnTo>
                <a:lnTo>
                  <a:pt x="62954" y="119760"/>
                </a:lnTo>
                <a:cubicBezTo>
                  <a:pt x="83938" y="91497"/>
                  <a:pt x="83938" y="91497"/>
                  <a:pt x="83938" y="91497"/>
                </a:cubicBezTo>
                <a:cubicBezTo>
                  <a:pt x="83938" y="88143"/>
                  <a:pt x="83938" y="88143"/>
                  <a:pt x="83938" y="84550"/>
                </a:cubicBezTo>
                <a:cubicBezTo>
                  <a:pt x="80882" y="84550"/>
                  <a:pt x="77826" y="84550"/>
                  <a:pt x="77826" y="84550"/>
                </a:cubicBezTo>
                <a:close/>
                <a:moveTo>
                  <a:pt x="116943" y="0"/>
                </a:moveTo>
                <a:lnTo>
                  <a:pt x="116943" y="0"/>
                </a:lnTo>
                <a:cubicBezTo>
                  <a:pt x="2852" y="0"/>
                  <a:pt x="2852" y="0"/>
                  <a:pt x="2852" y="0"/>
                </a:cubicBezTo>
                <a:cubicBezTo>
                  <a:pt x="2852" y="0"/>
                  <a:pt x="0" y="0"/>
                  <a:pt x="0" y="3353"/>
                </a:cubicBezTo>
                <a:cubicBezTo>
                  <a:pt x="0" y="42155"/>
                  <a:pt x="0" y="42155"/>
                  <a:pt x="0" y="42155"/>
                </a:cubicBezTo>
                <a:lnTo>
                  <a:pt x="2852" y="45748"/>
                </a:lnTo>
                <a:cubicBezTo>
                  <a:pt x="5908" y="45748"/>
                  <a:pt x="8964" y="42155"/>
                  <a:pt x="8964" y="42155"/>
                </a:cubicBezTo>
                <a:cubicBezTo>
                  <a:pt x="8964" y="6946"/>
                  <a:pt x="8964" y="6946"/>
                  <a:pt x="8964" y="6946"/>
                </a:cubicBezTo>
                <a:cubicBezTo>
                  <a:pt x="110831" y="6946"/>
                  <a:pt x="110831" y="6946"/>
                  <a:pt x="110831" y="6946"/>
                </a:cubicBezTo>
                <a:cubicBezTo>
                  <a:pt x="110831" y="42155"/>
                  <a:pt x="110831" y="42155"/>
                  <a:pt x="110831" y="42155"/>
                </a:cubicBezTo>
                <a:cubicBezTo>
                  <a:pt x="110831" y="42155"/>
                  <a:pt x="113887" y="45748"/>
                  <a:pt x="116943" y="45748"/>
                </a:cubicBezTo>
                <a:lnTo>
                  <a:pt x="119796" y="42155"/>
                </a:lnTo>
                <a:cubicBezTo>
                  <a:pt x="119796" y="3353"/>
                  <a:pt x="119796" y="3353"/>
                  <a:pt x="119796" y="3353"/>
                </a:cubicBezTo>
                <a:cubicBezTo>
                  <a:pt x="119796" y="0"/>
                  <a:pt x="116943" y="0"/>
                  <a:pt x="116943" y="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61" name="Shape 4684"/>
          <p:cNvSpPr/>
          <p:nvPr/>
        </p:nvSpPr>
        <p:spPr>
          <a:xfrm>
            <a:off x="5427720" y="4535640"/>
            <a:ext cx="304920" cy="284040"/>
          </a:xfrm>
          <a:custGeom>
            <a:avLst/>
            <a:gdLst>
              <a:gd name="textAreaLeft" fmla="*/ 0 w 304920"/>
              <a:gd name="textAreaRight" fmla="*/ 305280 w 304920"/>
              <a:gd name="textAreaTop" fmla="*/ 0 h 284040"/>
              <a:gd name="textAreaBottom" fmla="*/ 284400 h 284040"/>
            </a:gdLst>
            <a:ahLst/>
            <a:rect l="textAreaLeft" t="textAreaTop" r="textAreaRight" b="textAreaBottom"/>
            <a:pathLst>
              <a:path w="120000" h="120000">
                <a:moveTo>
                  <a:pt x="105993" y="0"/>
                </a:moveTo>
                <a:lnTo>
                  <a:pt x="105993" y="0"/>
                </a:lnTo>
                <a:cubicBezTo>
                  <a:pt x="16845" y="0"/>
                  <a:pt x="16845" y="0"/>
                  <a:pt x="16845" y="0"/>
                </a:cubicBezTo>
                <a:cubicBezTo>
                  <a:pt x="8517" y="0"/>
                  <a:pt x="0" y="5898"/>
                  <a:pt x="0" y="14847"/>
                </a:cubicBezTo>
                <a:cubicBezTo>
                  <a:pt x="0" y="101694"/>
                  <a:pt x="0" y="101694"/>
                  <a:pt x="0" y="101694"/>
                </a:cubicBezTo>
                <a:cubicBezTo>
                  <a:pt x="0" y="110644"/>
                  <a:pt x="8517" y="119796"/>
                  <a:pt x="16845" y="119796"/>
                </a:cubicBezTo>
                <a:cubicBezTo>
                  <a:pt x="105993" y="119796"/>
                  <a:pt x="105993" y="119796"/>
                  <a:pt x="105993" y="119796"/>
                </a:cubicBezTo>
                <a:cubicBezTo>
                  <a:pt x="114321" y="119796"/>
                  <a:pt x="119810" y="110644"/>
                  <a:pt x="119810" y="101694"/>
                </a:cubicBezTo>
                <a:cubicBezTo>
                  <a:pt x="119810" y="14847"/>
                  <a:pt x="119810" y="14847"/>
                  <a:pt x="119810" y="14847"/>
                </a:cubicBezTo>
                <a:cubicBezTo>
                  <a:pt x="119810" y="5898"/>
                  <a:pt x="114321" y="0"/>
                  <a:pt x="105993" y="0"/>
                </a:cubicBezTo>
                <a:close/>
                <a:moveTo>
                  <a:pt x="22334" y="110644"/>
                </a:moveTo>
                <a:lnTo>
                  <a:pt x="22334" y="110644"/>
                </a:lnTo>
                <a:cubicBezTo>
                  <a:pt x="16845" y="110644"/>
                  <a:pt x="16845" y="110644"/>
                  <a:pt x="16845" y="110644"/>
                </a:cubicBezTo>
                <a:cubicBezTo>
                  <a:pt x="11167" y="110644"/>
                  <a:pt x="8517" y="107796"/>
                  <a:pt x="8517" y="101694"/>
                </a:cubicBezTo>
                <a:cubicBezTo>
                  <a:pt x="8517" y="14847"/>
                  <a:pt x="8517" y="14847"/>
                  <a:pt x="8517" y="14847"/>
                </a:cubicBezTo>
                <a:cubicBezTo>
                  <a:pt x="8517" y="12000"/>
                  <a:pt x="11167" y="5898"/>
                  <a:pt x="16845" y="5898"/>
                </a:cubicBezTo>
                <a:cubicBezTo>
                  <a:pt x="22334" y="5898"/>
                  <a:pt x="22334" y="5898"/>
                  <a:pt x="22334" y="5898"/>
                </a:cubicBezTo>
                <a:lnTo>
                  <a:pt x="22334" y="110644"/>
                </a:lnTo>
                <a:close/>
                <a:moveTo>
                  <a:pt x="111482" y="101694"/>
                </a:moveTo>
                <a:lnTo>
                  <a:pt x="111482" y="101694"/>
                </a:lnTo>
                <a:cubicBezTo>
                  <a:pt x="111482" y="107796"/>
                  <a:pt x="108832" y="110644"/>
                  <a:pt x="105993" y="110644"/>
                </a:cubicBezTo>
                <a:cubicBezTo>
                  <a:pt x="30662" y="110644"/>
                  <a:pt x="30662" y="110644"/>
                  <a:pt x="30662" y="110644"/>
                </a:cubicBezTo>
                <a:cubicBezTo>
                  <a:pt x="30662" y="5898"/>
                  <a:pt x="30662" y="5898"/>
                  <a:pt x="30662" y="5898"/>
                </a:cubicBezTo>
                <a:cubicBezTo>
                  <a:pt x="105993" y="5898"/>
                  <a:pt x="105993" y="5898"/>
                  <a:pt x="105993" y="5898"/>
                </a:cubicBezTo>
                <a:cubicBezTo>
                  <a:pt x="108832" y="5898"/>
                  <a:pt x="111482" y="12000"/>
                  <a:pt x="111482" y="14847"/>
                </a:cubicBezTo>
                <a:lnTo>
                  <a:pt x="111482" y="101694"/>
                </a:lnTo>
                <a:close/>
                <a:moveTo>
                  <a:pt x="100315" y="53694"/>
                </a:moveTo>
                <a:lnTo>
                  <a:pt x="100315" y="53694"/>
                </a:lnTo>
                <a:cubicBezTo>
                  <a:pt x="55835" y="53694"/>
                  <a:pt x="55835" y="53694"/>
                  <a:pt x="55835" y="53694"/>
                </a:cubicBezTo>
                <a:cubicBezTo>
                  <a:pt x="69842" y="41898"/>
                  <a:pt x="69842" y="41898"/>
                  <a:pt x="69842" y="41898"/>
                </a:cubicBezTo>
                <a:cubicBezTo>
                  <a:pt x="72492" y="38847"/>
                  <a:pt x="72492" y="38847"/>
                  <a:pt x="69842" y="35796"/>
                </a:cubicBezTo>
                <a:cubicBezTo>
                  <a:pt x="69842" y="35796"/>
                  <a:pt x="67003" y="35796"/>
                  <a:pt x="64164" y="35796"/>
                </a:cubicBezTo>
                <a:cubicBezTo>
                  <a:pt x="41829" y="56949"/>
                  <a:pt x="41829" y="56949"/>
                  <a:pt x="41829" y="56949"/>
                </a:cubicBezTo>
                <a:cubicBezTo>
                  <a:pt x="41829" y="56949"/>
                  <a:pt x="41829" y="56949"/>
                  <a:pt x="41829" y="59796"/>
                </a:cubicBezTo>
                <a:cubicBezTo>
                  <a:pt x="41829" y="59796"/>
                  <a:pt x="41829" y="59796"/>
                  <a:pt x="41829" y="62847"/>
                </a:cubicBezTo>
                <a:cubicBezTo>
                  <a:pt x="64164" y="80745"/>
                  <a:pt x="64164" y="80745"/>
                  <a:pt x="64164" y="80745"/>
                </a:cubicBezTo>
                <a:cubicBezTo>
                  <a:pt x="67003" y="83796"/>
                  <a:pt x="69842" y="83796"/>
                  <a:pt x="69842" y="80745"/>
                </a:cubicBezTo>
                <a:cubicBezTo>
                  <a:pt x="72492" y="80745"/>
                  <a:pt x="72492" y="77694"/>
                  <a:pt x="69842" y="74847"/>
                </a:cubicBezTo>
                <a:cubicBezTo>
                  <a:pt x="55835" y="62847"/>
                  <a:pt x="55835" y="62847"/>
                  <a:pt x="55835" y="62847"/>
                </a:cubicBezTo>
                <a:cubicBezTo>
                  <a:pt x="100315" y="62847"/>
                  <a:pt x="100315" y="62847"/>
                  <a:pt x="100315" y="62847"/>
                </a:cubicBezTo>
                <a:cubicBezTo>
                  <a:pt x="103154" y="62847"/>
                  <a:pt x="105993" y="59796"/>
                  <a:pt x="105993" y="59796"/>
                </a:cubicBezTo>
                <a:cubicBezTo>
                  <a:pt x="105993" y="56949"/>
                  <a:pt x="103154" y="53694"/>
                  <a:pt x="100315" y="5369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62" name="Shape 4686"/>
          <p:cNvSpPr/>
          <p:nvPr/>
        </p:nvSpPr>
        <p:spPr>
          <a:xfrm>
            <a:off x="4457880" y="4522680"/>
            <a:ext cx="284040" cy="306360"/>
          </a:xfrm>
          <a:custGeom>
            <a:avLst/>
            <a:gdLst>
              <a:gd name="textAreaLeft" fmla="*/ 0 w 284040"/>
              <a:gd name="textAreaRight" fmla="*/ 284400 w 284040"/>
              <a:gd name="textAreaTop" fmla="*/ 0 h 306360"/>
              <a:gd name="textAreaBottom" fmla="*/ 306720 h 306360"/>
            </a:gdLst>
            <a:ahLst/>
            <a:rect l="textAreaLeft" t="textAreaTop" r="textAreaRight" b="textAreaBottom"/>
            <a:pathLst>
              <a:path w="120000" h="120000">
                <a:moveTo>
                  <a:pt x="104923" y="0"/>
                </a:moveTo>
                <a:lnTo>
                  <a:pt x="104923" y="0"/>
                </a:lnTo>
                <a:cubicBezTo>
                  <a:pt x="14872" y="0"/>
                  <a:pt x="14872" y="0"/>
                  <a:pt x="14872" y="0"/>
                </a:cubicBezTo>
                <a:cubicBezTo>
                  <a:pt x="5908" y="0"/>
                  <a:pt x="0" y="8328"/>
                  <a:pt x="0" y="16845"/>
                </a:cubicBezTo>
                <a:cubicBezTo>
                  <a:pt x="0" y="105993"/>
                  <a:pt x="0" y="105993"/>
                  <a:pt x="0" y="105993"/>
                </a:cubicBezTo>
                <a:cubicBezTo>
                  <a:pt x="0" y="114321"/>
                  <a:pt x="5908" y="119810"/>
                  <a:pt x="14872" y="119810"/>
                </a:cubicBezTo>
                <a:cubicBezTo>
                  <a:pt x="104923" y="119810"/>
                  <a:pt x="104923" y="119810"/>
                  <a:pt x="104923" y="119810"/>
                </a:cubicBezTo>
                <a:cubicBezTo>
                  <a:pt x="113887" y="119810"/>
                  <a:pt x="119796" y="114321"/>
                  <a:pt x="119796" y="105993"/>
                </a:cubicBezTo>
                <a:cubicBezTo>
                  <a:pt x="119796" y="16845"/>
                  <a:pt x="119796" y="16845"/>
                  <a:pt x="119796" y="16845"/>
                </a:cubicBezTo>
                <a:cubicBezTo>
                  <a:pt x="119796" y="8328"/>
                  <a:pt x="113887" y="0"/>
                  <a:pt x="104923" y="0"/>
                </a:cubicBezTo>
                <a:close/>
                <a:moveTo>
                  <a:pt x="110831" y="105993"/>
                </a:moveTo>
                <a:lnTo>
                  <a:pt x="110831" y="105993"/>
                </a:lnTo>
                <a:cubicBezTo>
                  <a:pt x="110831" y="108643"/>
                  <a:pt x="107979" y="111482"/>
                  <a:pt x="104923" y="111482"/>
                </a:cubicBezTo>
                <a:cubicBezTo>
                  <a:pt x="14872" y="111482"/>
                  <a:pt x="14872" y="111482"/>
                  <a:pt x="14872" y="111482"/>
                </a:cubicBezTo>
                <a:cubicBezTo>
                  <a:pt x="11816" y="111482"/>
                  <a:pt x="8964" y="108643"/>
                  <a:pt x="8964" y="105993"/>
                </a:cubicBezTo>
                <a:cubicBezTo>
                  <a:pt x="8964" y="30662"/>
                  <a:pt x="8964" y="30662"/>
                  <a:pt x="8964" y="30662"/>
                </a:cubicBezTo>
                <a:cubicBezTo>
                  <a:pt x="110831" y="30662"/>
                  <a:pt x="110831" y="30662"/>
                  <a:pt x="110831" y="30662"/>
                </a:cubicBezTo>
                <a:lnTo>
                  <a:pt x="110831" y="105993"/>
                </a:lnTo>
                <a:close/>
                <a:moveTo>
                  <a:pt x="110831" y="22334"/>
                </a:moveTo>
                <a:lnTo>
                  <a:pt x="110831" y="22334"/>
                </a:lnTo>
                <a:cubicBezTo>
                  <a:pt x="8964" y="22334"/>
                  <a:pt x="8964" y="22334"/>
                  <a:pt x="8964" y="22334"/>
                </a:cubicBezTo>
                <a:cubicBezTo>
                  <a:pt x="8964" y="16845"/>
                  <a:pt x="8964" y="16845"/>
                  <a:pt x="8964" y="16845"/>
                </a:cubicBezTo>
                <a:cubicBezTo>
                  <a:pt x="8964" y="11167"/>
                  <a:pt x="11816" y="8328"/>
                  <a:pt x="14872" y="8328"/>
                </a:cubicBezTo>
                <a:cubicBezTo>
                  <a:pt x="104923" y="8328"/>
                  <a:pt x="104923" y="8328"/>
                  <a:pt x="104923" y="8328"/>
                </a:cubicBezTo>
                <a:cubicBezTo>
                  <a:pt x="107979" y="8328"/>
                  <a:pt x="110831" y="11167"/>
                  <a:pt x="110831" y="16845"/>
                </a:cubicBezTo>
                <a:lnTo>
                  <a:pt x="110831" y="22334"/>
                </a:lnTo>
                <a:close/>
                <a:moveTo>
                  <a:pt x="41969" y="69652"/>
                </a:moveTo>
                <a:lnTo>
                  <a:pt x="41969" y="69652"/>
                </a:lnTo>
                <a:cubicBezTo>
                  <a:pt x="56842" y="55646"/>
                  <a:pt x="56842" y="55646"/>
                  <a:pt x="56842" y="55646"/>
                </a:cubicBezTo>
                <a:cubicBezTo>
                  <a:pt x="56842" y="100315"/>
                  <a:pt x="56842" y="100315"/>
                  <a:pt x="56842" y="100315"/>
                </a:cubicBezTo>
                <a:cubicBezTo>
                  <a:pt x="56842" y="103154"/>
                  <a:pt x="56842" y="105993"/>
                  <a:pt x="59898" y="105993"/>
                </a:cubicBezTo>
                <a:cubicBezTo>
                  <a:pt x="62954" y="105993"/>
                  <a:pt x="62954" y="103154"/>
                  <a:pt x="62954" y="100315"/>
                </a:cubicBezTo>
                <a:cubicBezTo>
                  <a:pt x="62954" y="55646"/>
                  <a:pt x="62954" y="55646"/>
                  <a:pt x="62954" y="55646"/>
                </a:cubicBezTo>
                <a:cubicBezTo>
                  <a:pt x="78030" y="69652"/>
                  <a:pt x="78030" y="69652"/>
                  <a:pt x="78030" y="69652"/>
                </a:cubicBezTo>
                <a:cubicBezTo>
                  <a:pt x="78030" y="72492"/>
                  <a:pt x="80882" y="72492"/>
                  <a:pt x="83938" y="69652"/>
                </a:cubicBezTo>
                <a:cubicBezTo>
                  <a:pt x="83938" y="69652"/>
                  <a:pt x="83938" y="66813"/>
                  <a:pt x="83938" y="64164"/>
                </a:cubicBezTo>
                <a:cubicBezTo>
                  <a:pt x="62954" y="41829"/>
                  <a:pt x="62954" y="41829"/>
                  <a:pt x="62954" y="41829"/>
                </a:cubicBezTo>
                <a:lnTo>
                  <a:pt x="59898" y="41829"/>
                </a:lnTo>
                <a:lnTo>
                  <a:pt x="56842" y="41829"/>
                </a:lnTo>
                <a:cubicBezTo>
                  <a:pt x="35857" y="64164"/>
                  <a:pt x="35857" y="64164"/>
                  <a:pt x="35857" y="64164"/>
                </a:cubicBezTo>
                <a:cubicBezTo>
                  <a:pt x="35857" y="66813"/>
                  <a:pt x="35857" y="69652"/>
                  <a:pt x="35857" y="69652"/>
                </a:cubicBezTo>
                <a:cubicBezTo>
                  <a:pt x="38913" y="72492"/>
                  <a:pt x="41969" y="72492"/>
                  <a:pt x="41969" y="6965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63" name="Shape 4688"/>
          <p:cNvSpPr/>
          <p:nvPr/>
        </p:nvSpPr>
        <p:spPr>
          <a:xfrm>
            <a:off x="3503520" y="4522680"/>
            <a:ext cx="249480" cy="306360"/>
          </a:xfrm>
          <a:custGeom>
            <a:avLst/>
            <a:gdLst>
              <a:gd name="textAreaLeft" fmla="*/ 0 w 249480"/>
              <a:gd name="textAreaRight" fmla="*/ 249840 w 249480"/>
              <a:gd name="textAreaTop" fmla="*/ 0 h 306360"/>
              <a:gd name="textAreaBottom" fmla="*/ 306720 h 306360"/>
            </a:gdLst>
            <a:ahLst/>
            <a:rect l="textAreaLeft" t="textAreaTop" r="textAreaRight" b="textAreaBottom"/>
            <a:pathLst>
              <a:path w="120000" h="120000">
                <a:moveTo>
                  <a:pt x="65116" y="0"/>
                </a:moveTo>
                <a:lnTo>
                  <a:pt x="65116" y="0"/>
                </a:lnTo>
                <a:cubicBezTo>
                  <a:pt x="54883" y="0"/>
                  <a:pt x="54883" y="0"/>
                  <a:pt x="54883" y="0"/>
                </a:cubicBezTo>
                <a:cubicBezTo>
                  <a:pt x="51395" y="0"/>
                  <a:pt x="47906" y="5678"/>
                  <a:pt x="47906" y="8328"/>
                </a:cubicBezTo>
                <a:cubicBezTo>
                  <a:pt x="47906" y="111482"/>
                  <a:pt x="47906" y="111482"/>
                  <a:pt x="47906" y="111482"/>
                </a:cubicBezTo>
                <a:cubicBezTo>
                  <a:pt x="47906" y="117160"/>
                  <a:pt x="51395" y="119810"/>
                  <a:pt x="54883" y="119810"/>
                </a:cubicBezTo>
                <a:cubicBezTo>
                  <a:pt x="65116" y="119810"/>
                  <a:pt x="65116" y="119810"/>
                  <a:pt x="65116" y="119810"/>
                </a:cubicBezTo>
                <a:cubicBezTo>
                  <a:pt x="68604" y="119810"/>
                  <a:pt x="75348" y="117160"/>
                  <a:pt x="75348" y="111482"/>
                </a:cubicBezTo>
                <a:cubicBezTo>
                  <a:pt x="75348" y="8328"/>
                  <a:pt x="75348" y="8328"/>
                  <a:pt x="75348" y="8328"/>
                </a:cubicBezTo>
                <a:cubicBezTo>
                  <a:pt x="75348" y="5678"/>
                  <a:pt x="68604" y="0"/>
                  <a:pt x="65116" y="0"/>
                </a:cubicBezTo>
                <a:close/>
                <a:moveTo>
                  <a:pt x="65116" y="108643"/>
                </a:moveTo>
                <a:lnTo>
                  <a:pt x="65116" y="108643"/>
                </a:lnTo>
                <a:cubicBezTo>
                  <a:pt x="65116" y="111482"/>
                  <a:pt x="61627" y="111482"/>
                  <a:pt x="61627" y="111482"/>
                </a:cubicBezTo>
                <a:cubicBezTo>
                  <a:pt x="58372" y="111482"/>
                  <a:pt x="54883" y="111482"/>
                  <a:pt x="54883" y="108643"/>
                </a:cubicBezTo>
                <a:cubicBezTo>
                  <a:pt x="54883" y="11167"/>
                  <a:pt x="54883" y="11167"/>
                  <a:pt x="54883" y="11167"/>
                </a:cubicBezTo>
                <a:cubicBezTo>
                  <a:pt x="54883" y="11167"/>
                  <a:pt x="58372" y="8328"/>
                  <a:pt x="61627" y="8328"/>
                </a:cubicBezTo>
                <a:lnTo>
                  <a:pt x="65116" y="11167"/>
                </a:lnTo>
                <a:lnTo>
                  <a:pt x="65116" y="108643"/>
                </a:lnTo>
                <a:close/>
                <a:moveTo>
                  <a:pt x="20697" y="33501"/>
                </a:moveTo>
                <a:lnTo>
                  <a:pt x="20697" y="33501"/>
                </a:lnTo>
                <a:cubicBezTo>
                  <a:pt x="10232" y="33501"/>
                  <a:pt x="10232" y="33501"/>
                  <a:pt x="10232" y="33501"/>
                </a:cubicBezTo>
                <a:cubicBezTo>
                  <a:pt x="6976" y="33501"/>
                  <a:pt x="0" y="38990"/>
                  <a:pt x="0" y="41829"/>
                </a:cubicBezTo>
                <a:cubicBezTo>
                  <a:pt x="0" y="111482"/>
                  <a:pt x="0" y="111482"/>
                  <a:pt x="0" y="111482"/>
                </a:cubicBezTo>
                <a:cubicBezTo>
                  <a:pt x="0" y="117160"/>
                  <a:pt x="6976" y="119810"/>
                  <a:pt x="10232" y="119810"/>
                </a:cubicBezTo>
                <a:cubicBezTo>
                  <a:pt x="20697" y="119810"/>
                  <a:pt x="20697" y="119810"/>
                  <a:pt x="20697" y="119810"/>
                </a:cubicBezTo>
                <a:cubicBezTo>
                  <a:pt x="23953" y="119810"/>
                  <a:pt x="27441" y="117160"/>
                  <a:pt x="27441" y="111482"/>
                </a:cubicBezTo>
                <a:cubicBezTo>
                  <a:pt x="27441" y="41829"/>
                  <a:pt x="27441" y="41829"/>
                  <a:pt x="27441" y="41829"/>
                </a:cubicBezTo>
                <a:cubicBezTo>
                  <a:pt x="27441" y="38990"/>
                  <a:pt x="23953" y="33501"/>
                  <a:pt x="20697" y="33501"/>
                </a:cubicBezTo>
                <a:close/>
                <a:moveTo>
                  <a:pt x="20697" y="108643"/>
                </a:moveTo>
                <a:lnTo>
                  <a:pt x="20697" y="108643"/>
                </a:lnTo>
                <a:cubicBezTo>
                  <a:pt x="20697" y="111482"/>
                  <a:pt x="17209" y="111482"/>
                  <a:pt x="13720" y="111482"/>
                </a:cubicBezTo>
                <a:cubicBezTo>
                  <a:pt x="13720" y="111482"/>
                  <a:pt x="10232" y="111482"/>
                  <a:pt x="10232" y="108643"/>
                </a:cubicBezTo>
                <a:cubicBezTo>
                  <a:pt x="10232" y="44668"/>
                  <a:pt x="10232" y="44668"/>
                  <a:pt x="10232" y="44668"/>
                </a:cubicBezTo>
                <a:lnTo>
                  <a:pt x="13720" y="41829"/>
                </a:lnTo>
                <a:cubicBezTo>
                  <a:pt x="17209" y="41829"/>
                  <a:pt x="20697" y="44668"/>
                  <a:pt x="20697" y="44668"/>
                </a:cubicBezTo>
                <a:lnTo>
                  <a:pt x="20697" y="108643"/>
                </a:lnTo>
                <a:close/>
                <a:moveTo>
                  <a:pt x="109534" y="61324"/>
                </a:moveTo>
                <a:lnTo>
                  <a:pt x="109534" y="61324"/>
                </a:lnTo>
                <a:cubicBezTo>
                  <a:pt x="102790" y="61324"/>
                  <a:pt x="102790" y="61324"/>
                  <a:pt x="102790" y="61324"/>
                </a:cubicBezTo>
                <a:cubicBezTo>
                  <a:pt x="95813" y="61324"/>
                  <a:pt x="92558" y="64164"/>
                  <a:pt x="92558" y="66813"/>
                </a:cubicBezTo>
                <a:cubicBezTo>
                  <a:pt x="92558" y="111482"/>
                  <a:pt x="92558" y="111482"/>
                  <a:pt x="92558" y="111482"/>
                </a:cubicBezTo>
                <a:cubicBezTo>
                  <a:pt x="92558" y="117160"/>
                  <a:pt x="95813" y="119810"/>
                  <a:pt x="102790" y="119810"/>
                </a:cubicBezTo>
                <a:cubicBezTo>
                  <a:pt x="109534" y="119810"/>
                  <a:pt x="109534" y="119810"/>
                  <a:pt x="109534" y="119810"/>
                </a:cubicBezTo>
                <a:cubicBezTo>
                  <a:pt x="116511" y="119810"/>
                  <a:pt x="119767" y="117160"/>
                  <a:pt x="119767" y="111482"/>
                </a:cubicBezTo>
                <a:cubicBezTo>
                  <a:pt x="119767" y="66813"/>
                  <a:pt x="119767" y="66813"/>
                  <a:pt x="119767" y="66813"/>
                </a:cubicBezTo>
                <a:cubicBezTo>
                  <a:pt x="119767" y="64164"/>
                  <a:pt x="116511" y="61324"/>
                  <a:pt x="109534" y="61324"/>
                </a:cubicBezTo>
                <a:close/>
                <a:moveTo>
                  <a:pt x="109534" y="108643"/>
                </a:moveTo>
                <a:lnTo>
                  <a:pt x="109534" y="108643"/>
                </a:lnTo>
                <a:cubicBezTo>
                  <a:pt x="109534" y="111482"/>
                  <a:pt x="109534" y="111482"/>
                  <a:pt x="106279" y="111482"/>
                </a:cubicBezTo>
                <a:cubicBezTo>
                  <a:pt x="102790" y="111482"/>
                  <a:pt x="102790" y="111482"/>
                  <a:pt x="102790" y="108643"/>
                </a:cubicBezTo>
                <a:cubicBezTo>
                  <a:pt x="102790" y="72492"/>
                  <a:pt x="102790" y="72492"/>
                  <a:pt x="102790" y="72492"/>
                </a:cubicBezTo>
                <a:cubicBezTo>
                  <a:pt x="102790" y="69652"/>
                  <a:pt x="102790" y="66813"/>
                  <a:pt x="106279" y="66813"/>
                </a:cubicBezTo>
                <a:cubicBezTo>
                  <a:pt x="109534" y="66813"/>
                  <a:pt x="109534" y="69652"/>
                  <a:pt x="109534" y="72492"/>
                </a:cubicBezTo>
                <a:lnTo>
                  <a:pt x="109534" y="108643"/>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64" name="Shape 4690"/>
          <p:cNvSpPr/>
          <p:nvPr/>
        </p:nvSpPr>
        <p:spPr>
          <a:xfrm>
            <a:off x="2484360" y="4522680"/>
            <a:ext cx="304920" cy="306360"/>
          </a:xfrm>
          <a:custGeom>
            <a:avLst/>
            <a:gdLst>
              <a:gd name="textAreaLeft" fmla="*/ 0 w 304920"/>
              <a:gd name="textAreaRight" fmla="*/ 305280 w 304920"/>
              <a:gd name="textAreaTop" fmla="*/ 0 h 306360"/>
              <a:gd name="textAreaBottom" fmla="*/ 306720 h 30636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65" name="Shape 4692"/>
          <p:cNvSpPr/>
          <p:nvPr/>
        </p:nvSpPr>
        <p:spPr>
          <a:xfrm>
            <a:off x="1509840" y="4522680"/>
            <a:ext cx="295200" cy="306360"/>
          </a:xfrm>
          <a:custGeom>
            <a:avLst/>
            <a:gdLst>
              <a:gd name="textAreaLeft" fmla="*/ 0 w 295200"/>
              <a:gd name="textAreaRight" fmla="*/ 295560 w 295200"/>
              <a:gd name="textAreaTop" fmla="*/ 0 h 306360"/>
              <a:gd name="textAreaBottom" fmla="*/ 306720 h 306360"/>
            </a:gdLst>
            <a:ahLst/>
            <a:rect l="textAreaLeft" t="textAreaTop" r="textAreaRight" b="textAreaBottom"/>
            <a:pathLst>
              <a:path w="120000" h="120000">
                <a:moveTo>
                  <a:pt x="102746" y="16845"/>
                </a:moveTo>
                <a:lnTo>
                  <a:pt x="102746" y="16845"/>
                </a:lnTo>
                <a:cubicBezTo>
                  <a:pt x="51373" y="22334"/>
                  <a:pt x="51373" y="22334"/>
                  <a:pt x="51373" y="22334"/>
                </a:cubicBezTo>
                <a:cubicBezTo>
                  <a:pt x="51373" y="22334"/>
                  <a:pt x="48465" y="25173"/>
                  <a:pt x="48465" y="27823"/>
                </a:cubicBezTo>
                <a:cubicBezTo>
                  <a:pt x="48465" y="58675"/>
                  <a:pt x="48465" y="58675"/>
                  <a:pt x="48465" y="58675"/>
                </a:cubicBezTo>
                <a:cubicBezTo>
                  <a:pt x="42843" y="55646"/>
                  <a:pt x="34313" y="55646"/>
                  <a:pt x="25589" y="61324"/>
                </a:cubicBezTo>
                <a:cubicBezTo>
                  <a:pt x="17059" y="66813"/>
                  <a:pt x="11437" y="75331"/>
                  <a:pt x="17059" y="83659"/>
                </a:cubicBezTo>
                <a:cubicBezTo>
                  <a:pt x="19967" y="91987"/>
                  <a:pt x="34313" y="91987"/>
                  <a:pt x="45557" y="86498"/>
                </a:cubicBezTo>
                <a:cubicBezTo>
                  <a:pt x="54281" y="80820"/>
                  <a:pt x="56995" y="75331"/>
                  <a:pt x="56995" y="66813"/>
                </a:cubicBezTo>
                <a:lnTo>
                  <a:pt x="56995" y="30662"/>
                </a:lnTo>
                <a:cubicBezTo>
                  <a:pt x="96930" y="25173"/>
                  <a:pt x="96930" y="25173"/>
                  <a:pt x="96930" y="25173"/>
                </a:cubicBezTo>
                <a:cubicBezTo>
                  <a:pt x="96930" y="50157"/>
                  <a:pt x="96930" y="50157"/>
                  <a:pt x="96930" y="50157"/>
                </a:cubicBezTo>
                <a:cubicBezTo>
                  <a:pt x="91308" y="47507"/>
                  <a:pt x="82778" y="47507"/>
                  <a:pt x="76962" y="52996"/>
                </a:cubicBezTo>
                <a:cubicBezTo>
                  <a:pt x="65718" y="58675"/>
                  <a:pt x="59903" y="69652"/>
                  <a:pt x="65718" y="75331"/>
                </a:cubicBezTo>
                <a:cubicBezTo>
                  <a:pt x="71340" y="83659"/>
                  <a:pt x="82778" y="83659"/>
                  <a:pt x="94216" y="77981"/>
                </a:cubicBezTo>
                <a:cubicBezTo>
                  <a:pt x="102746" y="75331"/>
                  <a:pt x="105460" y="66813"/>
                  <a:pt x="105460" y="61324"/>
                </a:cubicBezTo>
                <a:lnTo>
                  <a:pt x="105460" y="19495"/>
                </a:lnTo>
                <a:cubicBezTo>
                  <a:pt x="105460" y="16845"/>
                  <a:pt x="102746" y="16845"/>
                  <a:pt x="102746" y="16845"/>
                </a:cubicBezTo>
                <a:close/>
                <a:moveTo>
                  <a:pt x="39935" y="80820"/>
                </a:moveTo>
                <a:lnTo>
                  <a:pt x="39935" y="80820"/>
                </a:lnTo>
                <a:cubicBezTo>
                  <a:pt x="34313" y="83659"/>
                  <a:pt x="25589" y="83659"/>
                  <a:pt x="22875" y="80820"/>
                </a:cubicBezTo>
                <a:cubicBezTo>
                  <a:pt x="19967" y="75331"/>
                  <a:pt x="22875" y="69652"/>
                  <a:pt x="28497" y="66813"/>
                </a:cubicBezTo>
                <a:cubicBezTo>
                  <a:pt x="37027" y="64164"/>
                  <a:pt x="42843" y="64164"/>
                  <a:pt x="45557" y="66813"/>
                </a:cubicBezTo>
                <a:cubicBezTo>
                  <a:pt x="51373" y="69652"/>
                  <a:pt x="48465" y="77981"/>
                  <a:pt x="39935" y="80820"/>
                </a:cubicBezTo>
                <a:close/>
                <a:moveTo>
                  <a:pt x="91308" y="72492"/>
                </a:moveTo>
                <a:lnTo>
                  <a:pt x="91308" y="72492"/>
                </a:lnTo>
                <a:cubicBezTo>
                  <a:pt x="85492" y="77981"/>
                  <a:pt x="76962" y="75331"/>
                  <a:pt x="71340" y="72492"/>
                </a:cubicBezTo>
                <a:cubicBezTo>
                  <a:pt x="68432" y="69652"/>
                  <a:pt x="71340" y="61324"/>
                  <a:pt x="79870" y="58675"/>
                </a:cubicBezTo>
                <a:cubicBezTo>
                  <a:pt x="85492" y="55646"/>
                  <a:pt x="91308" y="55646"/>
                  <a:pt x="96930" y="58675"/>
                </a:cubicBezTo>
                <a:cubicBezTo>
                  <a:pt x="99838" y="61324"/>
                  <a:pt x="96930" y="69652"/>
                  <a:pt x="91308" y="72492"/>
                </a:cubicBezTo>
                <a:close/>
                <a:moveTo>
                  <a:pt x="108368" y="111482"/>
                </a:moveTo>
                <a:lnTo>
                  <a:pt x="108368" y="111482"/>
                </a:lnTo>
                <a:cubicBezTo>
                  <a:pt x="11437" y="111482"/>
                  <a:pt x="11437" y="111482"/>
                  <a:pt x="11437" y="111482"/>
                </a:cubicBezTo>
                <a:cubicBezTo>
                  <a:pt x="8529" y="111482"/>
                  <a:pt x="5621" y="114321"/>
                  <a:pt x="5621" y="117160"/>
                </a:cubicBezTo>
                <a:cubicBezTo>
                  <a:pt x="5621" y="117160"/>
                  <a:pt x="8529" y="119810"/>
                  <a:pt x="11437" y="119810"/>
                </a:cubicBezTo>
                <a:cubicBezTo>
                  <a:pt x="108368" y="119810"/>
                  <a:pt x="108368" y="119810"/>
                  <a:pt x="108368" y="119810"/>
                </a:cubicBezTo>
                <a:cubicBezTo>
                  <a:pt x="111276" y="119810"/>
                  <a:pt x="114184" y="117160"/>
                  <a:pt x="114184" y="117160"/>
                </a:cubicBezTo>
                <a:cubicBezTo>
                  <a:pt x="114184" y="114321"/>
                  <a:pt x="111276" y="111482"/>
                  <a:pt x="108368" y="111482"/>
                </a:cubicBezTo>
                <a:close/>
                <a:moveTo>
                  <a:pt x="105460" y="0"/>
                </a:moveTo>
                <a:lnTo>
                  <a:pt x="105460" y="0"/>
                </a:lnTo>
                <a:cubicBezTo>
                  <a:pt x="14151" y="0"/>
                  <a:pt x="14151" y="0"/>
                  <a:pt x="14151" y="0"/>
                </a:cubicBezTo>
                <a:cubicBezTo>
                  <a:pt x="5621" y="0"/>
                  <a:pt x="0" y="8328"/>
                  <a:pt x="0" y="16845"/>
                </a:cubicBezTo>
                <a:cubicBezTo>
                  <a:pt x="0" y="89148"/>
                  <a:pt x="0" y="89148"/>
                  <a:pt x="0" y="89148"/>
                </a:cubicBezTo>
                <a:cubicBezTo>
                  <a:pt x="0" y="97476"/>
                  <a:pt x="5621" y="105993"/>
                  <a:pt x="14151" y="105993"/>
                </a:cubicBezTo>
                <a:cubicBezTo>
                  <a:pt x="105460" y="105993"/>
                  <a:pt x="105460" y="105993"/>
                  <a:pt x="105460" y="105993"/>
                </a:cubicBezTo>
                <a:cubicBezTo>
                  <a:pt x="114184" y="105993"/>
                  <a:pt x="119806" y="97476"/>
                  <a:pt x="119806" y="89148"/>
                </a:cubicBezTo>
                <a:cubicBezTo>
                  <a:pt x="119806" y="16845"/>
                  <a:pt x="119806" y="16845"/>
                  <a:pt x="119806" y="16845"/>
                </a:cubicBezTo>
                <a:cubicBezTo>
                  <a:pt x="119806" y="8328"/>
                  <a:pt x="114184" y="0"/>
                  <a:pt x="105460" y="0"/>
                </a:cubicBezTo>
                <a:close/>
                <a:moveTo>
                  <a:pt x="114184" y="89148"/>
                </a:moveTo>
                <a:lnTo>
                  <a:pt x="114184" y="89148"/>
                </a:lnTo>
                <a:cubicBezTo>
                  <a:pt x="114184" y="94826"/>
                  <a:pt x="108368" y="97476"/>
                  <a:pt x="105460" y="97476"/>
                </a:cubicBezTo>
                <a:cubicBezTo>
                  <a:pt x="14151" y="97476"/>
                  <a:pt x="14151" y="97476"/>
                  <a:pt x="14151" y="97476"/>
                </a:cubicBezTo>
                <a:cubicBezTo>
                  <a:pt x="11437" y="97476"/>
                  <a:pt x="5621" y="94826"/>
                  <a:pt x="5621" y="89148"/>
                </a:cubicBezTo>
                <a:cubicBezTo>
                  <a:pt x="5621" y="16845"/>
                  <a:pt x="5621" y="16845"/>
                  <a:pt x="5621" y="16845"/>
                </a:cubicBezTo>
                <a:cubicBezTo>
                  <a:pt x="5621" y="11167"/>
                  <a:pt x="11437" y="8328"/>
                  <a:pt x="14151" y="8328"/>
                </a:cubicBezTo>
                <a:cubicBezTo>
                  <a:pt x="105460" y="8328"/>
                  <a:pt x="105460" y="8328"/>
                  <a:pt x="105460" y="8328"/>
                </a:cubicBezTo>
                <a:cubicBezTo>
                  <a:pt x="108368" y="8328"/>
                  <a:pt x="114184" y="11167"/>
                  <a:pt x="114184" y="16845"/>
                </a:cubicBezTo>
                <a:lnTo>
                  <a:pt x="114184" y="89148"/>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66" name="Shape 4694"/>
          <p:cNvSpPr/>
          <p:nvPr/>
        </p:nvSpPr>
        <p:spPr>
          <a:xfrm>
            <a:off x="5483160" y="3546360"/>
            <a:ext cx="163440" cy="298440"/>
          </a:xfrm>
          <a:custGeom>
            <a:avLst/>
            <a:gdLst>
              <a:gd name="textAreaLeft" fmla="*/ 0 w 163440"/>
              <a:gd name="textAreaRight" fmla="*/ 163800 w 163440"/>
              <a:gd name="textAreaTop" fmla="*/ 0 h 298440"/>
              <a:gd name="textAreaBottom" fmla="*/ 298800 h 298440"/>
            </a:gdLst>
            <a:ahLst/>
            <a:rect l="textAreaLeft" t="textAreaTop" r="textAreaRight" b="textAreaBottom"/>
            <a:pathLst>
              <a:path w="120000" h="120000">
                <a:moveTo>
                  <a:pt x="114352" y="0"/>
                </a:moveTo>
                <a:lnTo>
                  <a:pt x="114352" y="0"/>
                </a:lnTo>
                <a:cubicBezTo>
                  <a:pt x="103764" y="0"/>
                  <a:pt x="103764" y="5815"/>
                  <a:pt x="103764" y="5815"/>
                </a:cubicBezTo>
                <a:cubicBezTo>
                  <a:pt x="103764" y="65718"/>
                  <a:pt x="103764" y="65718"/>
                  <a:pt x="103764" y="65718"/>
                </a:cubicBezTo>
                <a:cubicBezTo>
                  <a:pt x="88588" y="59903"/>
                  <a:pt x="62470" y="59903"/>
                  <a:pt x="41647" y="68432"/>
                </a:cubicBezTo>
                <a:cubicBezTo>
                  <a:pt x="15529" y="77156"/>
                  <a:pt x="0" y="94216"/>
                  <a:pt x="10588" y="105654"/>
                </a:cubicBezTo>
                <a:cubicBezTo>
                  <a:pt x="26117" y="117092"/>
                  <a:pt x="57176" y="119806"/>
                  <a:pt x="88588" y="108562"/>
                </a:cubicBezTo>
                <a:cubicBezTo>
                  <a:pt x="109411" y="102746"/>
                  <a:pt x="119647" y="91308"/>
                  <a:pt x="119647" y="79870"/>
                </a:cubicBezTo>
                <a:cubicBezTo>
                  <a:pt x="119647" y="5815"/>
                  <a:pt x="119647" y="5815"/>
                  <a:pt x="119647" y="5815"/>
                </a:cubicBezTo>
                <a:cubicBezTo>
                  <a:pt x="119647" y="2907"/>
                  <a:pt x="114352" y="0"/>
                  <a:pt x="114352" y="0"/>
                </a:cubicBezTo>
                <a:close/>
                <a:moveTo>
                  <a:pt x="83294" y="102746"/>
                </a:moveTo>
                <a:lnTo>
                  <a:pt x="83294" y="102746"/>
                </a:lnTo>
                <a:cubicBezTo>
                  <a:pt x="62470" y="111276"/>
                  <a:pt x="36352" y="111276"/>
                  <a:pt x="26117" y="102746"/>
                </a:cubicBezTo>
                <a:cubicBezTo>
                  <a:pt x="15529" y="94216"/>
                  <a:pt x="26117" y="79870"/>
                  <a:pt x="46941" y="74248"/>
                </a:cubicBezTo>
                <a:cubicBezTo>
                  <a:pt x="67764" y="65718"/>
                  <a:pt x="93529" y="68432"/>
                  <a:pt x="103764" y="77156"/>
                </a:cubicBezTo>
                <a:cubicBezTo>
                  <a:pt x="114352" y="85686"/>
                  <a:pt x="98823" y="97124"/>
                  <a:pt x="83294" y="10274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67" name="Shape 4696"/>
          <p:cNvSpPr/>
          <p:nvPr/>
        </p:nvSpPr>
        <p:spPr>
          <a:xfrm>
            <a:off x="4444920" y="3567240"/>
            <a:ext cx="311400" cy="249120"/>
          </a:xfrm>
          <a:custGeom>
            <a:avLst/>
            <a:gdLst>
              <a:gd name="textAreaLeft" fmla="*/ 0 w 311400"/>
              <a:gd name="textAreaRight" fmla="*/ 311760 w 311400"/>
              <a:gd name="textAreaTop" fmla="*/ 0 h 249120"/>
              <a:gd name="textAreaBottom" fmla="*/ 249480 h 249120"/>
            </a:gdLst>
            <a:ahLst/>
            <a:rect l="textAreaLeft" t="textAreaTop" r="textAreaRight" b="textAreaBottom"/>
            <a:pathLst>
              <a:path w="120000" h="120000">
                <a:moveTo>
                  <a:pt x="59907" y="109323"/>
                </a:moveTo>
                <a:lnTo>
                  <a:pt x="59907" y="109323"/>
                </a:lnTo>
                <a:cubicBezTo>
                  <a:pt x="40862" y="109323"/>
                  <a:pt x="27180" y="92379"/>
                  <a:pt x="21818" y="71721"/>
                </a:cubicBezTo>
                <a:cubicBezTo>
                  <a:pt x="32727" y="71721"/>
                  <a:pt x="32727" y="71721"/>
                  <a:pt x="32727" y="71721"/>
                </a:cubicBezTo>
                <a:cubicBezTo>
                  <a:pt x="35500" y="71721"/>
                  <a:pt x="35500" y="68471"/>
                  <a:pt x="32727" y="68471"/>
                </a:cubicBezTo>
                <a:cubicBezTo>
                  <a:pt x="19044" y="51295"/>
                  <a:pt x="19044" y="51295"/>
                  <a:pt x="19044" y="51295"/>
                </a:cubicBezTo>
                <a:lnTo>
                  <a:pt x="16271" y="51295"/>
                </a:lnTo>
                <a:cubicBezTo>
                  <a:pt x="2773" y="68471"/>
                  <a:pt x="2773" y="68471"/>
                  <a:pt x="2773" y="68471"/>
                </a:cubicBezTo>
                <a:cubicBezTo>
                  <a:pt x="0" y="71721"/>
                  <a:pt x="2773" y="71721"/>
                  <a:pt x="2773" y="71721"/>
                </a:cubicBezTo>
                <a:cubicBezTo>
                  <a:pt x="13682" y="71721"/>
                  <a:pt x="13682" y="71721"/>
                  <a:pt x="13682" y="71721"/>
                </a:cubicBezTo>
                <a:cubicBezTo>
                  <a:pt x="19044" y="99110"/>
                  <a:pt x="38089" y="119767"/>
                  <a:pt x="59907" y="119767"/>
                </a:cubicBezTo>
                <a:cubicBezTo>
                  <a:pt x="76363" y="119767"/>
                  <a:pt x="92634" y="106073"/>
                  <a:pt x="100770" y="88897"/>
                </a:cubicBezTo>
                <a:cubicBezTo>
                  <a:pt x="92634" y="85415"/>
                  <a:pt x="92634" y="85415"/>
                  <a:pt x="92634" y="85415"/>
                </a:cubicBezTo>
                <a:cubicBezTo>
                  <a:pt x="87087" y="99110"/>
                  <a:pt x="73590" y="109323"/>
                  <a:pt x="59907" y="109323"/>
                </a:cubicBezTo>
                <a:close/>
                <a:moveTo>
                  <a:pt x="117041" y="51295"/>
                </a:moveTo>
                <a:lnTo>
                  <a:pt x="117041" y="51295"/>
                </a:lnTo>
                <a:cubicBezTo>
                  <a:pt x="106132" y="51295"/>
                  <a:pt x="106132" y="51295"/>
                  <a:pt x="106132" y="51295"/>
                </a:cubicBezTo>
                <a:cubicBezTo>
                  <a:pt x="103543" y="20657"/>
                  <a:pt x="84314" y="0"/>
                  <a:pt x="59907" y="0"/>
                </a:cubicBezTo>
                <a:cubicBezTo>
                  <a:pt x="40862" y="0"/>
                  <a:pt x="24591" y="13694"/>
                  <a:pt x="19044" y="30870"/>
                </a:cubicBezTo>
                <a:cubicBezTo>
                  <a:pt x="24591" y="34352"/>
                  <a:pt x="24591" y="34352"/>
                  <a:pt x="24591" y="34352"/>
                </a:cubicBezTo>
                <a:cubicBezTo>
                  <a:pt x="32727" y="20657"/>
                  <a:pt x="43636" y="10444"/>
                  <a:pt x="59907" y="10444"/>
                </a:cubicBezTo>
                <a:cubicBezTo>
                  <a:pt x="78952" y="10444"/>
                  <a:pt x="95223" y="27388"/>
                  <a:pt x="97996" y="51295"/>
                </a:cubicBezTo>
                <a:cubicBezTo>
                  <a:pt x="87087" y="51295"/>
                  <a:pt x="87087" y="51295"/>
                  <a:pt x="87087" y="51295"/>
                </a:cubicBezTo>
                <a:cubicBezTo>
                  <a:pt x="84314" y="51295"/>
                  <a:pt x="84314" y="51295"/>
                  <a:pt x="87087" y="54777"/>
                </a:cubicBezTo>
                <a:cubicBezTo>
                  <a:pt x="100770" y="71721"/>
                  <a:pt x="100770" y="71721"/>
                  <a:pt x="100770" y="71721"/>
                </a:cubicBezTo>
                <a:lnTo>
                  <a:pt x="103543" y="71721"/>
                </a:lnTo>
                <a:cubicBezTo>
                  <a:pt x="117041" y="54777"/>
                  <a:pt x="117041" y="54777"/>
                  <a:pt x="117041" y="54777"/>
                </a:cubicBezTo>
                <a:cubicBezTo>
                  <a:pt x="119815" y="54777"/>
                  <a:pt x="117041" y="51295"/>
                  <a:pt x="117041" y="51295"/>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68" name="Shape 4698"/>
          <p:cNvSpPr/>
          <p:nvPr/>
        </p:nvSpPr>
        <p:spPr>
          <a:xfrm>
            <a:off x="3503520" y="3575160"/>
            <a:ext cx="220680" cy="226800"/>
          </a:xfrm>
          <a:custGeom>
            <a:avLst/>
            <a:gdLst>
              <a:gd name="textAreaLeft" fmla="*/ 0 w 220680"/>
              <a:gd name="textAreaRight" fmla="*/ 221040 w 220680"/>
              <a:gd name="textAreaTop" fmla="*/ 0 h 226800"/>
              <a:gd name="textAreaBottom" fmla="*/ 227160 h 226800"/>
            </a:gdLst>
            <a:ahLst/>
            <a:rect l="textAreaLeft" t="textAreaTop" r="textAreaRight" b="textAreaBottom"/>
            <a:pathLst>
              <a:path w="120000" h="120000">
                <a:moveTo>
                  <a:pt x="119737" y="56186"/>
                </a:moveTo>
                <a:lnTo>
                  <a:pt x="119737" y="56186"/>
                </a:lnTo>
                <a:cubicBezTo>
                  <a:pt x="61834" y="3813"/>
                  <a:pt x="61834" y="3813"/>
                  <a:pt x="61834" y="3813"/>
                </a:cubicBezTo>
                <a:cubicBezTo>
                  <a:pt x="61834" y="0"/>
                  <a:pt x="57903" y="0"/>
                  <a:pt x="53973" y="3813"/>
                </a:cubicBezTo>
                <a:cubicBezTo>
                  <a:pt x="53973" y="3813"/>
                  <a:pt x="53973" y="7627"/>
                  <a:pt x="53973" y="11186"/>
                </a:cubicBezTo>
                <a:cubicBezTo>
                  <a:pt x="107947" y="59745"/>
                  <a:pt x="107947" y="59745"/>
                  <a:pt x="107947" y="59745"/>
                </a:cubicBezTo>
                <a:cubicBezTo>
                  <a:pt x="53973" y="112372"/>
                  <a:pt x="53973" y="112372"/>
                  <a:pt x="53973" y="112372"/>
                </a:cubicBezTo>
                <a:cubicBezTo>
                  <a:pt x="53973" y="115932"/>
                  <a:pt x="53973" y="115932"/>
                  <a:pt x="53973" y="119745"/>
                </a:cubicBezTo>
                <a:cubicBezTo>
                  <a:pt x="57903" y="119745"/>
                  <a:pt x="61834" y="119745"/>
                  <a:pt x="61834" y="119745"/>
                </a:cubicBezTo>
                <a:cubicBezTo>
                  <a:pt x="119737" y="63559"/>
                  <a:pt x="119737" y="63559"/>
                  <a:pt x="119737" y="63559"/>
                </a:cubicBezTo>
                <a:cubicBezTo>
                  <a:pt x="119737" y="63559"/>
                  <a:pt x="119737" y="63559"/>
                  <a:pt x="119737" y="59745"/>
                </a:cubicBezTo>
                <a:cubicBezTo>
                  <a:pt x="119737" y="59745"/>
                  <a:pt x="119737" y="59745"/>
                  <a:pt x="119737" y="56186"/>
                </a:cubicBezTo>
                <a:close/>
                <a:moveTo>
                  <a:pt x="57903" y="59745"/>
                </a:moveTo>
                <a:lnTo>
                  <a:pt x="57903" y="59745"/>
                </a:lnTo>
                <a:cubicBezTo>
                  <a:pt x="57903" y="59745"/>
                  <a:pt x="57903" y="59745"/>
                  <a:pt x="57903" y="56186"/>
                </a:cubicBezTo>
                <a:cubicBezTo>
                  <a:pt x="11528" y="11186"/>
                  <a:pt x="11528" y="11186"/>
                  <a:pt x="11528" y="11186"/>
                </a:cubicBezTo>
                <a:cubicBezTo>
                  <a:pt x="7860" y="11186"/>
                  <a:pt x="3930" y="11186"/>
                  <a:pt x="3930" y="11186"/>
                </a:cubicBezTo>
                <a:cubicBezTo>
                  <a:pt x="0" y="15000"/>
                  <a:pt x="0" y="18813"/>
                  <a:pt x="3930" y="18813"/>
                </a:cubicBezTo>
                <a:cubicBezTo>
                  <a:pt x="46375" y="59745"/>
                  <a:pt x="46375" y="59745"/>
                  <a:pt x="46375" y="59745"/>
                </a:cubicBezTo>
                <a:cubicBezTo>
                  <a:pt x="3930" y="100932"/>
                  <a:pt x="3930" y="100932"/>
                  <a:pt x="3930" y="100932"/>
                </a:cubicBezTo>
                <a:cubicBezTo>
                  <a:pt x="0" y="104745"/>
                  <a:pt x="0" y="108559"/>
                  <a:pt x="3930" y="108559"/>
                </a:cubicBezTo>
                <a:cubicBezTo>
                  <a:pt x="3930" y="112372"/>
                  <a:pt x="7860" y="112372"/>
                  <a:pt x="11528" y="108559"/>
                </a:cubicBezTo>
                <a:cubicBezTo>
                  <a:pt x="57903" y="63559"/>
                  <a:pt x="57903" y="63559"/>
                  <a:pt x="57903" y="63559"/>
                </a:cubicBezTo>
                <a:cubicBezTo>
                  <a:pt x="57903" y="63559"/>
                  <a:pt x="57903" y="63559"/>
                  <a:pt x="57903" y="59745"/>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69" name="Shape 4700"/>
          <p:cNvSpPr/>
          <p:nvPr/>
        </p:nvSpPr>
        <p:spPr>
          <a:xfrm>
            <a:off x="2505240" y="3605040"/>
            <a:ext cx="263520" cy="168480"/>
          </a:xfrm>
          <a:custGeom>
            <a:avLst/>
            <a:gdLst>
              <a:gd name="textAreaLeft" fmla="*/ 0 w 263520"/>
              <a:gd name="textAreaRight" fmla="*/ 263880 w 263520"/>
              <a:gd name="textAreaTop" fmla="*/ 0 h 168480"/>
              <a:gd name="textAreaBottom" fmla="*/ 168840 h 168480"/>
            </a:gdLst>
            <a:ahLst/>
            <a:rect l="textAreaLeft" t="textAreaTop" r="textAreaRight" b="textAreaBottom"/>
            <a:pathLst>
              <a:path w="120000" h="120000">
                <a:moveTo>
                  <a:pt x="29230" y="14915"/>
                </a:moveTo>
                <a:lnTo>
                  <a:pt x="29230" y="14915"/>
                </a:lnTo>
                <a:cubicBezTo>
                  <a:pt x="116483" y="14915"/>
                  <a:pt x="116483" y="14915"/>
                  <a:pt x="116483" y="14915"/>
                </a:cubicBezTo>
                <a:cubicBezTo>
                  <a:pt x="119780" y="14915"/>
                  <a:pt x="119780" y="9830"/>
                  <a:pt x="119780" y="9830"/>
                </a:cubicBezTo>
                <a:cubicBezTo>
                  <a:pt x="119780" y="5084"/>
                  <a:pt x="119780" y="0"/>
                  <a:pt x="116483" y="0"/>
                </a:cubicBezTo>
                <a:cubicBezTo>
                  <a:pt x="29230" y="0"/>
                  <a:pt x="29230" y="0"/>
                  <a:pt x="29230" y="0"/>
                </a:cubicBezTo>
                <a:cubicBezTo>
                  <a:pt x="29230" y="0"/>
                  <a:pt x="25934" y="5084"/>
                  <a:pt x="25934" y="9830"/>
                </a:cubicBezTo>
                <a:lnTo>
                  <a:pt x="29230" y="14915"/>
                </a:lnTo>
                <a:close/>
                <a:moveTo>
                  <a:pt x="3296" y="109830"/>
                </a:moveTo>
                <a:lnTo>
                  <a:pt x="3296" y="109830"/>
                </a:lnTo>
                <a:cubicBezTo>
                  <a:pt x="3296" y="109830"/>
                  <a:pt x="0" y="109830"/>
                  <a:pt x="0" y="114576"/>
                </a:cubicBezTo>
                <a:cubicBezTo>
                  <a:pt x="0" y="119661"/>
                  <a:pt x="3296" y="119661"/>
                  <a:pt x="3296" y="119661"/>
                </a:cubicBezTo>
                <a:cubicBezTo>
                  <a:pt x="6593" y="119661"/>
                  <a:pt x="9890" y="119661"/>
                  <a:pt x="9890" y="114576"/>
                </a:cubicBezTo>
                <a:cubicBezTo>
                  <a:pt x="9890" y="109830"/>
                  <a:pt x="6593" y="109830"/>
                  <a:pt x="3296" y="109830"/>
                </a:cubicBezTo>
                <a:close/>
                <a:moveTo>
                  <a:pt x="3296" y="54915"/>
                </a:moveTo>
                <a:lnTo>
                  <a:pt x="3296" y="54915"/>
                </a:lnTo>
                <a:lnTo>
                  <a:pt x="0" y="59661"/>
                </a:lnTo>
                <a:cubicBezTo>
                  <a:pt x="0" y="64745"/>
                  <a:pt x="3296" y="69830"/>
                  <a:pt x="3296" y="69830"/>
                </a:cubicBezTo>
                <a:cubicBezTo>
                  <a:pt x="6593" y="69830"/>
                  <a:pt x="9890" y="64745"/>
                  <a:pt x="9890" y="59661"/>
                </a:cubicBezTo>
                <a:cubicBezTo>
                  <a:pt x="9890" y="59661"/>
                  <a:pt x="6593" y="54915"/>
                  <a:pt x="3296" y="54915"/>
                </a:cubicBezTo>
                <a:close/>
                <a:moveTo>
                  <a:pt x="116483" y="109830"/>
                </a:moveTo>
                <a:lnTo>
                  <a:pt x="116483" y="109830"/>
                </a:lnTo>
                <a:cubicBezTo>
                  <a:pt x="29230" y="109830"/>
                  <a:pt x="29230" y="109830"/>
                  <a:pt x="29230" y="109830"/>
                </a:cubicBezTo>
                <a:cubicBezTo>
                  <a:pt x="29230" y="109830"/>
                  <a:pt x="25934" y="109830"/>
                  <a:pt x="25934" y="114576"/>
                </a:cubicBezTo>
                <a:cubicBezTo>
                  <a:pt x="25934" y="119661"/>
                  <a:pt x="29230" y="119661"/>
                  <a:pt x="29230" y="119661"/>
                </a:cubicBezTo>
                <a:cubicBezTo>
                  <a:pt x="116483" y="119661"/>
                  <a:pt x="116483" y="119661"/>
                  <a:pt x="116483" y="119661"/>
                </a:cubicBezTo>
                <a:cubicBezTo>
                  <a:pt x="119780" y="119661"/>
                  <a:pt x="119780" y="119661"/>
                  <a:pt x="119780" y="114576"/>
                </a:cubicBezTo>
                <a:cubicBezTo>
                  <a:pt x="119780" y="109830"/>
                  <a:pt x="119780" y="109830"/>
                  <a:pt x="116483" y="109830"/>
                </a:cubicBezTo>
                <a:close/>
                <a:moveTo>
                  <a:pt x="116483" y="54915"/>
                </a:moveTo>
                <a:lnTo>
                  <a:pt x="116483" y="54915"/>
                </a:lnTo>
                <a:cubicBezTo>
                  <a:pt x="29230" y="54915"/>
                  <a:pt x="29230" y="54915"/>
                  <a:pt x="29230" y="54915"/>
                </a:cubicBezTo>
                <a:lnTo>
                  <a:pt x="25934" y="59661"/>
                </a:lnTo>
                <a:cubicBezTo>
                  <a:pt x="25934" y="64745"/>
                  <a:pt x="29230" y="69830"/>
                  <a:pt x="29230" y="69830"/>
                </a:cubicBezTo>
                <a:cubicBezTo>
                  <a:pt x="116483" y="69830"/>
                  <a:pt x="116483" y="69830"/>
                  <a:pt x="116483" y="69830"/>
                </a:cubicBezTo>
                <a:cubicBezTo>
                  <a:pt x="119780" y="69830"/>
                  <a:pt x="119780" y="64745"/>
                  <a:pt x="119780" y="59661"/>
                </a:cubicBezTo>
                <a:cubicBezTo>
                  <a:pt x="119780" y="59661"/>
                  <a:pt x="119780" y="54915"/>
                  <a:pt x="116483" y="54915"/>
                </a:cubicBezTo>
                <a:close/>
                <a:moveTo>
                  <a:pt x="3296" y="0"/>
                </a:moveTo>
                <a:lnTo>
                  <a:pt x="3296" y="0"/>
                </a:lnTo>
                <a:cubicBezTo>
                  <a:pt x="3296" y="0"/>
                  <a:pt x="0" y="5084"/>
                  <a:pt x="0" y="9830"/>
                </a:cubicBezTo>
                <a:lnTo>
                  <a:pt x="3296" y="14915"/>
                </a:lnTo>
                <a:cubicBezTo>
                  <a:pt x="6593" y="14915"/>
                  <a:pt x="9890" y="9830"/>
                  <a:pt x="9890" y="9830"/>
                </a:cubicBezTo>
                <a:cubicBezTo>
                  <a:pt x="9890" y="5084"/>
                  <a:pt x="6593" y="0"/>
                  <a:pt x="3296" y="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70" name="Shape 4702"/>
          <p:cNvSpPr/>
          <p:nvPr/>
        </p:nvSpPr>
        <p:spPr>
          <a:xfrm>
            <a:off x="1501920" y="3552840"/>
            <a:ext cx="304560" cy="270000"/>
          </a:xfrm>
          <a:custGeom>
            <a:avLst/>
            <a:gdLst>
              <a:gd name="textAreaLeft" fmla="*/ 0 w 304560"/>
              <a:gd name="textAreaRight" fmla="*/ 304920 w 304560"/>
              <a:gd name="textAreaTop" fmla="*/ 0 h 270000"/>
              <a:gd name="textAreaBottom" fmla="*/ 270360 h 270000"/>
            </a:gdLst>
            <a:ahLst/>
            <a:rect l="textAreaLeft" t="textAreaTop" r="textAreaRight" b="textAreaBottom"/>
            <a:pathLst>
              <a:path w="120000" h="120000">
                <a:moveTo>
                  <a:pt x="111482" y="3214"/>
                </a:moveTo>
                <a:lnTo>
                  <a:pt x="111482" y="3214"/>
                </a:lnTo>
                <a:cubicBezTo>
                  <a:pt x="75141" y="31500"/>
                  <a:pt x="75141" y="31500"/>
                  <a:pt x="75141" y="31500"/>
                </a:cubicBezTo>
                <a:cubicBezTo>
                  <a:pt x="75141" y="9428"/>
                  <a:pt x="75141" y="9428"/>
                  <a:pt x="75141" y="9428"/>
                </a:cubicBezTo>
                <a:cubicBezTo>
                  <a:pt x="75141" y="0"/>
                  <a:pt x="72492" y="0"/>
                  <a:pt x="67003" y="3214"/>
                </a:cubicBezTo>
                <a:cubicBezTo>
                  <a:pt x="2839" y="53571"/>
                  <a:pt x="2839" y="53571"/>
                  <a:pt x="2839" y="53571"/>
                </a:cubicBezTo>
                <a:cubicBezTo>
                  <a:pt x="0" y="56785"/>
                  <a:pt x="0" y="63000"/>
                  <a:pt x="2839" y="66214"/>
                </a:cubicBezTo>
                <a:cubicBezTo>
                  <a:pt x="67003" y="119785"/>
                  <a:pt x="67003" y="119785"/>
                  <a:pt x="67003" y="119785"/>
                </a:cubicBezTo>
                <a:cubicBezTo>
                  <a:pt x="69652" y="119785"/>
                  <a:pt x="75141" y="119785"/>
                  <a:pt x="75141" y="110357"/>
                </a:cubicBezTo>
                <a:cubicBezTo>
                  <a:pt x="75141" y="88285"/>
                  <a:pt x="75141" y="88285"/>
                  <a:pt x="75141" y="88285"/>
                </a:cubicBezTo>
                <a:cubicBezTo>
                  <a:pt x="111482" y="119785"/>
                  <a:pt x="111482" y="119785"/>
                  <a:pt x="111482" y="119785"/>
                </a:cubicBezTo>
                <a:cubicBezTo>
                  <a:pt x="114321" y="119785"/>
                  <a:pt x="119810" y="119785"/>
                  <a:pt x="119810" y="110357"/>
                </a:cubicBezTo>
                <a:cubicBezTo>
                  <a:pt x="119810" y="9428"/>
                  <a:pt x="119810" y="9428"/>
                  <a:pt x="119810" y="9428"/>
                </a:cubicBezTo>
                <a:cubicBezTo>
                  <a:pt x="119810" y="0"/>
                  <a:pt x="116971" y="0"/>
                  <a:pt x="111482" y="3214"/>
                </a:cubicBezTo>
                <a:close/>
                <a:moveTo>
                  <a:pt x="114321" y="107142"/>
                </a:moveTo>
                <a:lnTo>
                  <a:pt x="114321" y="107142"/>
                </a:lnTo>
                <a:cubicBezTo>
                  <a:pt x="69652" y="72428"/>
                  <a:pt x="69652" y="72428"/>
                  <a:pt x="69652" y="72428"/>
                </a:cubicBezTo>
                <a:lnTo>
                  <a:pt x="69652" y="107142"/>
                </a:lnTo>
                <a:cubicBezTo>
                  <a:pt x="8328" y="59785"/>
                  <a:pt x="8328" y="59785"/>
                  <a:pt x="8328" y="59785"/>
                </a:cubicBezTo>
                <a:cubicBezTo>
                  <a:pt x="69652" y="12642"/>
                  <a:pt x="69652" y="12642"/>
                  <a:pt x="69652" y="12642"/>
                </a:cubicBezTo>
                <a:cubicBezTo>
                  <a:pt x="69652" y="22071"/>
                  <a:pt x="69652" y="50571"/>
                  <a:pt x="69652" y="50571"/>
                </a:cubicBezTo>
                <a:cubicBezTo>
                  <a:pt x="114321" y="12642"/>
                  <a:pt x="114321" y="12642"/>
                  <a:pt x="114321" y="12642"/>
                </a:cubicBezTo>
                <a:lnTo>
                  <a:pt x="114321" y="107142"/>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71" name="Shape 4704"/>
          <p:cNvSpPr/>
          <p:nvPr/>
        </p:nvSpPr>
        <p:spPr>
          <a:xfrm>
            <a:off x="5450040" y="3067200"/>
            <a:ext cx="261720" cy="268200"/>
          </a:xfrm>
          <a:custGeom>
            <a:avLst/>
            <a:gdLst>
              <a:gd name="textAreaLeft" fmla="*/ 0 w 261720"/>
              <a:gd name="textAreaRight" fmla="*/ 262080 w 261720"/>
              <a:gd name="textAreaTop" fmla="*/ 0 h 268200"/>
              <a:gd name="textAreaBottom" fmla="*/ 268560 h 268200"/>
            </a:gdLst>
            <a:ahLst/>
            <a:rect l="textAreaLeft" t="textAreaTop" r="textAreaRight" b="textAreaBottom"/>
            <a:pathLst>
              <a:path w="120000" h="120000">
                <a:moveTo>
                  <a:pt x="113394" y="0"/>
                </a:moveTo>
                <a:lnTo>
                  <a:pt x="113394" y="0"/>
                </a:lnTo>
                <a:cubicBezTo>
                  <a:pt x="9688" y="0"/>
                  <a:pt x="9688" y="0"/>
                  <a:pt x="9688" y="0"/>
                </a:cubicBezTo>
                <a:cubicBezTo>
                  <a:pt x="3082" y="0"/>
                  <a:pt x="0" y="6417"/>
                  <a:pt x="0" y="9411"/>
                </a:cubicBezTo>
                <a:cubicBezTo>
                  <a:pt x="0" y="110160"/>
                  <a:pt x="0" y="110160"/>
                  <a:pt x="0" y="110160"/>
                </a:cubicBezTo>
                <a:cubicBezTo>
                  <a:pt x="0" y="113368"/>
                  <a:pt x="3082" y="119786"/>
                  <a:pt x="9688" y="119786"/>
                </a:cubicBezTo>
                <a:cubicBezTo>
                  <a:pt x="113394" y="119786"/>
                  <a:pt x="113394" y="119786"/>
                  <a:pt x="113394" y="119786"/>
                </a:cubicBezTo>
                <a:cubicBezTo>
                  <a:pt x="116697" y="119786"/>
                  <a:pt x="119779" y="113368"/>
                  <a:pt x="119779" y="110160"/>
                </a:cubicBezTo>
                <a:cubicBezTo>
                  <a:pt x="119779" y="9411"/>
                  <a:pt x="119779" y="9411"/>
                  <a:pt x="119779" y="9411"/>
                </a:cubicBezTo>
                <a:cubicBezTo>
                  <a:pt x="119779" y="6417"/>
                  <a:pt x="116697" y="0"/>
                  <a:pt x="113394" y="0"/>
                </a:cubicBezTo>
                <a:close/>
                <a:moveTo>
                  <a:pt x="113394" y="107165"/>
                </a:moveTo>
                <a:lnTo>
                  <a:pt x="113394" y="107165"/>
                </a:lnTo>
                <a:cubicBezTo>
                  <a:pt x="113394" y="107165"/>
                  <a:pt x="110091" y="110160"/>
                  <a:pt x="106788" y="110160"/>
                </a:cubicBezTo>
                <a:cubicBezTo>
                  <a:pt x="12770" y="110160"/>
                  <a:pt x="12770" y="110160"/>
                  <a:pt x="12770" y="110160"/>
                </a:cubicBezTo>
                <a:cubicBezTo>
                  <a:pt x="9688" y="110160"/>
                  <a:pt x="9688" y="107165"/>
                  <a:pt x="9688" y="107165"/>
                </a:cubicBezTo>
                <a:cubicBezTo>
                  <a:pt x="9688" y="12620"/>
                  <a:pt x="9688" y="12620"/>
                  <a:pt x="9688" y="12620"/>
                </a:cubicBezTo>
                <a:cubicBezTo>
                  <a:pt x="9688" y="12620"/>
                  <a:pt x="9688" y="9411"/>
                  <a:pt x="12770" y="9411"/>
                </a:cubicBezTo>
                <a:cubicBezTo>
                  <a:pt x="106788" y="9411"/>
                  <a:pt x="106788" y="9411"/>
                  <a:pt x="106788" y="9411"/>
                </a:cubicBezTo>
                <a:cubicBezTo>
                  <a:pt x="110091" y="9411"/>
                  <a:pt x="113394" y="12620"/>
                  <a:pt x="113394" y="12620"/>
                </a:cubicBezTo>
                <a:lnTo>
                  <a:pt x="113394" y="107165"/>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72" name="Shape 4706"/>
          <p:cNvSpPr/>
          <p:nvPr/>
        </p:nvSpPr>
        <p:spPr>
          <a:xfrm>
            <a:off x="4492800" y="3067200"/>
            <a:ext cx="212400" cy="268200"/>
          </a:xfrm>
          <a:custGeom>
            <a:avLst/>
            <a:gdLst>
              <a:gd name="textAreaLeft" fmla="*/ 0 w 212400"/>
              <a:gd name="textAreaRight" fmla="*/ 212760 w 212400"/>
              <a:gd name="textAreaTop" fmla="*/ 0 h 268200"/>
              <a:gd name="textAreaBottom" fmla="*/ 268560 h 268200"/>
            </a:gdLst>
            <a:ahLst/>
            <a:rect l="textAreaLeft" t="textAreaTop" r="textAreaRight" b="textAreaBottom"/>
            <a:pathLst>
              <a:path w="120000" h="120000">
                <a:moveTo>
                  <a:pt x="115665" y="53475"/>
                </a:moveTo>
                <a:lnTo>
                  <a:pt x="115665" y="53475"/>
                </a:lnTo>
                <a:cubicBezTo>
                  <a:pt x="15981" y="3208"/>
                  <a:pt x="15981" y="3208"/>
                  <a:pt x="15981" y="3208"/>
                </a:cubicBezTo>
                <a:cubicBezTo>
                  <a:pt x="8126" y="0"/>
                  <a:pt x="0" y="0"/>
                  <a:pt x="0" y="9411"/>
                </a:cubicBezTo>
                <a:cubicBezTo>
                  <a:pt x="0" y="110160"/>
                  <a:pt x="0" y="110160"/>
                  <a:pt x="0" y="110160"/>
                </a:cubicBezTo>
                <a:cubicBezTo>
                  <a:pt x="0" y="119786"/>
                  <a:pt x="8126" y="119786"/>
                  <a:pt x="15981" y="116577"/>
                </a:cubicBezTo>
                <a:cubicBezTo>
                  <a:pt x="115665" y="66096"/>
                  <a:pt x="115665" y="66096"/>
                  <a:pt x="115665" y="66096"/>
                </a:cubicBezTo>
                <a:cubicBezTo>
                  <a:pt x="119729" y="62887"/>
                  <a:pt x="119729" y="56684"/>
                  <a:pt x="115665" y="53475"/>
                </a:cubicBezTo>
                <a:close/>
                <a:moveTo>
                  <a:pt x="11918" y="107165"/>
                </a:moveTo>
                <a:lnTo>
                  <a:pt x="11918" y="107165"/>
                </a:lnTo>
                <a:cubicBezTo>
                  <a:pt x="11918" y="103957"/>
                  <a:pt x="11918" y="18823"/>
                  <a:pt x="11918" y="12620"/>
                </a:cubicBezTo>
                <a:cubicBezTo>
                  <a:pt x="107810" y="59893"/>
                  <a:pt x="107810" y="59893"/>
                  <a:pt x="107810" y="59893"/>
                </a:cubicBezTo>
                <a:lnTo>
                  <a:pt x="11918" y="107165"/>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73" name="Shape 4708"/>
          <p:cNvSpPr/>
          <p:nvPr/>
        </p:nvSpPr>
        <p:spPr>
          <a:xfrm>
            <a:off x="3473280" y="3087720"/>
            <a:ext cx="284400" cy="225360"/>
          </a:xfrm>
          <a:custGeom>
            <a:avLst/>
            <a:gdLst>
              <a:gd name="textAreaLeft" fmla="*/ 0 w 284400"/>
              <a:gd name="textAreaRight" fmla="*/ 284760 w 284400"/>
              <a:gd name="textAreaTop" fmla="*/ 0 h 225360"/>
              <a:gd name="textAreaBottom" fmla="*/ 225720 h 225360"/>
            </a:gdLst>
            <a:ahLst/>
            <a:rect l="textAreaLeft" t="textAreaTop" r="textAreaRight" b="textAreaBottom"/>
            <a:pathLst>
              <a:path w="120000" h="120000">
                <a:moveTo>
                  <a:pt x="101898" y="60000"/>
                </a:moveTo>
                <a:lnTo>
                  <a:pt x="101898" y="60000"/>
                </a:lnTo>
                <a:cubicBezTo>
                  <a:pt x="119796" y="37627"/>
                  <a:pt x="119796" y="37627"/>
                  <a:pt x="119796" y="37627"/>
                </a:cubicBezTo>
                <a:cubicBezTo>
                  <a:pt x="119796" y="37627"/>
                  <a:pt x="119796" y="33813"/>
                  <a:pt x="119796" y="30000"/>
                </a:cubicBezTo>
                <a:cubicBezTo>
                  <a:pt x="116745" y="30000"/>
                  <a:pt x="113898" y="30000"/>
                  <a:pt x="113898" y="33813"/>
                </a:cubicBezTo>
                <a:cubicBezTo>
                  <a:pt x="95796" y="52372"/>
                  <a:pt x="95796" y="52372"/>
                  <a:pt x="95796" y="52372"/>
                </a:cubicBezTo>
                <a:cubicBezTo>
                  <a:pt x="80949" y="33813"/>
                  <a:pt x="80949" y="33813"/>
                  <a:pt x="80949" y="33813"/>
                </a:cubicBezTo>
                <a:cubicBezTo>
                  <a:pt x="77898" y="30000"/>
                  <a:pt x="75050" y="30000"/>
                  <a:pt x="75050" y="30000"/>
                </a:cubicBezTo>
                <a:cubicBezTo>
                  <a:pt x="72000" y="33813"/>
                  <a:pt x="72000" y="37627"/>
                  <a:pt x="75050" y="37627"/>
                </a:cubicBezTo>
                <a:cubicBezTo>
                  <a:pt x="89898" y="60000"/>
                  <a:pt x="89898" y="60000"/>
                  <a:pt x="89898" y="60000"/>
                </a:cubicBezTo>
                <a:cubicBezTo>
                  <a:pt x="75050" y="82372"/>
                  <a:pt x="75050" y="82372"/>
                  <a:pt x="75050" y="82372"/>
                </a:cubicBezTo>
                <a:cubicBezTo>
                  <a:pt x="72000" y="82372"/>
                  <a:pt x="72000" y="86186"/>
                  <a:pt x="75050" y="89745"/>
                </a:cubicBezTo>
                <a:cubicBezTo>
                  <a:pt x="75050" y="89745"/>
                  <a:pt x="77898" y="89745"/>
                  <a:pt x="80949" y="86186"/>
                </a:cubicBezTo>
                <a:cubicBezTo>
                  <a:pt x="95796" y="67372"/>
                  <a:pt x="95796" y="67372"/>
                  <a:pt x="95796" y="67372"/>
                </a:cubicBezTo>
                <a:cubicBezTo>
                  <a:pt x="113898" y="86186"/>
                  <a:pt x="113898" y="86186"/>
                  <a:pt x="113898" y="86186"/>
                </a:cubicBezTo>
                <a:cubicBezTo>
                  <a:pt x="113898" y="89745"/>
                  <a:pt x="116745" y="89745"/>
                  <a:pt x="119796" y="89745"/>
                </a:cubicBezTo>
                <a:cubicBezTo>
                  <a:pt x="119796" y="86186"/>
                  <a:pt x="119796" y="82372"/>
                  <a:pt x="119796" y="82372"/>
                </a:cubicBezTo>
                <a:lnTo>
                  <a:pt x="101898" y="60000"/>
                </a:lnTo>
                <a:close/>
                <a:moveTo>
                  <a:pt x="56949" y="0"/>
                </a:moveTo>
                <a:lnTo>
                  <a:pt x="56949" y="0"/>
                </a:lnTo>
                <a:cubicBezTo>
                  <a:pt x="20949" y="30000"/>
                  <a:pt x="20949" y="30000"/>
                  <a:pt x="20949" y="30000"/>
                </a:cubicBezTo>
                <a:cubicBezTo>
                  <a:pt x="8949" y="30000"/>
                  <a:pt x="8949" y="30000"/>
                  <a:pt x="8949" y="30000"/>
                </a:cubicBezTo>
                <a:cubicBezTo>
                  <a:pt x="6101" y="30000"/>
                  <a:pt x="0" y="33813"/>
                  <a:pt x="0" y="41186"/>
                </a:cubicBezTo>
                <a:cubicBezTo>
                  <a:pt x="0" y="78559"/>
                  <a:pt x="0" y="78559"/>
                  <a:pt x="0" y="78559"/>
                </a:cubicBezTo>
                <a:cubicBezTo>
                  <a:pt x="0" y="86186"/>
                  <a:pt x="6101" y="89745"/>
                  <a:pt x="8949" y="89745"/>
                </a:cubicBezTo>
                <a:cubicBezTo>
                  <a:pt x="20949" y="89745"/>
                  <a:pt x="20949" y="89745"/>
                  <a:pt x="20949" y="89745"/>
                </a:cubicBezTo>
                <a:cubicBezTo>
                  <a:pt x="56949" y="119745"/>
                  <a:pt x="56949" y="119745"/>
                  <a:pt x="56949" y="119745"/>
                </a:cubicBezTo>
                <a:cubicBezTo>
                  <a:pt x="60000" y="119745"/>
                  <a:pt x="65898" y="116186"/>
                  <a:pt x="65898" y="108559"/>
                </a:cubicBezTo>
                <a:cubicBezTo>
                  <a:pt x="65898" y="11186"/>
                  <a:pt x="65898" y="11186"/>
                  <a:pt x="65898" y="11186"/>
                </a:cubicBezTo>
                <a:cubicBezTo>
                  <a:pt x="65898" y="3813"/>
                  <a:pt x="60000" y="0"/>
                  <a:pt x="56949" y="0"/>
                </a:cubicBezTo>
                <a:close/>
                <a:moveTo>
                  <a:pt x="20949" y="75000"/>
                </a:moveTo>
                <a:lnTo>
                  <a:pt x="20949" y="75000"/>
                </a:lnTo>
                <a:cubicBezTo>
                  <a:pt x="20949" y="78559"/>
                  <a:pt x="18101" y="78559"/>
                  <a:pt x="18101" y="78559"/>
                </a:cubicBezTo>
                <a:cubicBezTo>
                  <a:pt x="12000" y="78559"/>
                  <a:pt x="12000" y="78559"/>
                  <a:pt x="12000" y="78559"/>
                </a:cubicBezTo>
                <a:cubicBezTo>
                  <a:pt x="12000" y="78559"/>
                  <a:pt x="8949" y="78559"/>
                  <a:pt x="8949" y="75000"/>
                </a:cubicBezTo>
                <a:cubicBezTo>
                  <a:pt x="8949" y="45000"/>
                  <a:pt x="8949" y="45000"/>
                  <a:pt x="8949" y="45000"/>
                </a:cubicBezTo>
                <a:cubicBezTo>
                  <a:pt x="8949" y="41186"/>
                  <a:pt x="12000" y="41186"/>
                  <a:pt x="12000" y="41186"/>
                </a:cubicBezTo>
                <a:cubicBezTo>
                  <a:pt x="18101" y="41186"/>
                  <a:pt x="18101" y="41186"/>
                  <a:pt x="18101" y="41186"/>
                </a:cubicBezTo>
                <a:cubicBezTo>
                  <a:pt x="18101" y="41186"/>
                  <a:pt x="20949" y="41186"/>
                  <a:pt x="20949" y="45000"/>
                </a:cubicBezTo>
                <a:lnTo>
                  <a:pt x="20949" y="75000"/>
                </a:lnTo>
                <a:close/>
                <a:moveTo>
                  <a:pt x="56949" y="108559"/>
                </a:moveTo>
                <a:lnTo>
                  <a:pt x="56949" y="108559"/>
                </a:lnTo>
                <a:cubicBezTo>
                  <a:pt x="30101" y="86186"/>
                  <a:pt x="30101" y="86186"/>
                  <a:pt x="30101" y="86186"/>
                </a:cubicBezTo>
                <a:cubicBezTo>
                  <a:pt x="30101" y="30000"/>
                  <a:pt x="30101" y="30000"/>
                  <a:pt x="30101" y="30000"/>
                </a:cubicBezTo>
                <a:cubicBezTo>
                  <a:pt x="56949" y="11186"/>
                  <a:pt x="56949" y="11186"/>
                  <a:pt x="56949" y="11186"/>
                </a:cubicBezTo>
                <a:lnTo>
                  <a:pt x="56949" y="108559"/>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74" name="Shape 4710"/>
          <p:cNvSpPr/>
          <p:nvPr/>
        </p:nvSpPr>
        <p:spPr>
          <a:xfrm>
            <a:off x="2513160" y="3087720"/>
            <a:ext cx="241200" cy="225360"/>
          </a:xfrm>
          <a:custGeom>
            <a:avLst/>
            <a:gdLst>
              <a:gd name="textAreaLeft" fmla="*/ 0 w 241200"/>
              <a:gd name="textAreaRight" fmla="*/ 241560 w 241200"/>
              <a:gd name="textAreaTop" fmla="*/ 0 h 225360"/>
              <a:gd name="textAreaBottom" fmla="*/ 225720 h 225360"/>
            </a:gdLst>
            <a:ahLst/>
            <a:rect l="textAreaLeft" t="textAreaTop" r="textAreaRight" b="textAreaBottom"/>
            <a:pathLst>
              <a:path w="120000" h="120000">
                <a:moveTo>
                  <a:pt x="66932" y="0"/>
                </a:moveTo>
                <a:lnTo>
                  <a:pt x="66932" y="0"/>
                </a:lnTo>
                <a:cubicBezTo>
                  <a:pt x="24621" y="30000"/>
                  <a:pt x="24621" y="30000"/>
                  <a:pt x="24621" y="30000"/>
                </a:cubicBezTo>
                <a:cubicBezTo>
                  <a:pt x="10517" y="30000"/>
                  <a:pt x="10517" y="30000"/>
                  <a:pt x="10517" y="30000"/>
                </a:cubicBezTo>
                <a:cubicBezTo>
                  <a:pt x="7171" y="30000"/>
                  <a:pt x="0" y="33813"/>
                  <a:pt x="0" y="41186"/>
                </a:cubicBezTo>
                <a:cubicBezTo>
                  <a:pt x="0" y="78559"/>
                  <a:pt x="0" y="78559"/>
                  <a:pt x="0" y="78559"/>
                </a:cubicBezTo>
                <a:cubicBezTo>
                  <a:pt x="0" y="86186"/>
                  <a:pt x="7171" y="89745"/>
                  <a:pt x="10517" y="89745"/>
                </a:cubicBezTo>
                <a:cubicBezTo>
                  <a:pt x="24621" y="89745"/>
                  <a:pt x="24621" y="89745"/>
                  <a:pt x="24621" y="89745"/>
                </a:cubicBezTo>
                <a:cubicBezTo>
                  <a:pt x="66932" y="119745"/>
                  <a:pt x="66932" y="119745"/>
                  <a:pt x="66932" y="119745"/>
                </a:cubicBezTo>
                <a:cubicBezTo>
                  <a:pt x="70517" y="119745"/>
                  <a:pt x="77450" y="116186"/>
                  <a:pt x="77450" y="108559"/>
                </a:cubicBezTo>
                <a:cubicBezTo>
                  <a:pt x="77450" y="11186"/>
                  <a:pt x="77450" y="11186"/>
                  <a:pt x="77450" y="11186"/>
                </a:cubicBezTo>
                <a:cubicBezTo>
                  <a:pt x="77450" y="3813"/>
                  <a:pt x="70517" y="0"/>
                  <a:pt x="66932" y="0"/>
                </a:cubicBezTo>
                <a:close/>
                <a:moveTo>
                  <a:pt x="24621" y="75000"/>
                </a:moveTo>
                <a:lnTo>
                  <a:pt x="24621" y="75000"/>
                </a:lnTo>
                <a:cubicBezTo>
                  <a:pt x="24621" y="78559"/>
                  <a:pt x="21274" y="78559"/>
                  <a:pt x="21274" y="78559"/>
                </a:cubicBezTo>
                <a:cubicBezTo>
                  <a:pt x="14103" y="78559"/>
                  <a:pt x="14103" y="78559"/>
                  <a:pt x="14103" y="78559"/>
                </a:cubicBezTo>
                <a:cubicBezTo>
                  <a:pt x="14103" y="78559"/>
                  <a:pt x="10517" y="78559"/>
                  <a:pt x="10517" y="75000"/>
                </a:cubicBezTo>
                <a:cubicBezTo>
                  <a:pt x="10517" y="45000"/>
                  <a:pt x="10517" y="45000"/>
                  <a:pt x="10517" y="45000"/>
                </a:cubicBezTo>
                <a:cubicBezTo>
                  <a:pt x="10517" y="41186"/>
                  <a:pt x="14103" y="41186"/>
                  <a:pt x="14103" y="41186"/>
                </a:cubicBezTo>
                <a:cubicBezTo>
                  <a:pt x="21274" y="41186"/>
                  <a:pt x="21274" y="41186"/>
                  <a:pt x="21274" y="41186"/>
                </a:cubicBezTo>
                <a:cubicBezTo>
                  <a:pt x="21274" y="41186"/>
                  <a:pt x="24621" y="41186"/>
                  <a:pt x="24621" y="45000"/>
                </a:cubicBezTo>
                <a:lnTo>
                  <a:pt x="24621" y="75000"/>
                </a:lnTo>
                <a:close/>
                <a:moveTo>
                  <a:pt x="66932" y="108559"/>
                </a:moveTo>
                <a:lnTo>
                  <a:pt x="66932" y="108559"/>
                </a:lnTo>
                <a:cubicBezTo>
                  <a:pt x="35378" y="86186"/>
                  <a:pt x="35378" y="86186"/>
                  <a:pt x="35378" y="86186"/>
                </a:cubicBezTo>
                <a:cubicBezTo>
                  <a:pt x="35378" y="78559"/>
                  <a:pt x="35378" y="37627"/>
                  <a:pt x="35378" y="30000"/>
                </a:cubicBezTo>
                <a:cubicBezTo>
                  <a:pt x="66932" y="11186"/>
                  <a:pt x="66932" y="11186"/>
                  <a:pt x="66932" y="11186"/>
                </a:cubicBezTo>
                <a:cubicBezTo>
                  <a:pt x="66932" y="15000"/>
                  <a:pt x="66932" y="104745"/>
                  <a:pt x="66932" y="108559"/>
                </a:cubicBezTo>
                <a:close/>
                <a:moveTo>
                  <a:pt x="91553" y="26186"/>
                </a:moveTo>
                <a:lnTo>
                  <a:pt x="91553" y="26186"/>
                </a:lnTo>
                <a:cubicBezTo>
                  <a:pt x="91553" y="33813"/>
                  <a:pt x="91553" y="33813"/>
                  <a:pt x="91553" y="33813"/>
                </a:cubicBezTo>
                <a:cubicBezTo>
                  <a:pt x="102071" y="37627"/>
                  <a:pt x="109243" y="48559"/>
                  <a:pt x="109243" y="60000"/>
                </a:cubicBezTo>
                <a:cubicBezTo>
                  <a:pt x="109243" y="71186"/>
                  <a:pt x="102071" y="82372"/>
                  <a:pt x="91553" y="86186"/>
                </a:cubicBezTo>
                <a:cubicBezTo>
                  <a:pt x="91553" y="93559"/>
                  <a:pt x="91553" y="93559"/>
                  <a:pt x="91553" y="93559"/>
                </a:cubicBezTo>
                <a:cubicBezTo>
                  <a:pt x="105657" y="93559"/>
                  <a:pt x="119760" y="78559"/>
                  <a:pt x="119760" y="60000"/>
                </a:cubicBezTo>
                <a:cubicBezTo>
                  <a:pt x="119760" y="41186"/>
                  <a:pt x="105657" y="26186"/>
                  <a:pt x="91553" y="2618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75" name="Shape 4712"/>
          <p:cNvSpPr/>
          <p:nvPr/>
        </p:nvSpPr>
        <p:spPr>
          <a:xfrm>
            <a:off x="1544760" y="3051000"/>
            <a:ext cx="226800" cy="295560"/>
          </a:xfrm>
          <a:custGeom>
            <a:avLst/>
            <a:gdLst>
              <a:gd name="textAreaLeft" fmla="*/ 0 w 226800"/>
              <a:gd name="textAreaRight" fmla="*/ 227160 w 226800"/>
              <a:gd name="textAreaTop" fmla="*/ 0 h 295560"/>
              <a:gd name="textAreaBottom" fmla="*/ 295920 h 295560"/>
            </a:gdLst>
            <a:ahLst/>
            <a:rect l="textAreaLeft" t="textAreaTop" r="textAreaRight" b="textAreaBottom"/>
            <a:pathLst>
              <a:path w="120000" h="120000">
                <a:moveTo>
                  <a:pt x="93559" y="85492"/>
                </a:moveTo>
                <a:lnTo>
                  <a:pt x="93559" y="85492"/>
                </a:lnTo>
                <a:cubicBezTo>
                  <a:pt x="93559" y="71340"/>
                  <a:pt x="78559" y="59903"/>
                  <a:pt x="60000" y="59903"/>
                </a:cubicBezTo>
                <a:cubicBezTo>
                  <a:pt x="41186" y="59903"/>
                  <a:pt x="26440" y="71340"/>
                  <a:pt x="26440" y="85492"/>
                </a:cubicBezTo>
                <a:cubicBezTo>
                  <a:pt x="26440" y="99838"/>
                  <a:pt x="41186" y="114184"/>
                  <a:pt x="60000" y="114184"/>
                </a:cubicBezTo>
                <a:cubicBezTo>
                  <a:pt x="78559" y="114184"/>
                  <a:pt x="93559" y="99838"/>
                  <a:pt x="93559" y="85492"/>
                </a:cubicBezTo>
                <a:close/>
                <a:moveTo>
                  <a:pt x="60000" y="105460"/>
                </a:moveTo>
                <a:lnTo>
                  <a:pt x="60000" y="105460"/>
                </a:lnTo>
                <a:cubicBezTo>
                  <a:pt x="45000" y="105460"/>
                  <a:pt x="33813" y="96930"/>
                  <a:pt x="33813" y="85492"/>
                </a:cubicBezTo>
                <a:cubicBezTo>
                  <a:pt x="33813" y="76962"/>
                  <a:pt x="45000" y="68432"/>
                  <a:pt x="60000" y="68432"/>
                </a:cubicBezTo>
                <a:cubicBezTo>
                  <a:pt x="75000" y="68432"/>
                  <a:pt x="86186" y="76962"/>
                  <a:pt x="86186" y="85492"/>
                </a:cubicBezTo>
                <a:cubicBezTo>
                  <a:pt x="86186" y="96930"/>
                  <a:pt x="75000" y="105460"/>
                  <a:pt x="60000" y="105460"/>
                </a:cubicBezTo>
                <a:close/>
                <a:moveTo>
                  <a:pt x="101186" y="0"/>
                </a:moveTo>
                <a:lnTo>
                  <a:pt x="101186" y="0"/>
                </a:lnTo>
                <a:cubicBezTo>
                  <a:pt x="18813" y="0"/>
                  <a:pt x="18813" y="0"/>
                  <a:pt x="18813" y="0"/>
                </a:cubicBezTo>
                <a:cubicBezTo>
                  <a:pt x="7627" y="0"/>
                  <a:pt x="0" y="5621"/>
                  <a:pt x="0" y="14151"/>
                </a:cubicBezTo>
                <a:cubicBezTo>
                  <a:pt x="0" y="105460"/>
                  <a:pt x="0" y="105460"/>
                  <a:pt x="0" y="105460"/>
                </a:cubicBezTo>
                <a:cubicBezTo>
                  <a:pt x="0" y="114184"/>
                  <a:pt x="7627" y="119806"/>
                  <a:pt x="18813" y="119806"/>
                </a:cubicBezTo>
                <a:cubicBezTo>
                  <a:pt x="101186" y="119806"/>
                  <a:pt x="101186" y="119806"/>
                  <a:pt x="101186" y="119806"/>
                </a:cubicBezTo>
                <a:cubicBezTo>
                  <a:pt x="112372" y="119806"/>
                  <a:pt x="119745" y="114184"/>
                  <a:pt x="119745" y="105460"/>
                </a:cubicBezTo>
                <a:cubicBezTo>
                  <a:pt x="119745" y="14151"/>
                  <a:pt x="119745" y="14151"/>
                  <a:pt x="119745" y="14151"/>
                </a:cubicBezTo>
                <a:cubicBezTo>
                  <a:pt x="119745" y="5621"/>
                  <a:pt x="112372" y="0"/>
                  <a:pt x="101186" y="0"/>
                </a:cubicBezTo>
                <a:close/>
                <a:moveTo>
                  <a:pt x="108559" y="105460"/>
                </a:moveTo>
                <a:lnTo>
                  <a:pt x="108559" y="105460"/>
                </a:lnTo>
                <a:cubicBezTo>
                  <a:pt x="108559" y="108368"/>
                  <a:pt x="105000" y="114184"/>
                  <a:pt x="101186" y="114184"/>
                </a:cubicBezTo>
                <a:cubicBezTo>
                  <a:pt x="60000" y="114184"/>
                  <a:pt x="60000" y="114184"/>
                  <a:pt x="60000" y="114184"/>
                </a:cubicBezTo>
                <a:cubicBezTo>
                  <a:pt x="18813" y="114184"/>
                  <a:pt x="18813" y="114184"/>
                  <a:pt x="18813" y="114184"/>
                </a:cubicBezTo>
                <a:cubicBezTo>
                  <a:pt x="15000" y="114184"/>
                  <a:pt x="11440" y="108368"/>
                  <a:pt x="11440" y="105460"/>
                </a:cubicBezTo>
                <a:cubicBezTo>
                  <a:pt x="11440" y="14151"/>
                  <a:pt x="11440" y="14151"/>
                  <a:pt x="11440" y="14151"/>
                </a:cubicBezTo>
                <a:cubicBezTo>
                  <a:pt x="11440" y="11437"/>
                  <a:pt x="15000" y="5621"/>
                  <a:pt x="18813" y="5621"/>
                </a:cubicBezTo>
                <a:cubicBezTo>
                  <a:pt x="101186" y="5621"/>
                  <a:pt x="101186" y="5621"/>
                  <a:pt x="101186" y="5621"/>
                </a:cubicBezTo>
                <a:cubicBezTo>
                  <a:pt x="105000" y="5621"/>
                  <a:pt x="108559" y="11437"/>
                  <a:pt x="108559" y="14151"/>
                </a:cubicBezTo>
                <a:lnTo>
                  <a:pt x="108559" y="105460"/>
                </a:lnTo>
                <a:close/>
                <a:moveTo>
                  <a:pt x="60000" y="14151"/>
                </a:moveTo>
                <a:lnTo>
                  <a:pt x="60000" y="14151"/>
                </a:lnTo>
                <a:cubicBezTo>
                  <a:pt x="45000" y="14151"/>
                  <a:pt x="33813" y="22681"/>
                  <a:pt x="33813" y="34119"/>
                </a:cubicBezTo>
                <a:cubicBezTo>
                  <a:pt x="33813" y="42843"/>
                  <a:pt x="45000" y="51179"/>
                  <a:pt x="60000" y="51179"/>
                </a:cubicBezTo>
                <a:cubicBezTo>
                  <a:pt x="75000" y="51179"/>
                  <a:pt x="86186" y="42843"/>
                  <a:pt x="86186" y="34119"/>
                </a:cubicBezTo>
                <a:cubicBezTo>
                  <a:pt x="86186" y="22681"/>
                  <a:pt x="75000" y="14151"/>
                  <a:pt x="60000" y="14151"/>
                </a:cubicBezTo>
                <a:close/>
                <a:moveTo>
                  <a:pt x="60000" y="45557"/>
                </a:moveTo>
                <a:lnTo>
                  <a:pt x="60000" y="45557"/>
                </a:lnTo>
                <a:cubicBezTo>
                  <a:pt x="52627" y="45557"/>
                  <a:pt x="45000" y="39935"/>
                  <a:pt x="45000" y="34119"/>
                </a:cubicBezTo>
                <a:cubicBezTo>
                  <a:pt x="45000" y="25589"/>
                  <a:pt x="52627" y="22681"/>
                  <a:pt x="60000" y="22681"/>
                </a:cubicBezTo>
                <a:cubicBezTo>
                  <a:pt x="67627" y="22681"/>
                  <a:pt x="75000" y="25589"/>
                  <a:pt x="75000" y="34119"/>
                </a:cubicBezTo>
                <a:cubicBezTo>
                  <a:pt x="75000" y="39935"/>
                  <a:pt x="67627" y="45557"/>
                  <a:pt x="60000" y="45557"/>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76" name="Shape 4714"/>
          <p:cNvSpPr/>
          <p:nvPr/>
        </p:nvSpPr>
        <p:spPr>
          <a:xfrm>
            <a:off x="5477040" y="2143080"/>
            <a:ext cx="204480" cy="304920"/>
          </a:xfrm>
          <a:custGeom>
            <a:avLst/>
            <a:gdLst>
              <a:gd name="textAreaLeft" fmla="*/ 0 w 204480"/>
              <a:gd name="textAreaRight" fmla="*/ 204840 w 204480"/>
              <a:gd name="textAreaTop" fmla="*/ 0 h 304920"/>
              <a:gd name="textAreaBottom" fmla="*/ 305280 h 304920"/>
            </a:gdLst>
            <a:ahLst/>
            <a:rect l="textAreaLeft" t="textAreaTop" r="textAreaRight" b="textAreaBottom"/>
            <a:pathLst>
              <a:path w="120000" h="120000">
                <a:moveTo>
                  <a:pt x="115794" y="27823"/>
                </a:moveTo>
                <a:lnTo>
                  <a:pt x="115794" y="27823"/>
                </a:lnTo>
                <a:cubicBezTo>
                  <a:pt x="107383" y="11167"/>
                  <a:pt x="86635" y="0"/>
                  <a:pt x="61962" y="0"/>
                </a:cubicBezTo>
                <a:cubicBezTo>
                  <a:pt x="33084" y="0"/>
                  <a:pt x="12616" y="11167"/>
                  <a:pt x="8411" y="27823"/>
                </a:cubicBezTo>
                <a:cubicBezTo>
                  <a:pt x="4205" y="27823"/>
                  <a:pt x="0" y="30662"/>
                  <a:pt x="0" y="33501"/>
                </a:cubicBezTo>
                <a:cubicBezTo>
                  <a:pt x="0" y="41829"/>
                  <a:pt x="0" y="41829"/>
                  <a:pt x="0" y="41829"/>
                </a:cubicBezTo>
                <a:cubicBezTo>
                  <a:pt x="0" y="44479"/>
                  <a:pt x="4205" y="50157"/>
                  <a:pt x="12616" y="50157"/>
                </a:cubicBezTo>
                <a:lnTo>
                  <a:pt x="12616" y="50157"/>
                </a:lnTo>
                <a:cubicBezTo>
                  <a:pt x="16542" y="52996"/>
                  <a:pt x="20747" y="58485"/>
                  <a:pt x="29158" y="61324"/>
                </a:cubicBezTo>
                <a:cubicBezTo>
                  <a:pt x="37289" y="111482"/>
                  <a:pt x="37289" y="111482"/>
                  <a:pt x="37289" y="111482"/>
                </a:cubicBezTo>
                <a:cubicBezTo>
                  <a:pt x="37289" y="116971"/>
                  <a:pt x="45700" y="119810"/>
                  <a:pt x="49626" y="119810"/>
                </a:cubicBezTo>
                <a:cubicBezTo>
                  <a:pt x="70373" y="119810"/>
                  <a:pt x="70373" y="119810"/>
                  <a:pt x="70373" y="119810"/>
                </a:cubicBezTo>
                <a:cubicBezTo>
                  <a:pt x="78504" y="119810"/>
                  <a:pt x="82710" y="116971"/>
                  <a:pt x="82710" y="111482"/>
                </a:cubicBezTo>
                <a:cubicBezTo>
                  <a:pt x="95046" y="61324"/>
                  <a:pt x="95046" y="61324"/>
                  <a:pt x="95046" y="61324"/>
                </a:cubicBezTo>
                <a:cubicBezTo>
                  <a:pt x="99252" y="58485"/>
                  <a:pt x="107383" y="52996"/>
                  <a:pt x="111588" y="50157"/>
                </a:cubicBezTo>
                <a:lnTo>
                  <a:pt x="111588" y="50157"/>
                </a:lnTo>
                <a:cubicBezTo>
                  <a:pt x="115794" y="50157"/>
                  <a:pt x="119719" y="44479"/>
                  <a:pt x="119719" y="41829"/>
                </a:cubicBezTo>
                <a:cubicBezTo>
                  <a:pt x="119719" y="33501"/>
                  <a:pt x="119719" y="33501"/>
                  <a:pt x="119719" y="33501"/>
                </a:cubicBezTo>
                <a:cubicBezTo>
                  <a:pt x="119719" y="30662"/>
                  <a:pt x="119719" y="27823"/>
                  <a:pt x="115794" y="27823"/>
                </a:cubicBezTo>
                <a:close/>
                <a:moveTo>
                  <a:pt x="61962" y="8328"/>
                </a:moveTo>
                <a:lnTo>
                  <a:pt x="61962" y="8328"/>
                </a:lnTo>
                <a:cubicBezTo>
                  <a:pt x="78504" y="8328"/>
                  <a:pt x="99252" y="16656"/>
                  <a:pt x="103177" y="27823"/>
                </a:cubicBezTo>
                <a:cubicBezTo>
                  <a:pt x="16542" y="27823"/>
                  <a:pt x="16542" y="27823"/>
                  <a:pt x="16542" y="27823"/>
                </a:cubicBezTo>
                <a:cubicBezTo>
                  <a:pt x="24953" y="16656"/>
                  <a:pt x="41495" y="8328"/>
                  <a:pt x="61962" y="8328"/>
                </a:cubicBezTo>
                <a:close/>
                <a:moveTo>
                  <a:pt x="70373" y="105993"/>
                </a:moveTo>
                <a:lnTo>
                  <a:pt x="70373" y="105993"/>
                </a:lnTo>
                <a:cubicBezTo>
                  <a:pt x="70373" y="108643"/>
                  <a:pt x="70373" y="111482"/>
                  <a:pt x="66168" y="111482"/>
                </a:cubicBezTo>
                <a:cubicBezTo>
                  <a:pt x="53831" y="111482"/>
                  <a:pt x="53831" y="111482"/>
                  <a:pt x="53831" y="111482"/>
                </a:cubicBezTo>
                <a:cubicBezTo>
                  <a:pt x="49626" y="111482"/>
                  <a:pt x="49626" y="108643"/>
                  <a:pt x="49626" y="105993"/>
                </a:cubicBezTo>
                <a:cubicBezTo>
                  <a:pt x="37289" y="64164"/>
                  <a:pt x="37289" y="64164"/>
                  <a:pt x="37289" y="64164"/>
                </a:cubicBezTo>
                <a:cubicBezTo>
                  <a:pt x="45700" y="66813"/>
                  <a:pt x="53831" y="66813"/>
                  <a:pt x="61962" y="66813"/>
                </a:cubicBezTo>
                <a:cubicBezTo>
                  <a:pt x="70373" y="66813"/>
                  <a:pt x="74579" y="66813"/>
                  <a:pt x="82710" y="64164"/>
                </a:cubicBezTo>
                <a:lnTo>
                  <a:pt x="70373" y="105993"/>
                </a:lnTo>
                <a:close/>
                <a:moveTo>
                  <a:pt x="61962" y="61324"/>
                </a:moveTo>
                <a:lnTo>
                  <a:pt x="61962" y="61324"/>
                </a:lnTo>
                <a:cubicBezTo>
                  <a:pt x="45700" y="61324"/>
                  <a:pt x="33084" y="55646"/>
                  <a:pt x="24953" y="50157"/>
                </a:cubicBezTo>
                <a:cubicBezTo>
                  <a:pt x="95046" y="50157"/>
                  <a:pt x="95046" y="50157"/>
                  <a:pt x="95046" y="50157"/>
                </a:cubicBezTo>
                <a:cubicBezTo>
                  <a:pt x="86635" y="55646"/>
                  <a:pt x="74579" y="61324"/>
                  <a:pt x="61962" y="61324"/>
                </a:cubicBezTo>
                <a:close/>
                <a:moveTo>
                  <a:pt x="103177" y="41829"/>
                </a:moveTo>
                <a:lnTo>
                  <a:pt x="103177" y="41829"/>
                </a:lnTo>
                <a:cubicBezTo>
                  <a:pt x="16542" y="41829"/>
                  <a:pt x="16542" y="41829"/>
                  <a:pt x="16542" y="41829"/>
                </a:cubicBezTo>
                <a:cubicBezTo>
                  <a:pt x="12616" y="41829"/>
                  <a:pt x="12616" y="38990"/>
                  <a:pt x="12616" y="38990"/>
                </a:cubicBezTo>
                <a:cubicBezTo>
                  <a:pt x="12616" y="36340"/>
                  <a:pt x="12616" y="33501"/>
                  <a:pt x="16542" y="33501"/>
                </a:cubicBezTo>
                <a:cubicBezTo>
                  <a:pt x="103177" y="33501"/>
                  <a:pt x="103177" y="33501"/>
                  <a:pt x="103177" y="33501"/>
                </a:cubicBezTo>
                <a:cubicBezTo>
                  <a:pt x="107383" y="33501"/>
                  <a:pt x="111588" y="36340"/>
                  <a:pt x="111588" y="38990"/>
                </a:cubicBezTo>
                <a:cubicBezTo>
                  <a:pt x="111588" y="38990"/>
                  <a:pt x="107383" y="41829"/>
                  <a:pt x="103177" y="4182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77" name="Shape 4716"/>
          <p:cNvSpPr/>
          <p:nvPr/>
        </p:nvSpPr>
        <p:spPr>
          <a:xfrm>
            <a:off x="4457880" y="2143080"/>
            <a:ext cx="284040" cy="304920"/>
          </a:xfrm>
          <a:custGeom>
            <a:avLst/>
            <a:gdLst>
              <a:gd name="textAreaLeft" fmla="*/ 0 w 284040"/>
              <a:gd name="textAreaRight" fmla="*/ 284400 w 284040"/>
              <a:gd name="textAreaTop" fmla="*/ 0 h 304920"/>
              <a:gd name="textAreaBottom" fmla="*/ 305280 h 304920"/>
            </a:gdLst>
            <a:ahLst/>
            <a:rect l="textAreaLeft" t="textAreaTop" r="textAreaRight" b="textAreaBottom"/>
            <a:pathLst>
              <a:path w="120000" h="120000">
                <a:moveTo>
                  <a:pt x="92903" y="66813"/>
                </a:moveTo>
                <a:lnTo>
                  <a:pt x="92903" y="66813"/>
                </a:lnTo>
                <a:cubicBezTo>
                  <a:pt x="98811" y="66813"/>
                  <a:pt x="104923" y="64164"/>
                  <a:pt x="104923" y="55646"/>
                </a:cubicBezTo>
                <a:cubicBezTo>
                  <a:pt x="104923" y="50157"/>
                  <a:pt x="98811" y="44479"/>
                  <a:pt x="92903" y="44479"/>
                </a:cubicBezTo>
                <a:cubicBezTo>
                  <a:pt x="83938" y="44479"/>
                  <a:pt x="80882" y="50157"/>
                  <a:pt x="80882" y="55646"/>
                </a:cubicBezTo>
                <a:cubicBezTo>
                  <a:pt x="80882" y="64164"/>
                  <a:pt x="83938" y="66813"/>
                  <a:pt x="92903" y="66813"/>
                </a:cubicBezTo>
                <a:close/>
                <a:moveTo>
                  <a:pt x="86791" y="52996"/>
                </a:moveTo>
                <a:lnTo>
                  <a:pt x="86791" y="52996"/>
                </a:lnTo>
                <a:cubicBezTo>
                  <a:pt x="95959" y="52996"/>
                  <a:pt x="95959" y="52996"/>
                  <a:pt x="95959" y="52996"/>
                </a:cubicBezTo>
                <a:cubicBezTo>
                  <a:pt x="95959" y="61324"/>
                  <a:pt x="95959" y="61324"/>
                  <a:pt x="95959" y="61324"/>
                </a:cubicBezTo>
                <a:cubicBezTo>
                  <a:pt x="86791" y="61324"/>
                  <a:pt x="86791" y="61324"/>
                  <a:pt x="86791" y="61324"/>
                </a:cubicBezTo>
                <a:lnTo>
                  <a:pt x="86791" y="52996"/>
                </a:lnTo>
                <a:close/>
                <a:moveTo>
                  <a:pt x="92903" y="97476"/>
                </a:moveTo>
                <a:lnTo>
                  <a:pt x="92903" y="97476"/>
                </a:lnTo>
                <a:cubicBezTo>
                  <a:pt x="98811" y="97476"/>
                  <a:pt x="104923" y="91987"/>
                  <a:pt x="104923" y="86309"/>
                </a:cubicBezTo>
                <a:cubicBezTo>
                  <a:pt x="104923" y="80820"/>
                  <a:pt x="98811" y="75331"/>
                  <a:pt x="92903" y="75331"/>
                </a:cubicBezTo>
                <a:cubicBezTo>
                  <a:pt x="83938" y="75331"/>
                  <a:pt x="80882" y="80820"/>
                  <a:pt x="80882" y="86309"/>
                </a:cubicBezTo>
                <a:cubicBezTo>
                  <a:pt x="80882" y="91987"/>
                  <a:pt x="83938" y="97476"/>
                  <a:pt x="92903" y="97476"/>
                </a:cubicBezTo>
                <a:close/>
                <a:moveTo>
                  <a:pt x="86791" y="83659"/>
                </a:moveTo>
                <a:lnTo>
                  <a:pt x="86791" y="83659"/>
                </a:lnTo>
                <a:cubicBezTo>
                  <a:pt x="95959" y="83659"/>
                  <a:pt x="95959" y="83659"/>
                  <a:pt x="95959" y="83659"/>
                </a:cubicBezTo>
                <a:cubicBezTo>
                  <a:pt x="95959" y="89148"/>
                  <a:pt x="95959" y="89148"/>
                  <a:pt x="95959" y="89148"/>
                </a:cubicBezTo>
                <a:cubicBezTo>
                  <a:pt x="86791" y="89148"/>
                  <a:pt x="86791" y="89148"/>
                  <a:pt x="86791" y="89148"/>
                </a:cubicBezTo>
                <a:lnTo>
                  <a:pt x="86791" y="83659"/>
                </a:lnTo>
                <a:close/>
                <a:moveTo>
                  <a:pt x="104923" y="0"/>
                </a:moveTo>
                <a:lnTo>
                  <a:pt x="104923" y="0"/>
                </a:lnTo>
                <a:cubicBezTo>
                  <a:pt x="14872" y="0"/>
                  <a:pt x="14872" y="0"/>
                  <a:pt x="14872" y="0"/>
                </a:cubicBezTo>
                <a:cubicBezTo>
                  <a:pt x="5908" y="0"/>
                  <a:pt x="0" y="8328"/>
                  <a:pt x="0" y="16656"/>
                </a:cubicBezTo>
                <a:cubicBezTo>
                  <a:pt x="0" y="105993"/>
                  <a:pt x="0" y="105993"/>
                  <a:pt x="0" y="105993"/>
                </a:cubicBezTo>
                <a:cubicBezTo>
                  <a:pt x="0" y="114321"/>
                  <a:pt x="5908" y="119810"/>
                  <a:pt x="14872" y="119810"/>
                </a:cubicBezTo>
                <a:cubicBezTo>
                  <a:pt x="104923" y="119810"/>
                  <a:pt x="104923" y="119810"/>
                  <a:pt x="104923" y="119810"/>
                </a:cubicBezTo>
                <a:cubicBezTo>
                  <a:pt x="113887" y="119810"/>
                  <a:pt x="119796" y="114321"/>
                  <a:pt x="119796" y="105993"/>
                </a:cubicBezTo>
                <a:cubicBezTo>
                  <a:pt x="119796" y="16656"/>
                  <a:pt x="119796" y="16656"/>
                  <a:pt x="119796" y="16656"/>
                </a:cubicBezTo>
                <a:cubicBezTo>
                  <a:pt x="119796" y="8328"/>
                  <a:pt x="113887" y="0"/>
                  <a:pt x="104923" y="0"/>
                </a:cubicBezTo>
                <a:close/>
                <a:moveTo>
                  <a:pt x="110831" y="105993"/>
                </a:moveTo>
                <a:lnTo>
                  <a:pt x="110831" y="105993"/>
                </a:lnTo>
                <a:cubicBezTo>
                  <a:pt x="110831" y="108643"/>
                  <a:pt x="107979" y="111482"/>
                  <a:pt x="104923" y="111482"/>
                </a:cubicBezTo>
                <a:cubicBezTo>
                  <a:pt x="14872" y="111482"/>
                  <a:pt x="14872" y="111482"/>
                  <a:pt x="14872" y="111482"/>
                </a:cubicBezTo>
                <a:cubicBezTo>
                  <a:pt x="11816" y="111482"/>
                  <a:pt x="8964" y="108643"/>
                  <a:pt x="8964" y="105993"/>
                </a:cubicBezTo>
                <a:cubicBezTo>
                  <a:pt x="8964" y="30662"/>
                  <a:pt x="8964" y="30662"/>
                  <a:pt x="8964" y="30662"/>
                </a:cubicBezTo>
                <a:cubicBezTo>
                  <a:pt x="110831" y="30662"/>
                  <a:pt x="110831" y="30662"/>
                  <a:pt x="110831" y="30662"/>
                </a:cubicBezTo>
                <a:lnTo>
                  <a:pt x="110831" y="105993"/>
                </a:lnTo>
                <a:close/>
                <a:moveTo>
                  <a:pt x="110831" y="22334"/>
                </a:moveTo>
                <a:lnTo>
                  <a:pt x="110831" y="22334"/>
                </a:lnTo>
                <a:cubicBezTo>
                  <a:pt x="8964" y="22334"/>
                  <a:pt x="8964" y="22334"/>
                  <a:pt x="8964" y="22334"/>
                </a:cubicBezTo>
                <a:cubicBezTo>
                  <a:pt x="8964" y="16656"/>
                  <a:pt x="8964" y="16656"/>
                  <a:pt x="8964" y="16656"/>
                </a:cubicBezTo>
                <a:cubicBezTo>
                  <a:pt x="8964" y="11167"/>
                  <a:pt x="11816" y="8328"/>
                  <a:pt x="14872" y="8328"/>
                </a:cubicBezTo>
                <a:cubicBezTo>
                  <a:pt x="104923" y="8328"/>
                  <a:pt x="104923" y="8328"/>
                  <a:pt x="104923" y="8328"/>
                </a:cubicBezTo>
                <a:cubicBezTo>
                  <a:pt x="107979" y="8328"/>
                  <a:pt x="110831" y="11167"/>
                  <a:pt x="110831" y="16656"/>
                </a:cubicBezTo>
                <a:lnTo>
                  <a:pt x="110831" y="22334"/>
                </a:lnTo>
                <a:close/>
                <a:moveTo>
                  <a:pt x="59898" y="66813"/>
                </a:moveTo>
                <a:lnTo>
                  <a:pt x="59898" y="66813"/>
                </a:lnTo>
                <a:cubicBezTo>
                  <a:pt x="66010" y="66813"/>
                  <a:pt x="71918" y="64164"/>
                  <a:pt x="71918" y="55646"/>
                </a:cubicBezTo>
                <a:cubicBezTo>
                  <a:pt x="71918" y="50157"/>
                  <a:pt x="66010" y="44479"/>
                  <a:pt x="59898" y="44479"/>
                </a:cubicBezTo>
                <a:cubicBezTo>
                  <a:pt x="53989" y="44479"/>
                  <a:pt x="47877" y="50157"/>
                  <a:pt x="47877" y="55646"/>
                </a:cubicBezTo>
                <a:cubicBezTo>
                  <a:pt x="47877" y="64164"/>
                  <a:pt x="53989" y="66813"/>
                  <a:pt x="59898" y="66813"/>
                </a:cubicBezTo>
                <a:close/>
                <a:moveTo>
                  <a:pt x="56842" y="52996"/>
                </a:moveTo>
                <a:lnTo>
                  <a:pt x="56842" y="52996"/>
                </a:lnTo>
                <a:cubicBezTo>
                  <a:pt x="62954" y="52996"/>
                  <a:pt x="62954" y="52996"/>
                  <a:pt x="62954" y="52996"/>
                </a:cubicBezTo>
                <a:cubicBezTo>
                  <a:pt x="62954" y="61324"/>
                  <a:pt x="62954" y="61324"/>
                  <a:pt x="62954" y="61324"/>
                </a:cubicBezTo>
                <a:cubicBezTo>
                  <a:pt x="56842" y="61324"/>
                  <a:pt x="56842" y="61324"/>
                  <a:pt x="56842" y="61324"/>
                </a:cubicBezTo>
                <a:lnTo>
                  <a:pt x="56842" y="52996"/>
                </a:lnTo>
                <a:close/>
                <a:moveTo>
                  <a:pt x="26893" y="66813"/>
                </a:moveTo>
                <a:lnTo>
                  <a:pt x="26893" y="66813"/>
                </a:lnTo>
                <a:cubicBezTo>
                  <a:pt x="35857" y="66813"/>
                  <a:pt x="38913" y="64164"/>
                  <a:pt x="38913" y="55646"/>
                </a:cubicBezTo>
                <a:cubicBezTo>
                  <a:pt x="38913" y="50157"/>
                  <a:pt x="35857" y="44479"/>
                  <a:pt x="26893" y="44479"/>
                </a:cubicBezTo>
                <a:cubicBezTo>
                  <a:pt x="20984" y="44479"/>
                  <a:pt x="14872" y="50157"/>
                  <a:pt x="14872" y="55646"/>
                </a:cubicBezTo>
                <a:cubicBezTo>
                  <a:pt x="14872" y="64164"/>
                  <a:pt x="20984" y="66813"/>
                  <a:pt x="26893" y="66813"/>
                </a:cubicBezTo>
                <a:close/>
                <a:moveTo>
                  <a:pt x="23837" y="52996"/>
                </a:moveTo>
                <a:lnTo>
                  <a:pt x="23837" y="52996"/>
                </a:lnTo>
                <a:cubicBezTo>
                  <a:pt x="33005" y="52996"/>
                  <a:pt x="33005" y="52996"/>
                  <a:pt x="33005" y="52996"/>
                </a:cubicBezTo>
                <a:cubicBezTo>
                  <a:pt x="33005" y="61324"/>
                  <a:pt x="33005" y="61324"/>
                  <a:pt x="33005" y="61324"/>
                </a:cubicBezTo>
                <a:cubicBezTo>
                  <a:pt x="23837" y="61324"/>
                  <a:pt x="23837" y="61324"/>
                  <a:pt x="23837" y="61324"/>
                </a:cubicBezTo>
                <a:lnTo>
                  <a:pt x="23837" y="52996"/>
                </a:lnTo>
                <a:close/>
                <a:moveTo>
                  <a:pt x="59898" y="97476"/>
                </a:moveTo>
                <a:lnTo>
                  <a:pt x="59898" y="97476"/>
                </a:lnTo>
                <a:cubicBezTo>
                  <a:pt x="66010" y="97476"/>
                  <a:pt x="71918" y="91987"/>
                  <a:pt x="71918" y="86309"/>
                </a:cubicBezTo>
                <a:cubicBezTo>
                  <a:pt x="71918" y="80820"/>
                  <a:pt x="66010" y="75331"/>
                  <a:pt x="59898" y="75331"/>
                </a:cubicBezTo>
                <a:cubicBezTo>
                  <a:pt x="53989" y="75331"/>
                  <a:pt x="47877" y="80820"/>
                  <a:pt x="47877" y="86309"/>
                </a:cubicBezTo>
                <a:cubicBezTo>
                  <a:pt x="47877" y="91987"/>
                  <a:pt x="53989" y="97476"/>
                  <a:pt x="59898" y="97476"/>
                </a:cubicBezTo>
                <a:close/>
                <a:moveTo>
                  <a:pt x="56842" y="83659"/>
                </a:moveTo>
                <a:lnTo>
                  <a:pt x="56842" y="83659"/>
                </a:lnTo>
                <a:cubicBezTo>
                  <a:pt x="62954" y="83659"/>
                  <a:pt x="62954" y="83659"/>
                  <a:pt x="62954" y="83659"/>
                </a:cubicBezTo>
                <a:cubicBezTo>
                  <a:pt x="62954" y="89148"/>
                  <a:pt x="62954" y="89148"/>
                  <a:pt x="62954" y="89148"/>
                </a:cubicBezTo>
                <a:cubicBezTo>
                  <a:pt x="56842" y="89148"/>
                  <a:pt x="56842" y="89148"/>
                  <a:pt x="56842" y="89148"/>
                </a:cubicBezTo>
                <a:lnTo>
                  <a:pt x="56842" y="83659"/>
                </a:lnTo>
                <a:close/>
                <a:moveTo>
                  <a:pt x="26893" y="97476"/>
                </a:moveTo>
                <a:lnTo>
                  <a:pt x="26893" y="97476"/>
                </a:lnTo>
                <a:cubicBezTo>
                  <a:pt x="35857" y="97476"/>
                  <a:pt x="38913" y="91987"/>
                  <a:pt x="38913" y="86309"/>
                </a:cubicBezTo>
                <a:cubicBezTo>
                  <a:pt x="38913" y="80820"/>
                  <a:pt x="35857" y="75331"/>
                  <a:pt x="26893" y="75331"/>
                </a:cubicBezTo>
                <a:cubicBezTo>
                  <a:pt x="20984" y="75331"/>
                  <a:pt x="14872" y="80820"/>
                  <a:pt x="14872" y="86309"/>
                </a:cubicBezTo>
                <a:cubicBezTo>
                  <a:pt x="14872" y="91987"/>
                  <a:pt x="20984" y="97476"/>
                  <a:pt x="26893" y="97476"/>
                </a:cubicBezTo>
                <a:close/>
                <a:moveTo>
                  <a:pt x="23837" y="83659"/>
                </a:moveTo>
                <a:lnTo>
                  <a:pt x="23837" y="83659"/>
                </a:lnTo>
                <a:cubicBezTo>
                  <a:pt x="33005" y="83659"/>
                  <a:pt x="33005" y="83659"/>
                  <a:pt x="33005" y="83659"/>
                </a:cubicBezTo>
                <a:cubicBezTo>
                  <a:pt x="33005" y="89148"/>
                  <a:pt x="33005" y="89148"/>
                  <a:pt x="33005" y="89148"/>
                </a:cubicBezTo>
                <a:cubicBezTo>
                  <a:pt x="23837" y="89148"/>
                  <a:pt x="23837" y="89148"/>
                  <a:pt x="23837" y="89148"/>
                </a:cubicBezTo>
                <a:lnTo>
                  <a:pt x="23837" y="83659"/>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78" name="Shape 4718"/>
          <p:cNvSpPr/>
          <p:nvPr/>
        </p:nvSpPr>
        <p:spPr>
          <a:xfrm>
            <a:off x="3468600" y="2163600"/>
            <a:ext cx="304920" cy="262080"/>
          </a:xfrm>
          <a:custGeom>
            <a:avLst/>
            <a:gdLst>
              <a:gd name="textAreaLeft" fmla="*/ 0 w 304920"/>
              <a:gd name="textAreaRight" fmla="*/ 305280 w 304920"/>
              <a:gd name="textAreaTop" fmla="*/ 0 h 262080"/>
              <a:gd name="textAreaBottom" fmla="*/ 262440 h 262080"/>
            </a:gdLst>
            <a:ahLst/>
            <a:rect l="textAreaLeft" t="textAreaTop" r="textAreaRight" b="textAreaBottom"/>
            <a:pathLst>
              <a:path w="120000" h="120000">
                <a:moveTo>
                  <a:pt x="41829" y="51868"/>
                </a:moveTo>
                <a:lnTo>
                  <a:pt x="41829" y="51868"/>
                </a:lnTo>
                <a:cubicBezTo>
                  <a:pt x="19495" y="51868"/>
                  <a:pt x="19495" y="51868"/>
                  <a:pt x="19495" y="51868"/>
                </a:cubicBezTo>
                <a:cubicBezTo>
                  <a:pt x="16656" y="51868"/>
                  <a:pt x="13817" y="54945"/>
                  <a:pt x="13817" y="54945"/>
                </a:cubicBezTo>
                <a:cubicBezTo>
                  <a:pt x="13817" y="58241"/>
                  <a:pt x="16656" y="61538"/>
                  <a:pt x="19495" y="61538"/>
                </a:cubicBezTo>
                <a:cubicBezTo>
                  <a:pt x="41829" y="61538"/>
                  <a:pt x="41829" y="61538"/>
                  <a:pt x="41829" y="61538"/>
                </a:cubicBezTo>
                <a:cubicBezTo>
                  <a:pt x="41829" y="61538"/>
                  <a:pt x="44479" y="58241"/>
                  <a:pt x="44479" y="54945"/>
                </a:cubicBezTo>
                <a:lnTo>
                  <a:pt x="41829" y="51868"/>
                </a:lnTo>
                <a:close/>
                <a:moveTo>
                  <a:pt x="41829" y="87472"/>
                </a:moveTo>
                <a:lnTo>
                  <a:pt x="41829" y="87472"/>
                </a:lnTo>
                <a:cubicBezTo>
                  <a:pt x="19495" y="87472"/>
                  <a:pt x="19495" y="87472"/>
                  <a:pt x="19495" y="87472"/>
                </a:cubicBezTo>
                <a:cubicBezTo>
                  <a:pt x="16656" y="87472"/>
                  <a:pt x="13817" y="87472"/>
                  <a:pt x="13817" y="90549"/>
                </a:cubicBezTo>
                <a:cubicBezTo>
                  <a:pt x="13817" y="93846"/>
                  <a:pt x="16656" y="93846"/>
                  <a:pt x="19495" y="93846"/>
                </a:cubicBezTo>
                <a:cubicBezTo>
                  <a:pt x="41829" y="93846"/>
                  <a:pt x="41829" y="93846"/>
                  <a:pt x="41829" y="93846"/>
                </a:cubicBezTo>
                <a:cubicBezTo>
                  <a:pt x="41829" y="93846"/>
                  <a:pt x="44479" y="93846"/>
                  <a:pt x="44479" y="90549"/>
                </a:cubicBezTo>
                <a:cubicBezTo>
                  <a:pt x="44479" y="87472"/>
                  <a:pt x="41829" y="87472"/>
                  <a:pt x="41829" y="87472"/>
                </a:cubicBezTo>
                <a:close/>
                <a:moveTo>
                  <a:pt x="41829" y="67912"/>
                </a:moveTo>
                <a:lnTo>
                  <a:pt x="41829" y="67912"/>
                </a:lnTo>
                <a:cubicBezTo>
                  <a:pt x="19495" y="67912"/>
                  <a:pt x="19495" y="67912"/>
                  <a:pt x="19495" y="67912"/>
                </a:cubicBezTo>
                <a:cubicBezTo>
                  <a:pt x="16656" y="67912"/>
                  <a:pt x="13817" y="71208"/>
                  <a:pt x="13817" y="74505"/>
                </a:cubicBezTo>
                <a:cubicBezTo>
                  <a:pt x="13817" y="74505"/>
                  <a:pt x="16656" y="77802"/>
                  <a:pt x="19495" y="77802"/>
                </a:cubicBezTo>
                <a:cubicBezTo>
                  <a:pt x="41829" y="77802"/>
                  <a:pt x="41829" y="77802"/>
                  <a:pt x="41829" y="77802"/>
                </a:cubicBezTo>
                <a:lnTo>
                  <a:pt x="44479" y="74505"/>
                </a:lnTo>
                <a:cubicBezTo>
                  <a:pt x="44479" y="71208"/>
                  <a:pt x="41829" y="67912"/>
                  <a:pt x="41829" y="67912"/>
                </a:cubicBezTo>
                <a:close/>
                <a:moveTo>
                  <a:pt x="77981" y="48571"/>
                </a:moveTo>
                <a:lnTo>
                  <a:pt x="77981" y="48571"/>
                </a:lnTo>
                <a:cubicBezTo>
                  <a:pt x="66813" y="48571"/>
                  <a:pt x="55646" y="58241"/>
                  <a:pt x="55646" y="74505"/>
                </a:cubicBezTo>
                <a:cubicBezTo>
                  <a:pt x="55646" y="87472"/>
                  <a:pt x="66813" y="100439"/>
                  <a:pt x="77981" y="100439"/>
                </a:cubicBezTo>
                <a:cubicBezTo>
                  <a:pt x="89148" y="100439"/>
                  <a:pt x="100315" y="87472"/>
                  <a:pt x="100315" y="74505"/>
                </a:cubicBezTo>
                <a:cubicBezTo>
                  <a:pt x="100315" y="58241"/>
                  <a:pt x="89148" y="48571"/>
                  <a:pt x="77981" y="48571"/>
                </a:cubicBezTo>
                <a:close/>
                <a:moveTo>
                  <a:pt x="77981" y="90549"/>
                </a:moveTo>
                <a:lnTo>
                  <a:pt x="77981" y="90549"/>
                </a:lnTo>
                <a:cubicBezTo>
                  <a:pt x="69652" y="90549"/>
                  <a:pt x="63974" y="84175"/>
                  <a:pt x="63974" y="74505"/>
                </a:cubicBezTo>
                <a:cubicBezTo>
                  <a:pt x="63974" y="64835"/>
                  <a:pt x="69652" y="54945"/>
                  <a:pt x="77981" y="54945"/>
                </a:cubicBezTo>
                <a:cubicBezTo>
                  <a:pt x="86309" y="54945"/>
                  <a:pt x="91798" y="64835"/>
                  <a:pt x="91798" y="74505"/>
                </a:cubicBezTo>
                <a:cubicBezTo>
                  <a:pt x="91798" y="84175"/>
                  <a:pt x="86309" y="90549"/>
                  <a:pt x="77981" y="90549"/>
                </a:cubicBezTo>
                <a:close/>
                <a:moveTo>
                  <a:pt x="102965" y="25934"/>
                </a:moveTo>
                <a:lnTo>
                  <a:pt x="102965" y="25934"/>
                </a:lnTo>
                <a:cubicBezTo>
                  <a:pt x="97476" y="25934"/>
                  <a:pt x="97476" y="25934"/>
                  <a:pt x="97476" y="25934"/>
                </a:cubicBezTo>
                <a:cubicBezTo>
                  <a:pt x="55646" y="0"/>
                  <a:pt x="55646" y="0"/>
                  <a:pt x="55646" y="0"/>
                </a:cubicBezTo>
                <a:cubicBezTo>
                  <a:pt x="55646" y="0"/>
                  <a:pt x="52807" y="0"/>
                  <a:pt x="52807" y="3296"/>
                </a:cubicBezTo>
                <a:cubicBezTo>
                  <a:pt x="50157" y="3296"/>
                  <a:pt x="52807" y="6593"/>
                  <a:pt x="52807" y="6593"/>
                </a:cubicBezTo>
                <a:cubicBezTo>
                  <a:pt x="80630" y="25934"/>
                  <a:pt x="80630" y="25934"/>
                  <a:pt x="80630" y="25934"/>
                </a:cubicBezTo>
                <a:cubicBezTo>
                  <a:pt x="13817" y="25934"/>
                  <a:pt x="13817" y="25934"/>
                  <a:pt x="13817" y="25934"/>
                </a:cubicBezTo>
                <a:cubicBezTo>
                  <a:pt x="5488" y="25934"/>
                  <a:pt x="0" y="32527"/>
                  <a:pt x="0" y="41978"/>
                </a:cubicBezTo>
                <a:cubicBezTo>
                  <a:pt x="0" y="103516"/>
                  <a:pt x="0" y="103516"/>
                  <a:pt x="0" y="103516"/>
                </a:cubicBezTo>
                <a:cubicBezTo>
                  <a:pt x="0" y="113406"/>
                  <a:pt x="5488" y="119780"/>
                  <a:pt x="13817" y="119780"/>
                </a:cubicBezTo>
                <a:cubicBezTo>
                  <a:pt x="102965" y="119780"/>
                  <a:pt x="102965" y="119780"/>
                  <a:pt x="102965" y="119780"/>
                </a:cubicBezTo>
                <a:cubicBezTo>
                  <a:pt x="111293" y="119780"/>
                  <a:pt x="119810" y="113406"/>
                  <a:pt x="119810" y="103516"/>
                </a:cubicBezTo>
                <a:cubicBezTo>
                  <a:pt x="119810" y="41978"/>
                  <a:pt x="119810" y="41978"/>
                  <a:pt x="119810" y="41978"/>
                </a:cubicBezTo>
                <a:cubicBezTo>
                  <a:pt x="119810" y="32527"/>
                  <a:pt x="111293" y="25934"/>
                  <a:pt x="102965" y="25934"/>
                </a:cubicBezTo>
                <a:close/>
                <a:moveTo>
                  <a:pt x="111293" y="103516"/>
                </a:moveTo>
                <a:lnTo>
                  <a:pt x="111293" y="103516"/>
                </a:lnTo>
                <a:cubicBezTo>
                  <a:pt x="111293" y="106813"/>
                  <a:pt x="108643" y="113406"/>
                  <a:pt x="102965" y="113406"/>
                </a:cubicBezTo>
                <a:cubicBezTo>
                  <a:pt x="13817" y="113406"/>
                  <a:pt x="13817" y="113406"/>
                  <a:pt x="13817" y="113406"/>
                </a:cubicBezTo>
                <a:cubicBezTo>
                  <a:pt x="10977" y="113406"/>
                  <a:pt x="8328" y="106813"/>
                  <a:pt x="8328" y="103516"/>
                </a:cubicBezTo>
                <a:cubicBezTo>
                  <a:pt x="8328" y="41978"/>
                  <a:pt x="8328" y="41978"/>
                  <a:pt x="8328" y="41978"/>
                </a:cubicBezTo>
                <a:cubicBezTo>
                  <a:pt x="8328" y="38901"/>
                  <a:pt x="10977" y="35604"/>
                  <a:pt x="13817" y="35604"/>
                </a:cubicBezTo>
                <a:cubicBezTo>
                  <a:pt x="102965" y="35604"/>
                  <a:pt x="102965" y="35604"/>
                  <a:pt x="102965" y="35604"/>
                </a:cubicBezTo>
                <a:cubicBezTo>
                  <a:pt x="108643" y="35604"/>
                  <a:pt x="111293" y="38901"/>
                  <a:pt x="111293" y="41978"/>
                </a:cubicBezTo>
                <a:lnTo>
                  <a:pt x="111293" y="103516"/>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79" name="Shape 4720"/>
          <p:cNvSpPr/>
          <p:nvPr/>
        </p:nvSpPr>
        <p:spPr>
          <a:xfrm>
            <a:off x="2484360" y="2163600"/>
            <a:ext cx="304920" cy="262080"/>
          </a:xfrm>
          <a:custGeom>
            <a:avLst/>
            <a:gdLst>
              <a:gd name="textAreaLeft" fmla="*/ 0 w 304920"/>
              <a:gd name="textAreaRight" fmla="*/ 305280 w 304920"/>
              <a:gd name="textAreaTop" fmla="*/ 0 h 262080"/>
              <a:gd name="textAreaBottom" fmla="*/ 262440 h 262080"/>
            </a:gdLst>
            <a:ahLst/>
            <a:rect l="textAreaLeft" t="textAreaTop" r="textAreaRight" b="textAreaBottom"/>
            <a:pathLst>
              <a:path w="120000" h="120000">
                <a:moveTo>
                  <a:pt x="111482" y="51868"/>
                </a:moveTo>
                <a:lnTo>
                  <a:pt x="111482" y="51868"/>
                </a:lnTo>
                <a:cubicBezTo>
                  <a:pt x="89148" y="67912"/>
                  <a:pt x="89148" y="67912"/>
                  <a:pt x="89148" y="67912"/>
                </a:cubicBezTo>
                <a:cubicBezTo>
                  <a:pt x="89148" y="64835"/>
                  <a:pt x="89148" y="58241"/>
                  <a:pt x="83659" y="54945"/>
                </a:cubicBezTo>
                <a:cubicBezTo>
                  <a:pt x="91987" y="51868"/>
                  <a:pt x="97665" y="41978"/>
                  <a:pt x="97665" y="29230"/>
                </a:cubicBezTo>
                <a:cubicBezTo>
                  <a:pt x="97665" y="12967"/>
                  <a:pt x="86498" y="0"/>
                  <a:pt x="72492" y="0"/>
                </a:cubicBezTo>
                <a:cubicBezTo>
                  <a:pt x="58675" y="0"/>
                  <a:pt x="44668" y="12967"/>
                  <a:pt x="44668" y="29230"/>
                </a:cubicBezTo>
                <a:cubicBezTo>
                  <a:pt x="44668" y="38901"/>
                  <a:pt x="47507" y="45494"/>
                  <a:pt x="52996" y="51868"/>
                </a:cubicBezTo>
                <a:cubicBezTo>
                  <a:pt x="39179" y="51868"/>
                  <a:pt x="39179" y="51868"/>
                  <a:pt x="39179" y="51868"/>
                </a:cubicBezTo>
                <a:cubicBezTo>
                  <a:pt x="44668" y="48571"/>
                  <a:pt x="44668" y="41978"/>
                  <a:pt x="44668" y="35604"/>
                </a:cubicBezTo>
                <a:cubicBezTo>
                  <a:pt x="44668" y="19560"/>
                  <a:pt x="36340" y="9670"/>
                  <a:pt x="22334" y="9670"/>
                </a:cubicBezTo>
                <a:cubicBezTo>
                  <a:pt x="11167" y="9670"/>
                  <a:pt x="0" y="19560"/>
                  <a:pt x="0" y="35604"/>
                </a:cubicBezTo>
                <a:cubicBezTo>
                  <a:pt x="0" y="41978"/>
                  <a:pt x="2839" y="48571"/>
                  <a:pt x="8328" y="54945"/>
                </a:cubicBezTo>
                <a:cubicBezTo>
                  <a:pt x="2839" y="58241"/>
                  <a:pt x="0" y="61538"/>
                  <a:pt x="0" y="67912"/>
                </a:cubicBezTo>
                <a:cubicBezTo>
                  <a:pt x="0" y="103516"/>
                  <a:pt x="0" y="103516"/>
                  <a:pt x="0" y="103516"/>
                </a:cubicBezTo>
                <a:cubicBezTo>
                  <a:pt x="0" y="113406"/>
                  <a:pt x="8328" y="119780"/>
                  <a:pt x="16845" y="119780"/>
                </a:cubicBezTo>
                <a:cubicBezTo>
                  <a:pt x="75331" y="119780"/>
                  <a:pt x="75331" y="119780"/>
                  <a:pt x="75331" y="119780"/>
                </a:cubicBezTo>
                <a:cubicBezTo>
                  <a:pt x="83659" y="119780"/>
                  <a:pt x="89148" y="113406"/>
                  <a:pt x="89148" y="103516"/>
                </a:cubicBezTo>
                <a:cubicBezTo>
                  <a:pt x="89148" y="100439"/>
                  <a:pt x="89148" y="100439"/>
                  <a:pt x="89148" y="100439"/>
                </a:cubicBezTo>
                <a:cubicBezTo>
                  <a:pt x="111482" y="119780"/>
                  <a:pt x="111482" y="119780"/>
                  <a:pt x="111482" y="119780"/>
                </a:cubicBezTo>
                <a:cubicBezTo>
                  <a:pt x="117160" y="119780"/>
                  <a:pt x="119810" y="116483"/>
                  <a:pt x="119810" y="113406"/>
                </a:cubicBezTo>
                <a:cubicBezTo>
                  <a:pt x="119810" y="61538"/>
                  <a:pt x="119810" y="61538"/>
                  <a:pt x="119810" y="61538"/>
                </a:cubicBezTo>
                <a:cubicBezTo>
                  <a:pt x="119810" y="54945"/>
                  <a:pt x="117160" y="51868"/>
                  <a:pt x="111482" y="51868"/>
                </a:cubicBezTo>
                <a:close/>
                <a:moveTo>
                  <a:pt x="8328" y="35604"/>
                </a:moveTo>
                <a:lnTo>
                  <a:pt x="8328" y="35604"/>
                </a:lnTo>
                <a:cubicBezTo>
                  <a:pt x="8328" y="25934"/>
                  <a:pt x="14006" y="16263"/>
                  <a:pt x="22334" y="16263"/>
                </a:cubicBezTo>
                <a:cubicBezTo>
                  <a:pt x="30662" y="16263"/>
                  <a:pt x="39179" y="25934"/>
                  <a:pt x="39179" y="35604"/>
                </a:cubicBezTo>
                <a:cubicBezTo>
                  <a:pt x="39179" y="45494"/>
                  <a:pt x="30662" y="51868"/>
                  <a:pt x="22334" y="51868"/>
                </a:cubicBezTo>
                <a:cubicBezTo>
                  <a:pt x="14006" y="51868"/>
                  <a:pt x="8328" y="45494"/>
                  <a:pt x="8328" y="35604"/>
                </a:cubicBezTo>
                <a:close/>
                <a:moveTo>
                  <a:pt x="83659" y="103516"/>
                </a:moveTo>
                <a:lnTo>
                  <a:pt x="83659" y="103516"/>
                </a:lnTo>
                <a:cubicBezTo>
                  <a:pt x="83659" y="106813"/>
                  <a:pt x="77981" y="113406"/>
                  <a:pt x="75331" y="113406"/>
                </a:cubicBezTo>
                <a:cubicBezTo>
                  <a:pt x="16845" y="113406"/>
                  <a:pt x="16845" y="113406"/>
                  <a:pt x="16845" y="113406"/>
                </a:cubicBezTo>
                <a:cubicBezTo>
                  <a:pt x="11167" y="113406"/>
                  <a:pt x="8328" y="106813"/>
                  <a:pt x="8328" y="103516"/>
                </a:cubicBezTo>
                <a:cubicBezTo>
                  <a:pt x="8328" y="67912"/>
                  <a:pt x="8328" y="67912"/>
                  <a:pt x="8328" y="67912"/>
                </a:cubicBezTo>
                <a:cubicBezTo>
                  <a:pt x="8328" y="64835"/>
                  <a:pt x="11167" y="61538"/>
                  <a:pt x="16845" y="61538"/>
                </a:cubicBezTo>
                <a:cubicBezTo>
                  <a:pt x="75331" y="61538"/>
                  <a:pt x="75331" y="61538"/>
                  <a:pt x="75331" y="61538"/>
                </a:cubicBezTo>
                <a:cubicBezTo>
                  <a:pt x="77981" y="61538"/>
                  <a:pt x="83659" y="64835"/>
                  <a:pt x="83659" y="67912"/>
                </a:cubicBezTo>
                <a:lnTo>
                  <a:pt x="83659" y="103516"/>
                </a:lnTo>
                <a:close/>
                <a:moveTo>
                  <a:pt x="72492" y="51868"/>
                </a:moveTo>
                <a:lnTo>
                  <a:pt x="72492" y="51868"/>
                </a:lnTo>
                <a:cubicBezTo>
                  <a:pt x="61324" y="51868"/>
                  <a:pt x="52996" y="41978"/>
                  <a:pt x="52996" y="29230"/>
                </a:cubicBezTo>
                <a:cubicBezTo>
                  <a:pt x="52996" y="19560"/>
                  <a:pt x="61324" y="9670"/>
                  <a:pt x="72492" y="9670"/>
                </a:cubicBezTo>
                <a:cubicBezTo>
                  <a:pt x="80820" y="9670"/>
                  <a:pt x="89148" y="19560"/>
                  <a:pt x="89148" y="29230"/>
                </a:cubicBezTo>
                <a:cubicBezTo>
                  <a:pt x="89148" y="41978"/>
                  <a:pt x="80820" y="51868"/>
                  <a:pt x="72492" y="51868"/>
                </a:cubicBezTo>
                <a:close/>
                <a:moveTo>
                  <a:pt x="111482" y="113406"/>
                </a:moveTo>
                <a:lnTo>
                  <a:pt x="111482" y="113406"/>
                </a:lnTo>
                <a:cubicBezTo>
                  <a:pt x="89148" y="90549"/>
                  <a:pt x="89148" y="90549"/>
                  <a:pt x="89148" y="90549"/>
                </a:cubicBezTo>
                <a:cubicBezTo>
                  <a:pt x="89148" y="87472"/>
                  <a:pt x="89148" y="80879"/>
                  <a:pt x="89148" y="77802"/>
                </a:cubicBezTo>
                <a:cubicBezTo>
                  <a:pt x="111482" y="61538"/>
                  <a:pt x="111482" y="61538"/>
                  <a:pt x="111482" y="61538"/>
                </a:cubicBezTo>
                <a:cubicBezTo>
                  <a:pt x="111482" y="67912"/>
                  <a:pt x="111482" y="110109"/>
                  <a:pt x="111482" y="11340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80" name="Shape 4722"/>
          <p:cNvSpPr/>
          <p:nvPr/>
        </p:nvSpPr>
        <p:spPr>
          <a:xfrm>
            <a:off x="1565280" y="2143080"/>
            <a:ext cx="185760" cy="304920"/>
          </a:xfrm>
          <a:custGeom>
            <a:avLst/>
            <a:gdLst>
              <a:gd name="textAreaLeft" fmla="*/ 0 w 185760"/>
              <a:gd name="textAreaRight" fmla="*/ 186120 w 185760"/>
              <a:gd name="textAreaTop" fmla="*/ 0 h 304920"/>
              <a:gd name="textAreaBottom" fmla="*/ 305280 h 304920"/>
            </a:gdLst>
            <a:ahLst/>
            <a:rect l="textAreaLeft" t="textAreaTop" r="textAreaRight" b="textAreaBottom"/>
            <a:pathLst>
              <a:path w="120000" h="120000">
                <a:moveTo>
                  <a:pt x="59843" y="30662"/>
                </a:moveTo>
                <a:lnTo>
                  <a:pt x="59843" y="30662"/>
                </a:lnTo>
                <a:cubicBezTo>
                  <a:pt x="55143" y="30662"/>
                  <a:pt x="55143" y="33501"/>
                  <a:pt x="55143" y="33501"/>
                </a:cubicBezTo>
                <a:cubicBezTo>
                  <a:pt x="55143" y="50157"/>
                  <a:pt x="55143" y="50157"/>
                  <a:pt x="55143" y="50157"/>
                </a:cubicBezTo>
                <a:cubicBezTo>
                  <a:pt x="55143" y="50157"/>
                  <a:pt x="55143" y="52996"/>
                  <a:pt x="59843" y="52996"/>
                </a:cubicBezTo>
                <a:cubicBezTo>
                  <a:pt x="64543" y="52996"/>
                  <a:pt x="64543" y="50157"/>
                  <a:pt x="64543" y="50157"/>
                </a:cubicBezTo>
                <a:cubicBezTo>
                  <a:pt x="64543" y="33501"/>
                  <a:pt x="64543" y="33501"/>
                  <a:pt x="64543" y="33501"/>
                </a:cubicBezTo>
                <a:cubicBezTo>
                  <a:pt x="64543" y="33501"/>
                  <a:pt x="64543" y="30662"/>
                  <a:pt x="59843" y="30662"/>
                </a:cubicBezTo>
                <a:close/>
                <a:moveTo>
                  <a:pt x="96814" y="16656"/>
                </a:moveTo>
                <a:lnTo>
                  <a:pt x="96814" y="16656"/>
                </a:lnTo>
                <a:cubicBezTo>
                  <a:pt x="64543" y="16656"/>
                  <a:pt x="64543" y="16656"/>
                  <a:pt x="64543" y="16656"/>
                </a:cubicBezTo>
                <a:cubicBezTo>
                  <a:pt x="64543" y="0"/>
                  <a:pt x="64543" y="0"/>
                  <a:pt x="64543" y="0"/>
                </a:cubicBezTo>
                <a:cubicBezTo>
                  <a:pt x="41357" y="0"/>
                  <a:pt x="41357" y="0"/>
                  <a:pt x="41357" y="0"/>
                </a:cubicBezTo>
                <a:cubicBezTo>
                  <a:pt x="36657" y="0"/>
                  <a:pt x="36657" y="2839"/>
                  <a:pt x="36657" y="5678"/>
                </a:cubicBezTo>
                <a:cubicBezTo>
                  <a:pt x="36657" y="5678"/>
                  <a:pt x="36657" y="8328"/>
                  <a:pt x="41357" y="8328"/>
                </a:cubicBezTo>
                <a:cubicBezTo>
                  <a:pt x="55143" y="8328"/>
                  <a:pt x="55143" y="8328"/>
                  <a:pt x="55143" y="8328"/>
                </a:cubicBezTo>
                <a:cubicBezTo>
                  <a:pt x="55143" y="16656"/>
                  <a:pt x="55143" y="16656"/>
                  <a:pt x="55143" y="16656"/>
                </a:cubicBezTo>
                <a:cubicBezTo>
                  <a:pt x="22872" y="16656"/>
                  <a:pt x="22872" y="16656"/>
                  <a:pt x="22872" y="16656"/>
                </a:cubicBezTo>
                <a:cubicBezTo>
                  <a:pt x="9086" y="16656"/>
                  <a:pt x="0" y="22334"/>
                  <a:pt x="0" y="30662"/>
                </a:cubicBezTo>
                <a:cubicBezTo>
                  <a:pt x="0" y="105993"/>
                  <a:pt x="0" y="105993"/>
                  <a:pt x="0" y="105993"/>
                </a:cubicBezTo>
                <a:cubicBezTo>
                  <a:pt x="0" y="114321"/>
                  <a:pt x="9086" y="119810"/>
                  <a:pt x="22872" y="119810"/>
                </a:cubicBezTo>
                <a:cubicBezTo>
                  <a:pt x="96814" y="119810"/>
                  <a:pt x="96814" y="119810"/>
                  <a:pt x="96814" y="119810"/>
                </a:cubicBezTo>
                <a:cubicBezTo>
                  <a:pt x="110600" y="119810"/>
                  <a:pt x="119686" y="114321"/>
                  <a:pt x="119686" y="105993"/>
                </a:cubicBezTo>
                <a:cubicBezTo>
                  <a:pt x="119686" y="30662"/>
                  <a:pt x="119686" y="30662"/>
                  <a:pt x="119686" y="30662"/>
                </a:cubicBezTo>
                <a:cubicBezTo>
                  <a:pt x="119686" y="22334"/>
                  <a:pt x="110600" y="16656"/>
                  <a:pt x="96814" y="16656"/>
                </a:cubicBezTo>
                <a:close/>
                <a:moveTo>
                  <a:pt x="110600" y="105993"/>
                </a:moveTo>
                <a:lnTo>
                  <a:pt x="110600" y="105993"/>
                </a:lnTo>
                <a:cubicBezTo>
                  <a:pt x="110600" y="108643"/>
                  <a:pt x="101201" y="111482"/>
                  <a:pt x="96814" y="111482"/>
                </a:cubicBezTo>
                <a:cubicBezTo>
                  <a:pt x="22872" y="111482"/>
                  <a:pt x="22872" y="111482"/>
                  <a:pt x="22872" y="111482"/>
                </a:cubicBezTo>
                <a:cubicBezTo>
                  <a:pt x="18485" y="111482"/>
                  <a:pt x="9086" y="108643"/>
                  <a:pt x="9086" y="105993"/>
                </a:cubicBezTo>
                <a:cubicBezTo>
                  <a:pt x="9086" y="30662"/>
                  <a:pt x="9086" y="30662"/>
                  <a:pt x="9086" y="30662"/>
                </a:cubicBezTo>
                <a:cubicBezTo>
                  <a:pt x="9086" y="27823"/>
                  <a:pt x="18485" y="22334"/>
                  <a:pt x="22872" y="22334"/>
                </a:cubicBezTo>
                <a:cubicBezTo>
                  <a:pt x="96814" y="22334"/>
                  <a:pt x="96814" y="22334"/>
                  <a:pt x="96814" y="22334"/>
                </a:cubicBezTo>
                <a:cubicBezTo>
                  <a:pt x="101201" y="22334"/>
                  <a:pt x="110600" y="27823"/>
                  <a:pt x="110600" y="30662"/>
                </a:cubicBezTo>
                <a:lnTo>
                  <a:pt x="110600" y="105993"/>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81" name="Shape 4724"/>
          <p:cNvSpPr/>
          <p:nvPr/>
        </p:nvSpPr>
        <p:spPr>
          <a:xfrm>
            <a:off x="5470560" y="1652760"/>
            <a:ext cx="210960" cy="306360"/>
          </a:xfrm>
          <a:custGeom>
            <a:avLst/>
            <a:gdLst>
              <a:gd name="textAreaLeft" fmla="*/ 0 w 210960"/>
              <a:gd name="textAreaRight" fmla="*/ 211320 w 210960"/>
              <a:gd name="textAreaTop" fmla="*/ 0 h 306360"/>
              <a:gd name="textAreaBottom" fmla="*/ 306720 h 306360"/>
            </a:gdLst>
            <a:ahLst/>
            <a:rect l="textAreaLeft" t="textAreaTop" r="textAreaRight" b="textAreaBottom"/>
            <a:pathLst>
              <a:path w="120000" h="120000">
                <a:moveTo>
                  <a:pt x="99909" y="0"/>
                </a:moveTo>
                <a:lnTo>
                  <a:pt x="99909" y="0"/>
                </a:lnTo>
                <a:cubicBezTo>
                  <a:pt x="19819" y="0"/>
                  <a:pt x="19819" y="0"/>
                  <a:pt x="19819" y="0"/>
                </a:cubicBezTo>
                <a:cubicBezTo>
                  <a:pt x="7873" y="0"/>
                  <a:pt x="0" y="5678"/>
                  <a:pt x="0" y="14006"/>
                </a:cubicBezTo>
                <a:cubicBezTo>
                  <a:pt x="0" y="103154"/>
                  <a:pt x="0" y="103154"/>
                  <a:pt x="0" y="103154"/>
                </a:cubicBezTo>
                <a:cubicBezTo>
                  <a:pt x="0" y="111482"/>
                  <a:pt x="7873" y="119810"/>
                  <a:pt x="19819" y="119810"/>
                </a:cubicBezTo>
                <a:cubicBezTo>
                  <a:pt x="99909" y="119810"/>
                  <a:pt x="99909" y="119810"/>
                  <a:pt x="99909" y="119810"/>
                </a:cubicBezTo>
                <a:cubicBezTo>
                  <a:pt x="111855" y="119810"/>
                  <a:pt x="119728" y="111482"/>
                  <a:pt x="119728" y="103154"/>
                </a:cubicBezTo>
                <a:cubicBezTo>
                  <a:pt x="119728" y="14006"/>
                  <a:pt x="119728" y="14006"/>
                  <a:pt x="119728" y="14006"/>
                </a:cubicBezTo>
                <a:cubicBezTo>
                  <a:pt x="119728" y="5678"/>
                  <a:pt x="111855" y="0"/>
                  <a:pt x="99909" y="0"/>
                </a:cubicBezTo>
                <a:close/>
                <a:moveTo>
                  <a:pt x="111855" y="103154"/>
                </a:moveTo>
                <a:lnTo>
                  <a:pt x="111855" y="103154"/>
                </a:lnTo>
                <a:cubicBezTo>
                  <a:pt x="111855" y="108643"/>
                  <a:pt x="103710" y="111482"/>
                  <a:pt x="99909" y="111482"/>
                </a:cubicBezTo>
                <a:cubicBezTo>
                  <a:pt x="19819" y="111482"/>
                  <a:pt x="19819" y="111482"/>
                  <a:pt x="19819" y="111482"/>
                </a:cubicBezTo>
                <a:cubicBezTo>
                  <a:pt x="16018" y="111482"/>
                  <a:pt x="7873" y="108643"/>
                  <a:pt x="7873" y="103154"/>
                </a:cubicBezTo>
                <a:cubicBezTo>
                  <a:pt x="7873" y="91987"/>
                  <a:pt x="7873" y="91987"/>
                  <a:pt x="7873" y="91987"/>
                </a:cubicBezTo>
                <a:cubicBezTo>
                  <a:pt x="111855" y="91987"/>
                  <a:pt x="111855" y="91987"/>
                  <a:pt x="111855" y="91987"/>
                </a:cubicBezTo>
                <a:lnTo>
                  <a:pt x="111855" y="103154"/>
                </a:lnTo>
                <a:close/>
                <a:moveTo>
                  <a:pt x="111855" y="86498"/>
                </a:moveTo>
                <a:lnTo>
                  <a:pt x="111855" y="86498"/>
                </a:lnTo>
                <a:cubicBezTo>
                  <a:pt x="7873" y="86498"/>
                  <a:pt x="7873" y="86498"/>
                  <a:pt x="7873" y="86498"/>
                </a:cubicBezTo>
                <a:cubicBezTo>
                  <a:pt x="7873" y="25173"/>
                  <a:pt x="7873" y="25173"/>
                  <a:pt x="7873" y="25173"/>
                </a:cubicBezTo>
                <a:cubicBezTo>
                  <a:pt x="111855" y="25173"/>
                  <a:pt x="111855" y="25173"/>
                  <a:pt x="111855" y="25173"/>
                </a:cubicBezTo>
                <a:lnTo>
                  <a:pt x="111855" y="86498"/>
                </a:lnTo>
                <a:close/>
                <a:moveTo>
                  <a:pt x="111855" y="19495"/>
                </a:moveTo>
                <a:lnTo>
                  <a:pt x="111855" y="19495"/>
                </a:lnTo>
                <a:cubicBezTo>
                  <a:pt x="7873" y="19495"/>
                  <a:pt x="7873" y="19495"/>
                  <a:pt x="7873" y="19495"/>
                </a:cubicBezTo>
                <a:cubicBezTo>
                  <a:pt x="7873" y="14006"/>
                  <a:pt x="7873" y="14006"/>
                  <a:pt x="7873" y="14006"/>
                </a:cubicBezTo>
                <a:cubicBezTo>
                  <a:pt x="7873" y="11167"/>
                  <a:pt x="16018" y="8328"/>
                  <a:pt x="19819" y="8328"/>
                </a:cubicBezTo>
                <a:cubicBezTo>
                  <a:pt x="99909" y="8328"/>
                  <a:pt x="99909" y="8328"/>
                  <a:pt x="99909" y="8328"/>
                </a:cubicBezTo>
                <a:cubicBezTo>
                  <a:pt x="103710" y="8328"/>
                  <a:pt x="111855" y="11167"/>
                  <a:pt x="111855" y="14006"/>
                </a:cubicBezTo>
                <a:lnTo>
                  <a:pt x="111855" y="19495"/>
                </a:lnTo>
                <a:close/>
                <a:moveTo>
                  <a:pt x="60000" y="108643"/>
                </a:moveTo>
                <a:lnTo>
                  <a:pt x="60000" y="108643"/>
                </a:lnTo>
                <a:cubicBezTo>
                  <a:pt x="63800" y="108643"/>
                  <a:pt x="67873" y="105993"/>
                  <a:pt x="67873" y="103154"/>
                </a:cubicBezTo>
                <a:cubicBezTo>
                  <a:pt x="67873" y="100315"/>
                  <a:pt x="63800" y="97665"/>
                  <a:pt x="60000" y="97665"/>
                </a:cubicBezTo>
                <a:cubicBezTo>
                  <a:pt x="55927" y="97665"/>
                  <a:pt x="51855" y="100315"/>
                  <a:pt x="51855" y="103154"/>
                </a:cubicBezTo>
                <a:cubicBezTo>
                  <a:pt x="51855" y="105993"/>
                  <a:pt x="55927" y="108643"/>
                  <a:pt x="60000" y="10864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82" name="Shape 4726"/>
          <p:cNvSpPr/>
          <p:nvPr/>
        </p:nvSpPr>
        <p:spPr>
          <a:xfrm>
            <a:off x="4479840" y="1652760"/>
            <a:ext cx="241560" cy="306360"/>
          </a:xfrm>
          <a:custGeom>
            <a:avLst/>
            <a:gdLst>
              <a:gd name="textAreaLeft" fmla="*/ 0 w 241560"/>
              <a:gd name="textAreaRight" fmla="*/ 241920 w 241560"/>
              <a:gd name="textAreaTop" fmla="*/ 0 h 306360"/>
              <a:gd name="textAreaBottom" fmla="*/ 306720 h 306360"/>
            </a:gdLst>
            <a:ahLst/>
            <a:rect l="textAreaLeft" t="textAreaTop" r="textAreaRight" b="textAreaBottom"/>
            <a:pathLst>
              <a:path w="120000" h="120000">
                <a:moveTo>
                  <a:pt x="91497" y="97665"/>
                </a:moveTo>
                <a:lnTo>
                  <a:pt x="91497" y="97665"/>
                </a:lnTo>
                <a:cubicBezTo>
                  <a:pt x="91497" y="97665"/>
                  <a:pt x="88143" y="97665"/>
                  <a:pt x="88143" y="100315"/>
                </a:cubicBezTo>
                <a:cubicBezTo>
                  <a:pt x="88143" y="103154"/>
                  <a:pt x="91497" y="103154"/>
                  <a:pt x="91497" y="103154"/>
                </a:cubicBezTo>
                <a:cubicBezTo>
                  <a:pt x="95089" y="103154"/>
                  <a:pt x="98682" y="103154"/>
                  <a:pt x="98682" y="100315"/>
                </a:cubicBezTo>
                <a:cubicBezTo>
                  <a:pt x="98682" y="97665"/>
                  <a:pt x="95089" y="97665"/>
                  <a:pt x="91497" y="97665"/>
                </a:cubicBezTo>
                <a:close/>
                <a:moveTo>
                  <a:pt x="74011" y="80820"/>
                </a:moveTo>
                <a:lnTo>
                  <a:pt x="74011" y="80820"/>
                </a:lnTo>
                <a:cubicBezTo>
                  <a:pt x="70419" y="80820"/>
                  <a:pt x="70419" y="83659"/>
                  <a:pt x="70419" y="86498"/>
                </a:cubicBezTo>
                <a:cubicBezTo>
                  <a:pt x="70419" y="86498"/>
                  <a:pt x="70419" y="89148"/>
                  <a:pt x="74011" y="89148"/>
                </a:cubicBezTo>
                <a:cubicBezTo>
                  <a:pt x="77604" y="89148"/>
                  <a:pt x="77604" y="86498"/>
                  <a:pt x="77604" y="86498"/>
                </a:cubicBezTo>
                <a:cubicBezTo>
                  <a:pt x="77604" y="83659"/>
                  <a:pt x="77604" y="80820"/>
                  <a:pt x="74011" y="80820"/>
                </a:cubicBezTo>
                <a:close/>
                <a:moveTo>
                  <a:pt x="70419" y="97665"/>
                </a:moveTo>
                <a:lnTo>
                  <a:pt x="70419" y="97665"/>
                </a:lnTo>
                <a:cubicBezTo>
                  <a:pt x="67065" y="97665"/>
                  <a:pt x="63473" y="97665"/>
                  <a:pt x="63473" y="100315"/>
                </a:cubicBezTo>
                <a:cubicBezTo>
                  <a:pt x="63473" y="103154"/>
                  <a:pt x="67065" y="103154"/>
                  <a:pt x="70419" y="103154"/>
                </a:cubicBezTo>
                <a:cubicBezTo>
                  <a:pt x="70419" y="103154"/>
                  <a:pt x="74011" y="103154"/>
                  <a:pt x="74011" y="100315"/>
                </a:cubicBezTo>
                <a:cubicBezTo>
                  <a:pt x="74011" y="97665"/>
                  <a:pt x="70419" y="97665"/>
                  <a:pt x="70419" y="97665"/>
                </a:cubicBezTo>
                <a:close/>
                <a:moveTo>
                  <a:pt x="42395" y="89148"/>
                </a:moveTo>
                <a:lnTo>
                  <a:pt x="42395" y="89148"/>
                </a:lnTo>
                <a:cubicBezTo>
                  <a:pt x="35209" y="89148"/>
                  <a:pt x="35209" y="89148"/>
                  <a:pt x="35209" y="89148"/>
                </a:cubicBezTo>
                <a:cubicBezTo>
                  <a:pt x="35209" y="86498"/>
                  <a:pt x="35209" y="86498"/>
                  <a:pt x="35209" y="86498"/>
                </a:cubicBezTo>
                <a:cubicBezTo>
                  <a:pt x="35209" y="83659"/>
                  <a:pt x="35209" y="80820"/>
                  <a:pt x="31616" y="80820"/>
                </a:cubicBezTo>
                <a:cubicBezTo>
                  <a:pt x="28263" y="80820"/>
                  <a:pt x="28263" y="83659"/>
                  <a:pt x="28263" y="86498"/>
                </a:cubicBezTo>
                <a:cubicBezTo>
                  <a:pt x="28263" y="89148"/>
                  <a:pt x="28263" y="89148"/>
                  <a:pt x="28263" y="89148"/>
                </a:cubicBezTo>
                <a:cubicBezTo>
                  <a:pt x="21077" y="89148"/>
                  <a:pt x="21077" y="89148"/>
                  <a:pt x="21077" y="89148"/>
                </a:cubicBezTo>
                <a:lnTo>
                  <a:pt x="17485" y="91987"/>
                </a:lnTo>
                <a:cubicBezTo>
                  <a:pt x="17485" y="94826"/>
                  <a:pt x="21077" y="97665"/>
                  <a:pt x="21077" y="97665"/>
                </a:cubicBezTo>
                <a:cubicBezTo>
                  <a:pt x="28263" y="97665"/>
                  <a:pt x="28263" y="97665"/>
                  <a:pt x="28263" y="97665"/>
                </a:cubicBezTo>
                <a:cubicBezTo>
                  <a:pt x="28263" y="100315"/>
                  <a:pt x="28263" y="100315"/>
                  <a:pt x="28263" y="100315"/>
                </a:cubicBezTo>
                <a:cubicBezTo>
                  <a:pt x="28263" y="103154"/>
                  <a:pt x="28263" y="103154"/>
                  <a:pt x="31616" y="103154"/>
                </a:cubicBezTo>
                <a:cubicBezTo>
                  <a:pt x="35209" y="103154"/>
                  <a:pt x="35209" y="103154"/>
                  <a:pt x="35209" y="100315"/>
                </a:cubicBezTo>
                <a:cubicBezTo>
                  <a:pt x="35209" y="97665"/>
                  <a:pt x="35209" y="97665"/>
                  <a:pt x="35209" y="97665"/>
                </a:cubicBezTo>
                <a:cubicBezTo>
                  <a:pt x="42395" y="97665"/>
                  <a:pt x="42395" y="97665"/>
                  <a:pt x="42395" y="97665"/>
                </a:cubicBezTo>
                <a:cubicBezTo>
                  <a:pt x="42395" y="97665"/>
                  <a:pt x="45748" y="94826"/>
                  <a:pt x="45748" y="91987"/>
                </a:cubicBezTo>
                <a:lnTo>
                  <a:pt x="42395" y="89148"/>
                </a:lnTo>
                <a:close/>
                <a:moveTo>
                  <a:pt x="102275" y="0"/>
                </a:moveTo>
                <a:lnTo>
                  <a:pt x="102275" y="0"/>
                </a:lnTo>
                <a:cubicBezTo>
                  <a:pt x="17485" y="0"/>
                  <a:pt x="17485" y="0"/>
                  <a:pt x="17485" y="0"/>
                </a:cubicBezTo>
                <a:cubicBezTo>
                  <a:pt x="6946" y="0"/>
                  <a:pt x="0" y="5678"/>
                  <a:pt x="0" y="14006"/>
                </a:cubicBezTo>
                <a:cubicBezTo>
                  <a:pt x="0" y="103154"/>
                  <a:pt x="0" y="103154"/>
                  <a:pt x="0" y="103154"/>
                </a:cubicBezTo>
                <a:cubicBezTo>
                  <a:pt x="0" y="111482"/>
                  <a:pt x="6946" y="119810"/>
                  <a:pt x="17485" y="119810"/>
                </a:cubicBezTo>
                <a:cubicBezTo>
                  <a:pt x="102275" y="119810"/>
                  <a:pt x="102275" y="119810"/>
                  <a:pt x="102275" y="119810"/>
                </a:cubicBezTo>
                <a:cubicBezTo>
                  <a:pt x="112814" y="119810"/>
                  <a:pt x="119760" y="111482"/>
                  <a:pt x="119760" y="103154"/>
                </a:cubicBezTo>
                <a:cubicBezTo>
                  <a:pt x="119760" y="14006"/>
                  <a:pt x="119760" y="14006"/>
                  <a:pt x="119760" y="14006"/>
                </a:cubicBezTo>
                <a:cubicBezTo>
                  <a:pt x="119760" y="5678"/>
                  <a:pt x="112814" y="0"/>
                  <a:pt x="102275" y="0"/>
                </a:cubicBezTo>
                <a:close/>
                <a:moveTo>
                  <a:pt x="112814" y="103154"/>
                </a:moveTo>
                <a:lnTo>
                  <a:pt x="112814" y="103154"/>
                </a:lnTo>
                <a:cubicBezTo>
                  <a:pt x="112814" y="108643"/>
                  <a:pt x="105628" y="111482"/>
                  <a:pt x="102275" y="111482"/>
                </a:cubicBezTo>
                <a:cubicBezTo>
                  <a:pt x="17485" y="111482"/>
                  <a:pt x="17485" y="111482"/>
                  <a:pt x="17485" y="111482"/>
                </a:cubicBezTo>
                <a:cubicBezTo>
                  <a:pt x="14131" y="111482"/>
                  <a:pt x="6946" y="108643"/>
                  <a:pt x="6946" y="103154"/>
                </a:cubicBezTo>
                <a:cubicBezTo>
                  <a:pt x="6946" y="14006"/>
                  <a:pt x="6946" y="14006"/>
                  <a:pt x="6946" y="14006"/>
                </a:cubicBezTo>
                <a:cubicBezTo>
                  <a:pt x="6946" y="11167"/>
                  <a:pt x="14131" y="8328"/>
                  <a:pt x="17485" y="8328"/>
                </a:cubicBezTo>
                <a:cubicBezTo>
                  <a:pt x="102275" y="8328"/>
                  <a:pt x="102275" y="8328"/>
                  <a:pt x="102275" y="8328"/>
                </a:cubicBezTo>
                <a:cubicBezTo>
                  <a:pt x="105628" y="8328"/>
                  <a:pt x="112814" y="11167"/>
                  <a:pt x="112814" y="14006"/>
                </a:cubicBezTo>
                <a:lnTo>
                  <a:pt x="112814" y="103154"/>
                </a:lnTo>
                <a:close/>
                <a:moveTo>
                  <a:pt x="98682" y="80820"/>
                </a:moveTo>
                <a:lnTo>
                  <a:pt x="98682" y="80820"/>
                </a:lnTo>
                <a:cubicBezTo>
                  <a:pt x="95089" y="80820"/>
                  <a:pt x="91497" y="83659"/>
                  <a:pt x="91497" y="86498"/>
                </a:cubicBezTo>
                <a:cubicBezTo>
                  <a:pt x="91497" y="86498"/>
                  <a:pt x="95089" y="89148"/>
                  <a:pt x="98682" y="89148"/>
                </a:cubicBezTo>
                <a:lnTo>
                  <a:pt x="102275" y="86498"/>
                </a:lnTo>
                <a:cubicBezTo>
                  <a:pt x="102275" y="83659"/>
                  <a:pt x="98682" y="80820"/>
                  <a:pt x="98682" y="80820"/>
                </a:cubicBezTo>
                <a:close/>
                <a:moveTo>
                  <a:pt x="91497" y="14006"/>
                </a:moveTo>
                <a:lnTo>
                  <a:pt x="91497" y="14006"/>
                </a:lnTo>
                <a:cubicBezTo>
                  <a:pt x="28263" y="14006"/>
                  <a:pt x="28263" y="14006"/>
                  <a:pt x="28263" y="14006"/>
                </a:cubicBezTo>
                <a:cubicBezTo>
                  <a:pt x="21077" y="14006"/>
                  <a:pt x="17485" y="19495"/>
                  <a:pt x="17485" y="22334"/>
                </a:cubicBezTo>
                <a:cubicBezTo>
                  <a:pt x="17485" y="67003"/>
                  <a:pt x="17485" y="67003"/>
                  <a:pt x="17485" y="67003"/>
                </a:cubicBezTo>
                <a:cubicBezTo>
                  <a:pt x="17485" y="69652"/>
                  <a:pt x="21077" y="75331"/>
                  <a:pt x="28263" y="75331"/>
                </a:cubicBezTo>
                <a:cubicBezTo>
                  <a:pt x="91497" y="75331"/>
                  <a:pt x="91497" y="75331"/>
                  <a:pt x="91497" y="75331"/>
                </a:cubicBezTo>
                <a:cubicBezTo>
                  <a:pt x="98682" y="75331"/>
                  <a:pt x="102275" y="69652"/>
                  <a:pt x="102275" y="67003"/>
                </a:cubicBezTo>
                <a:cubicBezTo>
                  <a:pt x="102275" y="22334"/>
                  <a:pt x="102275" y="22334"/>
                  <a:pt x="102275" y="22334"/>
                </a:cubicBezTo>
                <a:cubicBezTo>
                  <a:pt x="102275" y="19495"/>
                  <a:pt x="98682" y="14006"/>
                  <a:pt x="91497" y="14006"/>
                </a:cubicBezTo>
                <a:close/>
                <a:moveTo>
                  <a:pt x="91497" y="64164"/>
                </a:moveTo>
                <a:lnTo>
                  <a:pt x="91497" y="64164"/>
                </a:lnTo>
                <a:cubicBezTo>
                  <a:pt x="91497" y="64164"/>
                  <a:pt x="91497" y="67003"/>
                  <a:pt x="88143" y="67003"/>
                </a:cubicBezTo>
                <a:cubicBezTo>
                  <a:pt x="31616" y="67003"/>
                  <a:pt x="31616" y="67003"/>
                  <a:pt x="31616" y="67003"/>
                </a:cubicBezTo>
                <a:cubicBezTo>
                  <a:pt x="28263" y="67003"/>
                  <a:pt x="28263" y="64164"/>
                  <a:pt x="28263" y="64164"/>
                </a:cubicBezTo>
                <a:cubicBezTo>
                  <a:pt x="28263" y="25173"/>
                  <a:pt x="28263" y="25173"/>
                  <a:pt x="28263" y="25173"/>
                </a:cubicBezTo>
                <a:cubicBezTo>
                  <a:pt x="28263" y="25173"/>
                  <a:pt x="28263" y="22334"/>
                  <a:pt x="31616" y="22334"/>
                </a:cubicBezTo>
                <a:cubicBezTo>
                  <a:pt x="88143" y="22334"/>
                  <a:pt x="88143" y="22334"/>
                  <a:pt x="88143" y="22334"/>
                </a:cubicBezTo>
                <a:cubicBezTo>
                  <a:pt x="91497" y="22334"/>
                  <a:pt x="91497" y="25173"/>
                  <a:pt x="91497" y="25173"/>
                </a:cubicBezTo>
                <a:lnTo>
                  <a:pt x="91497" y="64164"/>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83" name="Shape 4728"/>
          <p:cNvSpPr/>
          <p:nvPr/>
        </p:nvSpPr>
        <p:spPr>
          <a:xfrm>
            <a:off x="3468600" y="1701720"/>
            <a:ext cx="304920" cy="206280"/>
          </a:xfrm>
          <a:custGeom>
            <a:avLst/>
            <a:gdLst>
              <a:gd name="textAreaLeft" fmla="*/ 0 w 304920"/>
              <a:gd name="textAreaRight" fmla="*/ 305280 w 304920"/>
              <a:gd name="textAreaTop" fmla="*/ 0 h 206280"/>
              <a:gd name="textAreaBottom" fmla="*/ 206640 h 206280"/>
            </a:gdLst>
            <a:ahLst/>
            <a:rect l="textAreaLeft" t="textAreaTop" r="textAreaRight" b="textAreaBottom"/>
            <a:pathLst>
              <a:path w="120000" h="120000">
                <a:moveTo>
                  <a:pt x="19495" y="74299"/>
                </a:moveTo>
                <a:lnTo>
                  <a:pt x="19495" y="74299"/>
                </a:lnTo>
                <a:cubicBezTo>
                  <a:pt x="16656" y="74299"/>
                  <a:pt x="13817" y="78504"/>
                  <a:pt x="13817" y="82710"/>
                </a:cubicBezTo>
                <a:cubicBezTo>
                  <a:pt x="13817" y="82710"/>
                  <a:pt x="16656" y="86635"/>
                  <a:pt x="19495" y="86635"/>
                </a:cubicBezTo>
                <a:lnTo>
                  <a:pt x="22145" y="82710"/>
                </a:lnTo>
                <a:cubicBezTo>
                  <a:pt x="22145" y="78504"/>
                  <a:pt x="19495" y="74299"/>
                  <a:pt x="19495" y="74299"/>
                </a:cubicBezTo>
                <a:close/>
                <a:moveTo>
                  <a:pt x="86309" y="20747"/>
                </a:moveTo>
                <a:lnTo>
                  <a:pt x="86309" y="20747"/>
                </a:lnTo>
                <a:cubicBezTo>
                  <a:pt x="33312" y="20747"/>
                  <a:pt x="33312" y="20747"/>
                  <a:pt x="33312" y="20747"/>
                </a:cubicBezTo>
                <a:cubicBezTo>
                  <a:pt x="30662" y="20747"/>
                  <a:pt x="30662" y="24672"/>
                  <a:pt x="30662" y="24672"/>
                </a:cubicBezTo>
                <a:cubicBezTo>
                  <a:pt x="30662" y="90841"/>
                  <a:pt x="30662" y="90841"/>
                  <a:pt x="30662" y="90841"/>
                </a:cubicBezTo>
                <a:cubicBezTo>
                  <a:pt x="30662" y="95046"/>
                  <a:pt x="30662" y="99252"/>
                  <a:pt x="33312" y="99252"/>
                </a:cubicBezTo>
                <a:cubicBezTo>
                  <a:pt x="86309" y="99252"/>
                  <a:pt x="86309" y="99252"/>
                  <a:pt x="86309" y="99252"/>
                </a:cubicBezTo>
                <a:cubicBezTo>
                  <a:pt x="86309" y="99252"/>
                  <a:pt x="89148" y="95046"/>
                  <a:pt x="89148" y="90841"/>
                </a:cubicBezTo>
                <a:cubicBezTo>
                  <a:pt x="89148" y="24672"/>
                  <a:pt x="89148" y="24672"/>
                  <a:pt x="89148" y="24672"/>
                </a:cubicBezTo>
                <a:lnTo>
                  <a:pt x="86309" y="20747"/>
                </a:lnTo>
                <a:close/>
                <a:moveTo>
                  <a:pt x="80630" y="82710"/>
                </a:moveTo>
                <a:lnTo>
                  <a:pt x="80630" y="82710"/>
                </a:lnTo>
                <a:cubicBezTo>
                  <a:pt x="80630" y="82710"/>
                  <a:pt x="80630" y="86635"/>
                  <a:pt x="77981" y="86635"/>
                </a:cubicBezTo>
                <a:cubicBezTo>
                  <a:pt x="41829" y="86635"/>
                  <a:pt x="41829" y="86635"/>
                  <a:pt x="41829" y="86635"/>
                </a:cubicBezTo>
                <a:cubicBezTo>
                  <a:pt x="38990" y="86635"/>
                  <a:pt x="36151" y="82710"/>
                  <a:pt x="36151" y="82710"/>
                </a:cubicBezTo>
                <a:cubicBezTo>
                  <a:pt x="36151" y="37289"/>
                  <a:pt x="36151" y="37289"/>
                  <a:pt x="36151" y="37289"/>
                </a:cubicBezTo>
                <a:cubicBezTo>
                  <a:pt x="36151" y="33084"/>
                  <a:pt x="38990" y="33084"/>
                  <a:pt x="41829" y="33084"/>
                </a:cubicBezTo>
                <a:cubicBezTo>
                  <a:pt x="77981" y="33084"/>
                  <a:pt x="77981" y="33084"/>
                  <a:pt x="77981" y="33084"/>
                </a:cubicBezTo>
                <a:cubicBezTo>
                  <a:pt x="80630" y="33084"/>
                  <a:pt x="80630" y="33084"/>
                  <a:pt x="80630" y="37289"/>
                </a:cubicBezTo>
                <a:lnTo>
                  <a:pt x="80630" y="82710"/>
                </a:lnTo>
                <a:close/>
                <a:moveTo>
                  <a:pt x="19495" y="53831"/>
                </a:moveTo>
                <a:lnTo>
                  <a:pt x="19495" y="53831"/>
                </a:lnTo>
                <a:cubicBezTo>
                  <a:pt x="16656" y="53831"/>
                  <a:pt x="13817" y="57757"/>
                  <a:pt x="13817" y="57757"/>
                </a:cubicBezTo>
                <a:cubicBezTo>
                  <a:pt x="13817" y="61962"/>
                  <a:pt x="16656" y="66168"/>
                  <a:pt x="19495" y="66168"/>
                </a:cubicBezTo>
                <a:cubicBezTo>
                  <a:pt x="19495" y="66168"/>
                  <a:pt x="22145" y="61962"/>
                  <a:pt x="22145" y="57757"/>
                </a:cubicBezTo>
                <a:lnTo>
                  <a:pt x="19495" y="53831"/>
                </a:lnTo>
                <a:close/>
                <a:moveTo>
                  <a:pt x="102965" y="0"/>
                </a:moveTo>
                <a:lnTo>
                  <a:pt x="102965" y="0"/>
                </a:lnTo>
                <a:cubicBezTo>
                  <a:pt x="13817" y="0"/>
                  <a:pt x="13817" y="0"/>
                  <a:pt x="13817" y="0"/>
                </a:cubicBezTo>
                <a:cubicBezTo>
                  <a:pt x="5488" y="0"/>
                  <a:pt x="0" y="8411"/>
                  <a:pt x="0" y="20747"/>
                </a:cubicBezTo>
                <a:cubicBezTo>
                  <a:pt x="0" y="99252"/>
                  <a:pt x="0" y="99252"/>
                  <a:pt x="0" y="99252"/>
                </a:cubicBezTo>
                <a:cubicBezTo>
                  <a:pt x="0" y="111588"/>
                  <a:pt x="5488" y="119719"/>
                  <a:pt x="13817" y="119719"/>
                </a:cubicBezTo>
                <a:cubicBezTo>
                  <a:pt x="102965" y="119719"/>
                  <a:pt x="102965" y="119719"/>
                  <a:pt x="102965" y="119719"/>
                </a:cubicBezTo>
                <a:cubicBezTo>
                  <a:pt x="111293" y="119719"/>
                  <a:pt x="119810" y="111588"/>
                  <a:pt x="119810" y="99252"/>
                </a:cubicBezTo>
                <a:cubicBezTo>
                  <a:pt x="119810" y="20747"/>
                  <a:pt x="119810" y="20747"/>
                  <a:pt x="119810" y="20747"/>
                </a:cubicBezTo>
                <a:cubicBezTo>
                  <a:pt x="119810" y="8411"/>
                  <a:pt x="111293" y="0"/>
                  <a:pt x="102965" y="0"/>
                </a:cubicBezTo>
                <a:close/>
                <a:moveTo>
                  <a:pt x="111293" y="99252"/>
                </a:moveTo>
                <a:lnTo>
                  <a:pt x="111293" y="99252"/>
                </a:lnTo>
                <a:cubicBezTo>
                  <a:pt x="111293" y="103177"/>
                  <a:pt x="108643" y="107383"/>
                  <a:pt x="102965" y="107383"/>
                </a:cubicBezTo>
                <a:cubicBezTo>
                  <a:pt x="13817" y="107383"/>
                  <a:pt x="13817" y="107383"/>
                  <a:pt x="13817" y="107383"/>
                </a:cubicBezTo>
                <a:cubicBezTo>
                  <a:pt x="10977" y="107383"/>
                  <a:pt x="8328" y="103177"/>
                  <a:pt x="8328" y="99252"/>
                </a:cubicBezTo>
                <a:cubicBezTo>
                  <a:pt x="8328" y="20747"/>
                  <a:pt x="8328" y="20747"/>
                  <a:pt x="8328" y="20747"/>
                </a:cubicBezTo>
                <a:cubicBezTo>
                  <a:pt x="8328" y="16542"/>
                  <a:pt x="10977" y="8411"/>
                  <a:pt x="13817" y="8411"/>
                </a:cubicBezTo>
                <a:cubicBezTo>
                  <a:pt x="102965" y="8411"/>
                  <a:pt x="102965" y="8411"/>
                  <a:pt x="102965" y="8411"/>
                </a:cubicBezTo>
                <a:cubicBezTo>
                  <a:pt x="108643" y="8411"/>
                  <a:pt x="111293" y="16542"/>
                  <a:pt x="111293" y="20747"/>
                </a:cubicBezTo>
                <a:lnTo>
                  <a:pt x="111293" y="99252"/>
                </a:lnTo>
                <a:close/>
                <a:moveTo>
                  <a:pt x="100315" y="53831"/>
                </a:moveTo>
                <a:lnTo>
                  <a:pt x="100315" y="53831"/>
                </a:lnTo>
                <a:cubicBezTo>
                  <a:pt x="97476" y="53831"/>
                  <a:pt x="97476" y="57757"/>
                  <a:pt x="97476" y="57757"/>
                </a:cubicBezTo>
                <a:cubicBezTo>
                  <a:pt x="97476" y="61962"/>
                  <a:pt x="97476" y="66168"/>
                  <a:pt x="100315" y="66168"/>
                </a:cubicBezTo>
                <a:cubicBezTo>
                  <a:pt x="102965" y="66168"/>
                  <a:pt x="102965" y="61962"/>
                  <a:pt x="102965" y="57757"/>
                </a:cubicBezTo>
                <a:cubicBezTo>
                  <a:pt x="102965" y="57757"/>
                  <a:pt x="102965" y="53831"/>
                  <a:pt x="100315" y="53831"/>
                </a:cubicBezTo>
                <a:close/>
                <a:moveTo>
                  <a:pt x="100315" y="74299"/>
                </a:moveTo>
                <a:lnTo>
                  <a:pt x="100315" y="74299"/>
                </a:lnTo>
                <a:cubicBezTo>
                  <a:pt x="97476" y="74299"/>
                  <a:pt x="97476" y="78504"/>
                  <a:pt x="97476" y="82710"/>
                </a:cubicBezTo>
                <a:cubicBezTo>
                  <a:pt x="97476" y="82710"/>
                  <a:pt x="97476" y="86635"/>
                  <a:pt x="100315" y="86635"/>
                </a:cubicBezTo>
                <a:cubicBezTo>
                  <a:pt x="102965" y="86635"/>
                  <a:pt x="102965" y="82710"/>
                  <a:pt x="102965" y="82710"/>
                </a:cubicBezTo>
                <a:cubicBezTo>
                  <a:pt x="102965" y="78504"/>
                  <a:pt x="102965" y="74299"/>
                  <a:pt x="100315" y="7429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84" name="Shape 4730"/>
          <p:cNvSpPr/>
          <p:nvPr/>
        </p:nvSpPr>
        <p:spPr>
          <a:xfrm>
            <a:off x="2563920" y="1652760"/>
            <a:ext cx="135000" cy="306360"/>
          </a:xfrm>
          <a:custGeom>
            <a:avLst/>
            <a:gdLst>
              <a:gd name="textAreaLeft" fmla="*/ 0 w 135000"/>
              <a:gd name="textAreaRight" fmla="*/ 135360 w 135000"/>
              <a:gd name="textAreaTop" fmla="*/ 0 h 306360"/>
              <a:gd name="textAreaBottom" fmla="*/ 306720 h 306360"/>
            </a:gdLst>
            <a:ahLst/>
            <a:rect l="textAreaLeft" t="textAreaTop" r="textAreaRight" b="textAreaBottom"/>
            <a:pathLst>
              <a:path w="120000" h="120000">
                <a:moveTo>
                  <a:pt x="119572" y="30662"/>
                </a:moveTo>
                <a:lnTo>
                  <a:pt x="119572" y="30662"/>
                </a:lnTo>
                <a:cubicBezTo>
                  <a:pt x="119572" y="14006"/>
                  <a:pt x="88398" y="0"/>
                  <a:pt x="56797" y="0"/>
                </a:cubicBezTo>
                <a:cubicBezTo>
                  <a:pt x="25195" y="0"/>
                  <a:pt x="0" y="14006"/>
                  <a:pt x="0" y="30662"/>
                </a:cubicBezTo>
                <a:cubicBezTo>
                  <a:pt x="0" y="44668"/>
                  <a:pt x="19217" y="55835"/>
                  <a:pt x="50391" y="58485"/>
                </a:cubicBezTo>
                <a:lnTo>
                  <a:pt x="50391" y="58485"/>
                </a:lnTo>
                <a:cubicBezTo>
                  <a:pt x="50391" y="114321"/>
                  <a:pt x="50391" y="114321"/>
                  <a:pt x="50391" y="114321"/>
                </a:cubicBezTo>
                <a:cubicBezTo>
                  <a:pt x="50391" y="117160"/>
                  <a:pt x="56797" y="119810"/>
                  <a:pt x="56797" y="119810"/>
                </a:cubicBezTo>
                <a:cubicBezTo>
                  <a:pt x="63202" y="119810"/>
                  <a:pt x="69181" y="117160"/>
                  <a:pt x="69181" y="114321"/>
                </a:cubicBezTo>
                <a:cubicBezTo>
                  <a:pt x="69181" y="58485"/>
                  <a:pt x="69181" y="58485"/>
                  <a:pt x="69181" y="58485"/>
                </a:cubicBezTo>
                <a:lnTo>
                  <a:pt x="69181" y="58485"/>
                </a:lnTo>
                <a:cubicBezTo>
                  <a:pt x="94377" y="55835"/>
                  <a:pt x="119572" y="44668"/>
                  <a:pt x="119572" y="30662"/>
                </a:cubicBezTo>
                <a:close/>
                <a:moveTo>
                  <a:pt x="56797" y="52996"/>
                </a:moveTo>
                <a:lnTo>
                  <a:pt x="56797" y="52996"/>
                </a:lnTo>
                <a:cubicBezTo>
                  <a:pt x="38007" y="52996"/>
                  <a:pt x="19217" y="41829"/>
                  <a:pt x="19217" y="30662"/>
                </a:cubicBezTo>
                <a:cubicBezTo>
                  <a:pt x="19217" y="16845"/>
                  <a:pt x="38007" y="8328"/>
                  <a:pt x="56797" y="8328"/>
                </a:cubicBezTo>
                <a:cubicBezTo>
                  <a:pt x="81992" y="8328"/>
                  <a:pt x="100782" y="16845"/>
                  <a:pt x="100782" y="30662"/>
                </a:cubicBezTo>
                <a:cubicBezTo>
                  <a:pt x="100782" y="41829"/>
                  <a:pt x="81992" y="52996"/>
                  <a:pt x="56797" y="5299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85" name="Shape 4732"/>
          <p:cNvSpPr/>
          <p:nvPr/>
        </p:nvSpPr>
        <p:spPr>
          <a:xfrm>
            <a:off x="1608120" y="1652760"/>
            <a:ext cx="100080" cy="306360"/>
          </a:xfrm>
          <a:custGeom>
            <a:avLst/>
            <a:gdLst>
              <a:gd name="textAreaLeft" fmla="*/ 0 w 100080"/>
              <a:gd name="textAreaRight" fmla="*/ 100440 w 100080"/>
              <a:gd name="textAreaTop" fmla="*/ 0 h 306360"/>
              <a:gd name="textAreaBottom" fmla="*/ 306720 h 306360"/>
            </a:gdLst>
            <a:ahLst/>
            <a:rect l="textAreaLeft" t="textAreaTop" r="textAreaRight" b="textAreaBottom"/>
            <a:pathLst>
              <a:path w="120000" h="120000">
                <a:moveTo>
                  <a:pt x="102028" y="0"/>
                </a:moveTo>
                <a:lnTo>
                  <a:pt x="102028" y="0"/>
                </a:lnTo>
                <a:lnTo>
                  <a:pt x="93913" y="2839"/>
                </a:lnTo>
                <a:cubicBezTo>
                  <a:pt x="93913" y="30662"/>
                  <a:pt x="93913" y="30662"/>
                  <a:pt x="93913" y="30662"/>
                </a:cubicBezTo>
                <a:cubicBezTo>
                  <a:pt x="93913" y="36151"/>
                  <a:pt x="85217" y="39179"/>
                  <a:pt x="68405" y="39179"/>
                </a:cubicBezTo>
                <a:cubicBezTo>
                  <a:pt x="68405" y="2839"/>
                  <a:pt x="68405" y="2839"/>
                  <a:pt x="68405" y="2839"/>
                </a:cubicBezTo>
                <a:cubicBezTo>
                  <a:pt x="68405" y="2839"/>
                  <a:pt x="68405" y="0"/>
                  <a:pt x="59710" y="0"/>
                </a:cubicBezTo>
                <a:cubicBezTo>
                  <a:pt x="51014" y="0"/>
                  <a:pt x="51014" y="2839"/>
                  <a:pt x="51014" y="2839"/>
                </a:cubicBezTo>
                <a:cubicBezTo>
                  <a:pt x="51014" y="39179"/>
                  <a:pt x="51014" y="39179"/>
                  <a:pt x="51014" y="39179"/>
                </a:cubicBezTo>
                <a:cubicBezTo>
                  <a:pt x="34202" y="39179"/>
                  <a:pt x="25507" y="36151"/>
                  <a:pt x="25507" y="30662"/>
                </a:cubicBezTo>
                <a:cubicBezTo>
                  <a:pt x="25507" y="2839"/>
                  <a:pt x="25507" y="2839"/>
                  <a:pt x="25507" y="2839"/>
                </a:cubicBezTo>
                <a:lnTo>
                  <a:pt x="16811" y="0"/>
                </a:lnTo>
                <a:cubicBezTo>
                  <a:pt x="8695" y="0"/>
                  <a:pt x="0" y="2839"/>
                  <a:pt x="0" y="2839"/>
                </a:cubicBezTo>
                <a:cubicBezTo>
                  <a:pt x="0" y="30662"/>
                  <a:pt x="0" y="30662"/>
                  <a:pt x="0" y="30662"/>
                </a:cubicBezTo>
                <a:cubicBezTo>
                  <a:pt x="0" y="39179"/>
                  <a:pt x="25507" y="47318"/>
                  <a:pt x="51014" y="47318"/>
                </a:cubicBezTo>
                <a:cubicBezTo>
                  <a:pt x="51014" y="114321"/>
                  <a:pt x="51014" y="114321"/>
                  <a:pt x="51014" y="114321"/>
                </a:cubicBezTo>
                <a:cubicBezTo>
                  <a:pt x="51014" y="117160"/>
                  <a:pt x="51014" y="119810"/>
                  <a:pt x="59710" y="119810"/>
                </a:cubicBezTo>
                <a:cubicBezTo>
                  <a:pt x="68405" y="119810"/>
                  <a:pt x="68405" y="117160"/>
                  <a:pt x="68405" y="114321"/>
                </a:cubicBezTo>
                <a:cubicBezTo>
                  <a:pt x="68405" y="47318"/>
                  <a:pt x="68405" y="47318"/>
                  <a:pt x="68405" y="47318"/>
                </a:cubicBezTo>
                <a:cubicBezTo>
                  <a:pt x="93913" y="47318"/>
                  <a:pt x="119420" y="39179"/>
                  <a:pt x="119420" y="30662"/>
                </a:cubicBezTo>
                <a:cubicBezTo>
                  <a:pt x="119420" y="2839"/>
                  <a:pt x="119420" y="2839"/>
                  <a:pt x="119420" y="2839"/>
                </a:cubicBezTo>
                <a:cubicBezTo>
                  <a:pt x="119420" y="2839"/>
                  <a:pt x="110724" y="0"/>
                  <a:pt x="102028" y="0"/>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86" name="Shape 4734"/>
          <p:cNvSpPr/>
          <p:nvPr/>
        </p:nvSpPr>
        <p:spPr>
          <a:xfrm>
            <a:off x="5450040" y="1179360"/>
            <a:ext cx="253800" cy="270000"/>
          </a:xfrm>
          <a:custGeom>
            <a:avLst/>
            <a:gdLst>
              <a:gd name="textAreaLeft" fmla="*/ 0 w 253800"/>
              <a:gd name="textAreaRight" fmla="*/ 254160 w 253800"/>
              <a:gd name="textAreaTop" fmla="*/ 0 h 270000"/>
              <a:gd name="textAreaBottom" fmla="*/ 270360 h 270000"/>
            </a:gdLst>
            <a:ahLst/>
            <a:rect l="textAreaLeft" t="textAreaTop" r="textAreaRight" b="textAreaBottom"/>
            <a:pathLst>
              <a:path w="120000" h="120000">
                <a:moveTo>
                  <a:pt x="119774" y="9428"/>
                </a:moveTo>
                <a:lnTo>
                  <a:pt x="119774" y="9428"/>
                </a:lnTo>
                <a:cubicBezTo>
                  <a:pt x="119774" y="6214"/>
                  <a:pt x="119774" y="6214"/>
                  <a:pt x="119774" y="6214"/>
                </a:cubicBezTo>
                <a:cubicBezTo>
                  <a:pt x="119774" y="3214"/>
                  <a:pt x="119774" y="3214"/>
                  <a:pt x="116384" y="0"/>
                </a:cubicBezTo>
                <a:lnTo>
                  <a:pt x="116384" y="0"/>
                </a:lnTo>
                <a:cubicBezTo>
                  <a:pt x="3163" y="0"/>
                  <a:pt x="3163" y="0"/>
                  <a:pt x="3163" y="0"/>
                </a:cubicBezTo>
                <a:cubicBezTo>
                  <a:pt x="3163" y="0"/>
                  <a:pt x="3163" y="0"/>
                  <a:pt x="0" y="3214"/>
                </a:cubicBezTo>
                <a:cubicBezTo>
                  <a:pt x="0" y="3214"/>
                  <a:pt x="0" y="6214"/>
                  <a:pt x="0" y="9428"/>
                </a:cubicBezTo>
                <a:cubicBezTo>
                  <a:pt x="56497" y="72428"/>
                  <a:pt x="56497" y="72428"/>
                  <a:pt x="56497" y="72428"/>
                </a:cubicBezTo>
                <a:cubicBezTo>
                  <a:pt x="56497" y="110357"/>
                  <a:pt x="56497" y="110357"/>
                  <a:pt x="56497" y="110357"/>
                </a:cubicBezTo>
                <a:cubicBezTo>
                  <a:pt x="39774" y="110357"/>
                  <a:pt x="39774" y="110357"/>
                  <a:pt x="39774" y="110357"/>
                </a:cubicBezTo>
                <a:cubicBezTo>
                  <a:pt x="36610" y="110357"/>
                  <a:pt x="36610" y="113571"/>
                  <a:pt x="36610" y="113571"/>
                </a:cubicBezTo>
                <a:cubicBezTo>
                  <a:pt x="36610" y="116785"/>
                  <a:pt x="36610" y="119785"/>
                  <a:pt x="39774" y="119785"/>
                </a:cubicBezTo>
                <a:cubicBezTo>
                  <a:pt x="82937" y="119785"/>
                  <a:pt x="82937" y="119785"/>
                  <a:pt x="82937" y="119785"/>
                </a:cubicBezTo>
                <a:cubicBezTo>
                  <a:pt x="86553" y="119785"/>
                  <a:pt x="89717" y="116785"/>
                  <a:pt x="89717" y="113571"/>
                </a:cubicBezTo>
                <a:cubicBezTo>
                  <a:pt x="89717" y="113571"/>
                  <a:pt x="86553" y="110357"/>
                  <a:pt x="82937" y="110357"/>
                </a:cubicBezTo>
                <a:cubicBezTo>
                  <a:pt x="66440" y="110357"/>
                  <a:pt x="66440" y="110357"/>
                  <a:pt x="66440" y="110357"/>
                </a:cubicBezTo>
                <a:cubicBezTo>
                  <a:pt x="66440" y="72428"/>
                  <a:pt x="66440" y="72428"/>
                  <a:pt x="66440" y="72428"/>
                </a:cubicBezTo>
                <a:lnTo>
                  <a:pt x="119774" y="9428"/>
                </a:lnTo>
                <a:close/>
                <a:moveTo>
                  <a:pt x="63050" y="63000"/>
                </a:moveTo>
                <a:lnTo>
                  <a:pt x="63050" y="63000"/>
                </a:lnTo>
                <a:cubicBezTo>
                  <a:pt x="13107" y="9428"/>
                  <a:pt x="13107" y="9428"/>
                  <a:pt x="13107" y="9428"/>
                </a:cubicBezTo>
                <a:cubicBezTo>
                  <a:pt x="106440" y="9428"/>
                  <a:pt x="106440" y="9428"/>
                  <a:pt x="106440" y="9428"/>
                </a:cubicBezTo>
                <a:lnTo>
                  <a:pt x="63050" y="63000"/>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87" name="Shape 4736"/>
          <p:cNvSpPr/>
          <p:nvPr/>
        </p:nvSpPr>
        <p:spPr>
          <a:xfrm>
            <a:off x="4479840" y="1165320"/>
            <a:ext cx="241560" cy="296640"/>
          </a:xfrm>
          <a:custGeom>
            <a:avLst/>
            <a:gdLst>
              <a:gd name="textAreaLeft" fmla="*/ 0 w 241560"/>
              <a:gd name="textAreaRight" fmla="*/ 241920 w 241560"/>
              <a:gd name="textAreaTop" fmla="*/ 0 h 296640"/>
              <a:gd name="textAreaBottom" fmla="*/ 297000 h 296640"/>
            </a:gdLst>
            <a:ahLst/>
            <a:rect l="textAreaLeft" t="textAreaTop" r="textAreaRight" b="textAreaBottom"/>
            <a:pathLst>
              <a:path w="120000" h="120000">
                <a:moveTo>
                  <a:pt x="105628" y="25589"/>
                </a:moveTo>
                <a:lnTo>
                  <a:pt x="105628" y="25589"/>
                </a:lnTo>
                <a:cubicBezTo>
                  <a:pt x="84550" y="31405"/>
                  <a:pt x="81197" y="42649"/>
                  <a:pt x="84550" y="51179"/>
                </a:cubicBezTo>
                <a:cubicBezTo>
                  <a:pt x="67065" y="37027"/>
                  <a:pt x="70419" y="22681"/>
                  <a:pt x="70419" y="0"/>
                </a:cubicBezTo>
                <a:cubicBezTo>
                  <a:pt x="21077" y="14151"/>
                  <a:pt x="31616" y="54087"/>
                  <a:pt x="31616" y="68432"/>
                </a:cubicBezTo>
                <a:cubicBezTo>
                  <a:pt x="21077" y="59903"/>
                  <a:pt x="17485" y="39741"/>
                  <a:pt x="17485" y="39741"/>
                </a:cubicBezTo>
                <a:cubicBezTo>
                  <a:pt x="3353" y="45557"/>
                  <a:pt x="0" y="59903"/>
                  <a:pt x="0" y="71147"/>
                </a:cubicBezTo>
                <a:cubicBezTo>
                  <a:pt x="0" y="99838"/>
                  <a:pt x="24670" y="119806"/>
                  <a:pt x="59880" y="119806"/>
                </a:cubicBezTo>
                <a:cubicBezTo>
                  <a:pt x="95089" y="119806"/>
                  <a:pt x="119760" y="99838"/>
                  <a:pt x="119760" y="71147"/>
                </a:cubicBezTo>
                <a:cubicBezTo>
                  <a:pt x="119760" y="54087"/>
                  <a:pt x="105628" y="48465"/>
                  <a:pt x="105628" y="25589"/>
                </a:cubicBezTo>
                <a:close/>
                <a:moveTo>
                  <a:pt x="63473" y="113990"/>
                </a:moveTo>
                <a:lnTo>
                  <a:pt x="63473" y="113990"/>
                </a:lnTo>
                <a:cubicBezTo>
                  <a:pt x="31616" y="113990"/>
                  <a:pt x="6946" y="94022"/>
                  <a:pt x="6946" y="68432"/>
                </a:cubicBezTo>
                <a:cubicBezTo>
                  <a:pt x="6946" y="65525"/>
                  <a:pt x="6946" y="59903"/>
                  <a:pt x="14131" y="56995"/>
                </a:cubicBezTo>
                <a:cubicBezTo>
                  <a:pt x="14131" y="59903"/>
                  <a:pt x="21077" y="79870"/>
                  <a:pt x="42395" y="76962"/>
                </a:cubicBezTo>
                <a:cubicBezTo>
                  <a:pt x="42395" y="62617"/>
                  <a:pt x="35209" y="22681"/>
                  <a:pt x="59880" y="11243"/>
                </a:cubicBezTo>
                <a:cubicBezTo>
                  <a:pt x="59880" y="31405"/>
                  <a:pt x="63473" y="59903"/>
                  <a:pt x="91497" y="62617"/>
                </a:cubicBezTo>
                <a:cubicBezTo>
                  <a:pt x="91497" y="54087"/>
                  <a:pt x="91497" y="42649"/>
                  <a:pt x="98682" y="39741"/>
                </a:cubicBezTo>
                <a:cubicBezTo>
                  <a:pt x="98682" y="51179"/>
                  <a:pt x="112814" y="59903"/>
                  <a:pt x="112814" y="71147"/>
                </a:cubicBezTo>
                <a:cubicBezTo>
                  <a:pt x="112814" y="94022"/>
                  <a:pt x="84550" y="113990"/>
                  <a:pt x="63473" y="11399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88" name="Shape 4738"/>
          <p:cNvSpPr/>
          <p:nvPr/>
        </p:nvSpPr>
        <p:spPr>
          <a:xfrm>
            <a:off x="3468600" y="1165320"/>
            <a:ext cx="304920" cy="296640"/>
          </a:xfrm>
          <a:custGeom>
            <a:avLst/>
            <a:gdLst>
              <a:gd name="textAreaLeft" fmla="*/ 0 w 304920"/>
              <a:gd name="textAreaRight" fmla="*/ 305280 w 304920"/>
              <a:gd name="textAreaTop" fmla="*/ 0 h 296640"/>
              <a:gd name="textAreaBottom" fmla="*/ 297000 h 296640"/>
            </a:gdLst>
            <a:ahLst/>
            <a:rect l="textAreaLeft" t="textAreaTop" r="textAreaRight" b="textAreaBottom"/>
            <a:pathLst>
              <a:path w="120000" h="120000">
                <a:moveTo>
                  <a:pt x="58485" y="17059"/>
                </a:moveTo>
                <a:lnTo>
                  <a:pt x="58485" y="17059"/>
                </a:lnTo>
                <a:cubicBezTo>
                  <a:pt x="44479" y="17059"/>
                  <a:pt x="33312" y="31405"/>
                  <a:pt x="33312" y="45557"/>
                </a:cubicBezTo>
                <a:cubicBezTo>
                  <a:pt x="33312" y="59903"/>
                  <a:pt x="44479" y="71147"/>
                  <a:pt x="58485" y="71147"/>
                </a:cubicBezTo>
                <a:cubicBezTo>
                  <a:pt x="72492" y="71147"/>
                  <a:pt x="86309" y="59903"/>
                  <a:pt x="86309" y="45557"/>
                </a:cubicBezTo>
                <a:cubicBezTo>
                  <a:pt x="86309" y="31405"/>
                  <a:pt x="72492" y="17059"/>
                  <a:pt x="58485" y="17059"/>
                </a:cubicBezTo>
                <a:close/>
                <a:moveTo>
                  <a:pt x="58485" y="62617"/>
                </a:moveTo>
                <a:lnTo>
                  <a:pt x="58485" y="62617"/>
                </a:lnTo>
                <a:cubicBezTo>
                  <a:pt x="50157" y="62617"/>
                  <a:pt x="41829" y="54087"/>
                  <a:pt x="41829" y="45557"/>
                </a:cubicBezTo>
                <a:cubicBezTo>
                  <a:pt x="41829" y="34119"/>
                  <a:pt x="50157" y="25589"/>
                  <a:pt x="58485" y="25589"/>
                </a:cubicBezTo>
                <a:cubicBezTo>
                  <a:pt x="69652" y="25589"/>
                  <a:pt x="77981" y="34119"/>
                  <a:pt x="77981" y="45557"/>
                </a:cubicBezTo>
                <a:cubicBezTo>
                  <a:pt x="77981" y="54087"/>
                  <a:pt x="69652" y="62617"/>
                  <a:pt x="58485" y="62617"/>
                </a:cubicBezTo>
                <a:close/>
                <a:moveTo>
                  <a:pt x="100315" y="65525"/>
                </a:moveTo>
                <a:lnTo>
                  <a:pt x="100315" y="65525"/>
                </a:lnTo>
                <a:cubicBezTo>
                  <a:pt x="102965" y="59903"/>
                  <a:pt x="105804" y="51179"/>
                  <a:pt x="105804" y="45557"/>
                </a:cubicBezTo>
                <a:cubicBezTo>
                  <a:pt x="105804" y="19967"/>
                  <a:pt x="83470" y="0"/>
                  <a:pt x="58485" y="0"/>
                </a:cubicBezTo>
                <a:cubicBezTo>
                  <a:pt x="33312" y="0"/>
                  <a:pt x="13817" y="19967"/>
                  <a:pt x="13817" y="45557"/>
                </a:cubicBezTo>
                <a:cubicBezTo>
                  <a:pt x="13817" y="51179"/>
                  <a:pt x="16656" y="59903"/>
                  <a:pt x="19495" y="65525"/>
                </a:cubicBezTo>
                <a:cubicBezTo>
                  <a:pt x="0" y="96930"/>
                  <a:pt x="0" y="96930"/>
                  <a:pt x="0" y="96930"/>
                </a:cubicBezTo>
                <a:cubicBezTo>
                  <a:pt x="0" y="96930"/>
                  <a:pt x="10977" y="99838"/>
                  <a:pt x="22145" y="102746"/>
                </a:cubicBezTo>
                <a:cubicBezTo>
                  <a:pt x="30662" y="111276"/>
                  <a:pt x="38990" y="119806"/>
                  <a:pt x="38990" y="119806"/>
                </a:cubicBezTo>
                <a:cubicBezTo>
                  <a:pt x="55646" y="91308"/>
                  <a:pt x="55646" y="91308"/>
                  <a:pt x="55646" y="91308"/>
                </a:cubicBezTo>
                <a:cubicBezTo>
                  <a:pt x="58485" y="91308"/>
                  <a:pt x="58485" y="91308"/>
                  <a:pt x="58485" y="91308"/>
                </a:cubicBezTo>
                <a:cubicBezTo>
                  <a:pt x="61324" y="91308"/>
                  <a:pt x="61324" y="91308"/>
                  <a:pt x="61324" y="91308"/>
                </a:cubicBezTo>
                <a:cubicBezTo>
                  <a:pt x="77981" y="119806"/>
                  <a:pt x="77981" y="119806"/>
                  <a:pt x="77981" y="119806"/>
                </a:cubicBezTo>
                <a:cubicBezTo>
                  <a:pt x="77981" y="119806"/>
                  <a:pt x="86309" y="111276"/>
                  <a:pt x="94637" y="102746"/>
                </a:cubicBezTo>
                <a:cubicBezTo>
                  <a:pt x="105804" y="99838"/>
                  <a:pt x="119810" y="96930"/>
                  <a:pt x="119810" y="96930"/>
                </a:cubicBezTo>
                <a:lnTo>
                  <a:pt x="100315" y="65525"/>
                </a:lnTo>
                <a:close/>
                <a:moveTo>
                  <a:pt x="38990" y="105460"/>
                </a:moveTo>
                <a:lnTo>
                  <a:pt x="38990" y="105460"/>
                </a:lnTo>
                <a:cubicBezTo>
                  <a:pt x="38990" y="105460"/>
                  <a:pt x="33312" y="102746"/>
                  <a:pt x="27823" y="96930"/>
                </a:cubicBezTo>
                <a:cubicBezTo>
                  <a:pt x="19495" y="94022"/>
                  <a:pt x="10977" y="91308"/>
                  <a:pt x="10977" y="91308"/>
                </a:cubicBezTo>
                <a:cubicBezTo>
                  <a:pt x="22145" y="74054"/>
                  <a:pt x="22145" y="74054"/>
                  <a:pt x="22145" y="74054"/>
                </a:cubicBezTo>
                <a:cubicBezTo>
                  <a:pt x="27823" y="79870"/>
                  <a:pt x="38990" y="88400"/>
                  <a:pt x="47318" y="88400"/>
                </a:cubicBezTo>
                <a:lnTo>
                  <a:pt x="38990" y="105460"/>
                </a:lnTo>
                <a:close/>
                <a:moveTo>
                  <a:pt x="58485" y="82584"/>
                </a:moveTo>
                <a:lnTo>
                  <a:pt x="58485" y="82584"/>
                </a:lnTo>
                <a:cubicBezTo>
                  <a:pt x="38990" y="82584"/>
                  <a:pt x="22145" y="65525"/>
                  <a:pt x="22145" y="45557"/>
                </a:cubicBezTo>
                <a:cubicBezTo>
                  <a:pt x="22145" y="22681"/>
                  <a:pt x="38990" y="5621"/>
                  <a:pt x="58485" y="5621"/>
                </a:cubicBezTo>
                <a:cubicBezTo>
                  <a:pt x="80630" y="5621"/>
                  <a:pt x="97476" y="22681"/>
                  <a:pt x="97476" y="45557"/>
                </a:cubicBezTo>
                <a:cubicBezTo>
                  <a:pt x="97476" y="65525"/>
                  <a:pt x="80630" y="82584"/>
                  <a:pt x="58485" y="82584"/>
                </a:cubicBezTo>
                <a:close/>
                <a:moveTo>
                  <a:pt x="91798" y="96930"/>
                </a:moveTo>
                <a:lnTo>
                  <a:pt x="91798" y="96930"/>
                </a:lnTo>
                <a:cubicBezTo>
                  <a:pt x="86309" y="102746"/>
                  <a:pt x="80630" y="105460"/>
                  <a:pt x="80630" y="105460"/>
                </a:cubicBezTo>
                <a:cubicBezTo>
                  <a:pt x="69652" y="88400"/>
                  <a:pt x="69652" y="88400"/>
                  <a:pt x="69652" y="88400"/>
                </a:cubicBezTo>
                <a:cubicBezTo>
                  <a:pt x="80630" y="88400"/>
                  <a:pt x="89148" y="79870"/>
                  <a:pt x="94637" y="74054"/>
                </a:cubicBezTo>
                <a:cubicBezTo>
                  <a:pt x="105804" y="91308"/>
                  <a:pt x="105804" y="91308"/>
                  <a:pt x="105804" y="91308"/>
                </a:cubicBezTo>
                <a:cubicBezTo>
                  <a:pt x="105804" y="91308"/>
                  <a:pt x="100315" y="94022"/>
                  <a:pt x="91798" y="9693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89" name="Shape 4740"/>
          <p:cNvSpPr/>
          <p:nvPr/>
        </p:nvSpPr>
        <p:spPr>
          <a:xfrm>
            <a:off x="2484360" y="1165320"/>
            <a:ext cx="304920" cy="296640"/>
          </a:xfrm>
          <a:custGeom>
            <a:avLst/>
            <a:gdLst>
              <a:gd name="textAreaLeft" fmla="*/ 0 w 304920"/>
              <a:gd name="textAreaRight" fmla="*/ 305280 w 304920"/>
              <a:gd name="textAreaTop" fmla="*/ 0 h 296640"/>
              <a:gd name="textAreaBottom" fmla="*/ 297000 h 296640"/>
            </a:gdLst>
            <a:ahLst/>
            <a:rect l="textAreaLeft" t="textAreaTop" r="textAreaRight" b="textAreaBottom"/>
            <a:pathLst>
              <a:path w="120000" h="120000">
                <a:moveTo>
                  <a:pt x="33501" y="37027"/>
                </a:moveTo>
                <a:lnTo>
                  <a:pt x="33501" y="37027"/>
                </a:lnTo>
                <a:lnTo>
                  <a:pt x="30662" y="39741"/>
                </a:lnTo>
                <a:cubicBezTo>
                  <a:pt x="30662" y="79870"/>
                  <a:pt x="30662" y="79870"/>
                  <a:pt x="30662" y="79870"/>
                </a:cubicBezTo>
                <a:lnTo>
                  <a:pt x="33501" y="82584"/>
                </a:lnTo>
                <a:cubicBezTo>
                  <a:pt x="36340" y="82584"/>
                  <a:pt x="39179" y="79870"/>
                  <a:pt x="39179" y="79870"/>
                </a:cubicBezTo>
                <a:cubicBezTo>
                  <a:pt x="39179" y="39741"/>
                  <a:pt x="39179" y="39741"/>
                  <a:pt x="39179" y="39741"/>
                </a:cubicBezTo>
                <a:cubicBezTo>
                  <a:pt x="39179" y="39741"/>
                  <a:pt x="36340" y="37027"/>
                  <a:pt x="33501" y="37027"/>
                </a:cubicBezTo>
                <a:close/>
                <a:moveTo>
                  <a:pt x="64164" y="48465"/>
                </a:moveTo>
                <a:lnTo>
                  <a:pt x="64164" y="48465"/>
                </a:lnTo>
                <a:cubicBezTo>
                  <a:pt x="61324" y="48465"/>
                  <a:pt x="61324" y="51179"/>
                  <a:pt x="61324" y="51179"/>
                </a:cubicBezTo>
                <a:cubicBezTo>
                  <a:pt x="61324" y="74054"/>
                  <a:pt x="61324" y="74054"/>
                  <a:pt x="61324" y="74054"/>
                </a:cubicBezTo>
                <a:cubicBezTo>
                  <a:pt x="61324" y="76962"/>
                  <a:pt x="61324" y="79870"/>
                  <a:pt x="64164" y="79870"/>
                </a:cubicBezTo>
                <a:cubicBezTo>
                  <a:pt x="67003" y="79870"/>
                  <a:pt x="67003" y="76962"/>
                  <a:pt x="67003" y="74054"/>
                </a:cubicBezTo>
                <a:cubicBezTo>
                  <a:pt x="67003" y="51179"/>
                  <a:pt x="67003" y="51179"/>
                  <a:pt x="67003" y="51179"/>
                </a:cubicBezTo>
                <a:cubicBezTo>
                  <a:pt x="67003" y="51179"/>
                  <a:pt x="67003" y="48465"/>
                  <a:pt x="64164" y="48465"/>
                </a:cubicBezTo>
                <a:close/>
                <a:moveTo>
                  <a:pt x="89148" y="0"/>
                </a:moveTo>
                <a:lnTo>
                  <a:pt x="89148" y="0"/>
                </a:lnTo>
                <a:cubicBezTo>
                  <a:pt x="61324" y="22681"/>
                  <a:pt x="61324" y="22681"/>
                  <a:pt x="61324" y="22681"/>
                </a:cubicBezTo>
                <a:cubicBezTo>
                  <a:pt x="30662" y="11243"/>
                  <a:pt x="30662" y="11243"/>
                  <a:pt x="30662" y="11243"/>
                </a:cubicBezTo>
                <a:cubicBezTo>
                  <a:pt x="0" y="28497"/>
                  <a:pt x="0" y="28497"/>
                  <a:pt x="0" y="28497"/>
                </a:cubicBezTo>
                <a:cubicBezTo>
                  <a:pt x="0" y="119806"/>
                  <a:pt x="0" y="119806"/>
                  <a:pt x="0" y="119806"/>
                </a:cubicBezTo>
                <a:cubicBezTo>
                  <a:pt x="30662" y="102746"/>
                  <a:pt x="30662" y="102746"/>
                  <a:pt x="30662" y="102746"/>
                </a:cubicBezTo>
                <a:cubicBezTo>
                  <a:pt x="61324" y="113990"/>
                  <a:pt x="61324" y="113990"/>
                  <a:pt x="61324" y="113990"/>
                </a:cubicBezTo>
                <a:cubicBezTo>
                  <a:pt x="89148" y="91308"/>
                  <a:pt x="89148" y="91308"/>
                  <a:pt x="89148" y="91308"/>
                </a:cubicBezTo>
                <a:cubicBezTo>
                  <a:pt x="119810" y="113990"/>
                  <a:pt x="119810" y="113990"/>
                  <a:pt x="119810" y="113990"/>
                </a:cubicBezTo>
                <a:cubicBezTo>
                  <a:pt x="119810" y="22681"/>
                  <a:pt x="119810" y="22681"/>
                  <a:pt x="119810" y="22681"/>
                </a:cubicBezTo>
                <a:lnTo>
                  <a:pt x="89148" y="0"/>
                </a:lnTo>
                <a:close/>
                <a:moveTo>
                  <a:pt x="111482" y="99838"/>
                </a:moveTo>
                <a:lnTo>
                  <a:pt x="111482" y="99838"/>
                </a:lnTo>
                <a:cubicBezTo>
                  <a:pt x="89148" y="82584"/>
                  <a:pt x="89148" y="82584"/>
                  <a:pt x="89148" y="82584"/>
                </a:cubicBezTo>
                <a:cubicBezTo>
                  <a:pt x="61324" y="105460"/>
                  <a:pt x="61324" y="105460"/>
                  <a:pt x="61324" y="105460"/>
                </a:cubicBezTo>
                <a:cubicBezTo>
                  <a:pt x="30662" y="94022"/>
                  <a:pt x="30662" y="94022"/>
                  <a:pt x="30662" y="94022"/>
                </a:cubicBezTo>
                <a:cubicBezTo>
                  <a:pt x="8328" y="108368"/>
                  <a:pt x="8328" y="108368"/>
                  <a:pt x="8328" y="108368"/>
                </a:cubicBezTo>
                <a:cubicBezTo>
                  <a:pt x="8328" y="31405"/>
                  <a:pt x="8328" y="31405"/>
                  <a:pt x="8328" y="31405"/>
                </a:cubicBezTo>
                <a:cubicBezTo>
                  <a:pt x="30662" y="17059"/>
                  <a:pt x="30662" y="17059"/>
                  <a:pt x="30662" y="17059"/>
                </a:cubicBezTo>
                <a:cubicBezTo>
                  <a:pt x="61324" y="28497"/>
                  <a:pt x="61324" y="28497"/>
                  <a:pt x="61324" y="28497"/>
                </a:cubicBezTo>
                <a:cubicBezTo>
                  <a:pt x="89148" y="5621"/>
                  <a:pt x="89148" y="5621"/>
                  <a:pt x="89148" y="5621"/>
                </a:cubicBezTo>
                <a:cubicBezTo>
                  <a:pt x="111482" y="22681"/>
                  <a:pt x="111482" y="22681"/>
                  <a:pt x="111482" y="22681"/>
                </a:cubicBezTo>
                <a:lnTo>
                  <a:pt x="111482" y="99838"/>
                </a:lnTo>
                <a:close/>
                <a:moveTo>
                  <a:pt x="89148" y="62617"/>
                </a:moveTo>
                <a:lnTo>
                  <a:pt x="89148" y="62617"/>
                </a:lnTo>
                <a:cubicBezTo>
                  <a:pt x="89148" y="65525"/>
                  <a:pt x="91987" y="68432"/>
                  <a:pt x="94826" y="68432"/>
                </a:cubicBezTo>
                <a:cubicBezTo>
                  <a:pt x="94826" y="68432"/>
                  <a:pt x="97665" y="65525"/>
                  <a:pt x="97665" y="62617"/>
                </a:cubicBezTo>
                <a:cubicBezTo>
                  <a:pt x="97665" y="34119"/>
                  <a:pt x="97665" y="34119"/>
                  <a:pt x="97665" y="34119"/>
                </a:cubicBezTo>
                <a:cubicBezTo>
                  <a:pt x="97665" y="31405"/>
                  <a:pt x="94826" y="28497"/>
                  <a:pt x="94826" y="28497"/>
                </a:cubicBezTo>
                <a:cubicBezTo>
                  <a:pt x="91987" y="28497"/>
                  <a:pt x="89148" y="31405"/>
                  <a:pt x="89148" y="34119"/>
                </a:cubicBezTo>
                <a:lnTo>
                  <a:pt x="89148" y="62617"/>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90" name="Shape 4742"/>
          <p:cNvSpPr/>
          <p:nvPr/>
        </p:nvSpPr>
        <p:spPr>
          <a:xfrm>
            <a:off x="1544760" y="1165320"/>
            <a:ext cx="226800" cy="296640"/>
          </a:xfrm>
          <a:custGeom>
            <a:avLst/>
            <a:gdLst>
              <a:gd name="textAreaLeft" fmla="*/ 0 w 226800"/>
              <a:gd name="textAreaRight" fmla="*/ 227160 w 226800"/>
              <a:gd name="textAreaTop" fmla="*/ 0 h 296640"/>
              <a:gd name="textAreaBottom" fmla="*/ 297000 h 296640"/>
            </a:gdLst>
            <a:ahLst/>
            <a:rect l="textAreaLeft" t="textAreaTop" r="textAreaRight" b="textAreaBottom"/>
            <a:pathLst>
              <a:path w="120000" h="120000">
                <a:moveTo>
                  <a:pt x="60000" y="0"/>
                </a:moveTo>
                <a:lnTo>
                  <a:pt x="60000" y="0"/>
                </a:lnTo>
                <a:cubicBezTo>
                  <a:pt x="26440" y="0"/>
                  <a:pt x="0" y="19967"/>
                  <a:pt x="0" y="45557"/>
                </a:cubicBezTo>
                <a:cubicBezTo>
                  <a:pt x="0" y="62617"/>
                  <a:pt x="48813" y="119806"/>
                  <a:pt x="60000" y="119806"/>
                </a:cubicBezTo>
                <a:cubicBezTo>
                  <a:pt x="71186" y="119806"/>
                  <a:pt x="119745" y="62617"/>
                  <a:pt x="119745" y="45557"/>
                </a:cubicBezTo>
                <a:cubicBezTo>
                  <a:pt x="119745" y="19967"/>
                  <a:pt x="93559" y="0"/>
                  <a:pt x="60000" y="0"/>
                </a:cubicBezTo>
                <a:close/>
                <a:moveTo>
                  <a:pt x="60000" y="108368"/>
                </a:moveTo>
                <a:lnTo>
                  <a:pt x="60000" y="108368"/>
                </a:lnTo>
                <a:cubicBezTo>
                  <a:pt x="52627" y="108368"/>
                  <a:pt x="11440" y="59903"/>
                  <a:pt x="11440" y="45557"/>
                </a:cubicBezTo>
                <a:cubicBezTo>
                  <a:pt x="11440" y="22681"/>
                  <a:pt x="33813" y="5621"/>
                  <a:pt x="60000" y="5621"/>
                </a:cubicBezTo>
                <a:cubicBezTo>
                  <a:pt x="86186" y="5621"/>
                  <a:pt x="108559" y="22681"/>
                  <a:pt x="108559" y="45557"/>
                </a:cubicBezTo>
                <a:cubicBezTo>
                  <a:pt x="108559" y="59903"/>
                  <a:pt x="67627" y="108368"/>
                  <a:pt x="60000" y="108368"/>
                </a:cubicBezTo>
                <a:close/>
                <a:moveTo>
                  <a:pt x="60000" y="25589"/>
                </a:moveTo>
                <a:lnTo>
                  <a:pt x="60000" y="25589"/>
                </a:lnTo>
                <a:cubicBezTo>
                  <a:pt x="45000" y="25589"/>
                  <a:pt x="33813" y="34119"/>
                  <a:pt x="33813" y="45557"/>
                </a:cubicBezTo>
                <a:cubicBezTo>
                  <a:pt x="33813" y="54087"/>
                  <a:pt x="45000" y="62617"/>
                  <a:pt x="60000" y="62617"/>
                </a:cubicBezTo>
                <a:cubicBezTo>
                  <a:pt x="75000" y="62617"/>
                  <a:pt x="86186" y="54087"/>
                  <a:pt x="86186" y="45557"/>
                </a:cubicBezTo>
                <a:cubicBezTo>
                  <a:pt x="86186" y="34119"/>
                  <a:pt x="75000" y="25589"/>
                  <a:pt x="60000" y="25589"/>
                </a:cubicBezTo>
                <a:close/>
                <a:moveTo>
                  <a:pt x="60000" y="56995"/>
                </a:moveTo>
                <a:lnTo>
                  <a:pt x="60000" y="56995"/>
                </a:lnTo>
                <a:cubicBezTo>
                  <a:pt x="52627" y="56995"/>
                  <a:pt x="45000" y="51179"/>
                  <a:pt x="45000" y="45557"/>
                </a:cubicBezTo>
                <a:cubicBezTo>
                  <a:pt x="45000" y="37027"/>
                  <a:pt x="52627" y="34119"/>
                  <a:pt x="60000" y="34119"/>
                </a:cubicBezTo>
                <a:cubicBezTo>
                  <a:pt x="67627" y="34119"/>
                  <a:pt x="75000" y="37027"/>
                  <a:pt x="75000" y="45557"/>
                </a:cubicBezTo>
                <a:cubicBezTo>
                  <a:pt x="75000" y="51179"/>
                  <a:pt x="67627" y="56995"/>
                  <a:pt x="60000" y="56995"/>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92" name="Shape 4749"/>
          <p:cNvSpPr/>
          <p:nvPr/>
        </p:nvSpPr>
        <p:spPr>
          <a:xfrm>
            <a:off x="10599840" y="5380200"/>
            <a:ext cx="288720" cy="174600"/>
          </a:xfrm>
          <a:custGeom>
            <a:avLst/>
            <a:gdLst>
              <a:gd name="textAreaLeft" fmla="*/ 0 w 288720"/>
              <a:gd name="textAreaRight" fmla="*/ 289080 w 288720"/>
              <a:gd name="textAreaTop" fmla="*/ 0 h 174600"/>
              <a:gd name="textAreaBottom" fmla="*/ 174960 h 17460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93" name="Shape 4750"/>
          <p:cNvSpPr/>
          <p:nvPr/>
        </p:nvSpPr>
        <p:spPr>
          <a:xfrm>
            <a:off x="10675800" y="4992840"/>
            <a:ext cx="228600" cy="54000"/>
          </a:xfrm>
          <a:custGeom>
            <a:avLst/>
            <a:gdLst>
              <a:gd name="textAreaLeft" fmla="*/ 0 w 228600"/>
              <a:gd name="textAreaRight" fmla="*/ 228960 w 228600"/>
              <a:gd name="textAreaTop" fmla="*/ 0 h 54000"/>
              <a:gd name="textAreaBottom" fmla="*/ 54360 h 5400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94"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95"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96"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97"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98" name="Shape 4759"/>
          <p:cNvSpPr/>
          <p:nvPr/>
        </p:nvSpPr>
        <p:spPr>
          <a:xfrm>
            <a:off x="9702720" y="5324400"/>
            <a:ext cx="108000" cy="246240"/>
          </a:xfrm>
          <a:custGeom>
            <a:avLst/>
            <a:gdLst>
              <a:gd name="textAreaLeft" fmla="*/ 0 w 108000"/>
              <a:gd name="textAreaRight" fmla="*/ 108360 w 108000"/>
              <a:gd name="textAreaTop" fmla="*/ 0 h 246240"/>
              <a:gd name="textAreaBottom" fmla="*/ 246600 h 2462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99" name="Shape 4761"/>
          <p:cNvSpPr/>
          <p:nvPr/>
        </p:nvSpPr>
        <p:spPr>
          <a:xfrm>
            <a:off x="8601120" y="5324400"/>
            <a:ext cx="288720" cy="292320"/>
          </a:xfrm>
          <a:custGeom>
            <a:avLst/>
            <a:gdLst>
              <a:gd name="textAreaLeft" fmla="*/ 0 w 288720"/>
              <a:gd name="textAreaRight" fmla="*/ 289080 w 288720"/>
              <a:gd name="textAreaTop" fmla="*/ 0 h 292320"/>
              <a:gd name="textAreaBottom" fmla="*/ 292680 h 29232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00" name="Shape 4763"/>
          <p:cNvSpPr/>
          <p:nvPr/>
        </p:nvSpPr>
        <p:spPr>
          <a:xfrm>
            <a:off x="7632720" y="5335560"/>
            <a:ext cx="244440" cy="281160"/>
          </a:xfrm>
          <a:custGeom>
            <a:avLst/>
            <a:gdLst>
              <a:gd name="textAreaLeft" fmla="*/ 0 w 244440"/>
              <a:gd name="textAreaRight" fmla="*/ 244800 w 244440"/>
              <a:gd name="textAreaTop" fmla="*/ 0 h 281160"/>
              <a:gd name="textAreaBottom" fmla="*/ 281520 h 28116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01"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02"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03"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04"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05" name="Shape 4771"/>
          <p:cNvSpPr/>
          <p:nvPr/>
        </p:nvSpPr>
        <p:spPr>
          <a:xfrm>
            <a:off x="9613800" y="4851360"/>
            <a:ext cx="290520" cy="257040"/>
          </a:xfrm>
          <a:custGeom>
            <a:avLst/>
            <a:gdLst>
              <a:gd name="textAreaLeft" fmla="*/ 0 w 290520"/>
              <a:gd name="textAreaRight" fmla="*/ 290880 w 290520"/>
              <a:gd name="textAreaTop" fmla="*/ 0 h 257040"/>
              <a:gd name="textAreaBottom" fmla="*/ 257400 h 2570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06" name="Shape 4773"/>
          <p:cNvSpPr/>
          <p:nvPr/>
        </p:nvSpPr>
        <p:spPr>
          <a:xfrm>
            <a:off x="8601120" y="485136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07" name="Shape 4775"/>
          <p:cNvSpPr/>
          <p:nvPr/>
        </p:nvSpPr>
        <p:spPr>
          <a:xfrm>
            <a:off x="7586640" y="485136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08" name="Shape 4776"/>
          <p:cNvSpPr/>
          <p:nvPr/>
        </p:nvSpPr>
        <p:spPr>
          <a:xfrm>
            <a:off x="10578960" y="178452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09" name="Shape 4778"/>
          <p:cNvSpPr/>
          <p:nvPr/>
        </p:nvSpPr>
        <p:spPr>
          <a:xfrm>
            <a:off x="9564840" y="178452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10" name="Shape 4780"/>
          <p:cNvSpPr/>
          <p:nvPr/>
        </p:nvSpPr>
        <p:spPr>
          <a:xfrm>
            <a:off x="8553600" y="178452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11" name="Shape 4782"/>
          <p:cNvSpPr/>
          <p:nvPr/>
        </p:nvSpPr>
        <p:spPr>
          <a:xfrm>
            <a:off x="7540560" y="178452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12"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13"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14"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15" name="Shape 4788"/>
          <p:cNvSpPr/>
          <p:nvPr/>
        </p:nvSpPr>
        <p:spPr>
          <a:xfrm>
            <a:off x="10580760" y="1306440"/>
            <a:ext cx="282600" cy="250920"/>
          </a:xfrm>
          <a:custGeom>
            <a:avLst/>
            <a:gdLst>
              <a:gd name="textAreaLeft" fmla="*/ 0 w 282600"/>
              <a:gd name="textAreaRight" fmla="*/ 282960 w 282600"/>
              <a:gd name="textAreaTop" fmla="*/ 0 h 250920"/>
              <a:gd name="textAreaBottom" fmla="*/ 251280 h 2509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16" name="Shape 4790"/>
          <p:cNvSpPr/>
          <p:nvPr/>
        </p:nvSpPr>
        <p:spPr>
          <a:xfrm>
            <a:off x="9570960" y="1306440"/>
            <a:ext cx="279360" cy="250920"/>
          </a:xfrm>
          <a:custGeom>
            <a:avLst/>
            <a:gdLst>
              <a:gd name="textAreaLeft" fmla="*/ 0 w 279360"/>
              <a:gd name="textAreaRight" fmla="*/ 279720 w 279360"/>
              <a:gd name="textAreaTop" fmla="*/ 0 h 250920"/>
              <a:gd name="textAreaBottom" fmla="*/ 251280 h 2509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17" name="Shape 4792"/>
          <p:cNvSpPr/>
          <p:nvPr/>
        </p:nvSpPr>
        <p:spPr>
          <a:xfrm>
            <a:off x="8553600" y="1333440"/>
            <a:ext cx="290520" cy="179280"/>
          </a:xfrm>
          <a:custGeom>
            <a:avLst/>
            <a:gdLst>
              <a:gd name="textAreaLeft" fmla="*/ 0 w 290520"/>
              <a:gd name="textAreaRight" fmla="*/ 290880 w 290520"/>
              <a:gd name="textAreaTop" fmla="*/ 0 h 179280"/>
              <a:gd name="textAreaBottom" fmla="*/ 179640 h 1792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18" name="Shape 4794"/>
          <p:cNvSpPr/>
          <p:nvPr/>
        </p:nvSpPr>
        <p:spPr>
          <a:xfrm>
            <a:off x="7607160" y="129384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19" name="Shape 4796"/>
          <p:cNvSpPr/>
          <p:nvPr/>
        </p:nvSpPr>
        <p:spPr>
          <a:xfrm>
            <a:off x="6622920" y="534816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20" name="Shape 4798"/>
          <p:cNvSpPr/>
          <p:nvPr/>
        </p:nvSpPr>
        <p:spPr>
          <a:xfrm>
            <a:off x="5603760" y="5357880"/>
            <a:ext cx="235080" cy="218880"/>
          </a:xfrm>
          <a:custGeom>
            <a:avLst/>
            <a:gdLst>
              <a:gd name="textAreaLeft" fmla="*/ 0 w 235080"/>
              <a:gd name="textAreaRight" fmla="*/ 235440 w 235080"/>
              <a:gd name="textAreaTop" fmla="*/ 0 h 218880"/>
              <a:gd name="textAreaBottom" fmla="*/ 219240 h 21888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21" name="Shape 4800"/>
          <p:cNvSpPr/>
          <p:nvPr/>
        </p:nvSpPr>
        <p:spPr>
          <a:xfrm>
            <a:off x="4564080" y="5319720"/>
            <a:ext cx="287280" cy="291960"/>
          </a:xfrm>
          <a:custGeom>
            <a:avLst/>
            <a:gdLst>
              <a:gd name="textAreaLeft" fmla="*/ 0 w 287280"/>
              <a:gd name="textAreaRight" fmla="*/ 287640 w 287280"/>
              <a:gd name="textAreaTop" fmla="*/ 0 h 291960"/>
              <a:gd name="textAreaBottom" fmla="*/ 292320 h 29196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22" name="Shape 4802"/>
          <p:cNvSpPr/>
          <p:nvPr/>
        </p:nvSpPr>
        <p:spPr>
          <a:xfrm>
            <a:off x="3562200" y="5319720"/>
            <a:ext cx="279720" cy="291960"/>
          </a:xfrm>
          <a:custGeom>
            <a:avLst/>
            <a:gdLst>
              <a:gd name="textAreaLeft" fmla="*/ 0 w 279720"/>
              <a:gd name="textAreaRight" fmla="*/ 280080 w 279720"/>
              <a:gd name="textAreaTop" fmla="*/ 0 h 291960"/>
              <a:gd name="textAreaBottom" fmla="*/ 292320 h 29196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23" name="Shape 4804"/>
          <p:cNvSpPr/>
          <p:nvPr/>
        </p:nvSpPr>
        <p:spPr>
          <a:xfrm>
            <a:off x="2552760" y="531828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24" name="Shape 4806"/>
          <p:cNvSpPr/>
          <p:nvPr/>
        </p:nvSpPr>
        <p:spPr>
          <a:xfrm>
            <a:off x="1536840" y="5319720"/>
            <a:ext cx="263520" cy="291960"/>
          </a:xfrm>
          <a:custGeom>
            <a:avLst/>
            <a:gdLst>
              <a:gd name="textAreaLeft" fmla="*/ 0 w 263520"/>
              <a:gd name="textAreaRight" fmla="*/ 263880 w 263520"/>
              <a:gd name="textAreaTop" fmla="*/ 0 h 291960"/>
              <a:gd name="textAreaBottom" fmla="*/ 292320 h 29196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25" name="Shape 4808"/>
          <p:cNvSpPr/>
          <p:nvPr/>
        </p:nvSpPr>
        <p:spPr>
          <a:xfrm>
            <a:off x="6607080" y="4815000"/>
            <a:ext cx="252360" cy="288720"/>
          </a:xfrm>
          <a:custGeom>
            <a:avLst/>
            <a:gdLst>
              <a:gd name="textAreaLeft" fmla="*/ 0 w 252360"/>
              <a:gd name="textAreaRight" fmla="*/ 252720 w 252360"/>
              <a:gd name="textAreaTop" fmla="*/ 0 h 288720"/>
              <a:gd name="textAreaBottom" fmla="*/ 289080 h 2887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26" name="Shape 4810"/>
          <p:cNvSpPr/>
          <p:nvPr/>
        </p:nvSpPr>
        <p:spPr>
          <a:xfrm>
            <a:off x="5661000" y="489276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27" name="Shape 4812"/>
          <p:cNvSpPr/>
          <p:nvPr/>
        </p:nvSpPr>
        <p:spPr>
          <a:xfrm>
            <a:off x="4654440" y="489888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28" name="Shape 4814"/>
          <p:cNvSpPr/>
          <p:nvPr/>
        </p:nvSpPr>
        <p:spPr>
          <a:xfrm>
            <a:off x="3611520" y="489888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29" name="Shape 4816"/>
          <p:cNvSpPr/>
          <p:nvPr/>
        </p:nvSpPr>
        <p:spPr>
          <a:xfrm>
            <a:off x="2620800" y="4897440"/>
            <a:ext cx="123840" cy="123840"/>
          </a:xfrm>
          <a:custGeom>
            <a:avLst/>
            <a:gdLst>
              <a:gd name="textAreaLeft" fmla="*/ 0 w 123840"/>
              <a:gd name="textAreaRight" fmla="*/ 124200 w 123840"/>
              <a:gd name="textAreaTop" fmla="*/ 0 h 123840"/>
              <a:gd name="textAreaBottom" fmla="*/ 124200 h 12384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30" name="Shape 4818"/>
          <p:cNvSpPr/>
          <p:nvPr/>
        </p:nvSpPr>
        <p:spPr>
          <a:xfrm>
            <a:off x="1604880" y="488628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31"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32"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33"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34"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35"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36"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37"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38"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39"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40"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41"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42"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43"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44"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45"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46"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47"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48"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49" name="Shape 4856"/>
          <p:cNvSpPr/>
          <p:nvPr/>
        </p:nvSpPr>
        <p:spPr>
          <a:xfrm>
            <a:off x="6586560" y="178920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50" name="Shape 4858"/>
          <p:cNvSpPr/>
          <p:nvPr/>
        </p:nvSpPr>
        <p:spPr>
          <a:xfrm>
            <a:off x="5576760" y="1789200"/>
            <a:ext cx="287640" cy="288720"/>
          </a:xfrm>
          <a:custGeom>
            <a:avLst/>
            <a:gdLst>
              <a:gd name="textAreaLeft" fmla="*/ 0 w 287640"/>
              <a:gd name="textAreaRight" fmla="*/ 288000 w 287640"/>
              <a:gd name="textAreaTop" fmla="*/ 0 h 288720"/>
              <a:gd name="textAreaBottom" fmla="*/ 289080 h 2887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51" name="Shape 4860"/>
          <p:cNvSpPr/>
          <p:nvPr/>
        </p:nvSpPr>
        <p:spPr>
          <a:xfrm>
            <a:off x="4564080" y="178920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52" name="Shape 4862"/>
          <p:cNvSpPr/>
          <p:nvPr/>
        </p:nvSpPr>
        <p:spPr>
          <a:xfrm>
            <a:off x="3549600" y="178920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53" name="Shape 4864"/>
          <p:cNvSpPr/>
          <p:nvPr/>
        </p:nvSpPr>
        <p:spPr>
          <a:xfrm>
            <a:off x="2538360" y="178920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54" name="Shape 4866"/>
          <p:cNvSpPr/>
          <p:nvPr/>
        </p:nvSpPr>
        <p:spPr>
          <a:xfrm>
            <a:off x="1523880" y="178920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55" name="Shape 4868"/>
          <p:cNvSpPr/>
          <p:nvPr/>
        </p:nvSpPr>
        <p:spPr>
          <a:xfrm>
            <a:off x="6586560" y="128124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56" name="Shape 4870"/>
          <p:cNvSpPr/>
          <p:nvPr/>
        </p:nvSpPr>
        <p:spPr>
          <a:xfrm>
            <a:off x="5610240" y="128124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57" name="Shape 4872"/>
          <p:cNvSpPr/>
          <p:nvPr/>
        </p:nvSpPr>
        <p:spPr>
          <a:xfrm>
            <a:off x="4599000" y="128124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58" name="Shape 4874"/>
          <p:cNvSpPr/>
          <p:nvPr/>
        </p:nvSpPr>
        <p:spPr>
          <a:xfrm>
            <a:off x="3549600" y="132084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59" name="Shape 4876"/>
          <p:cNvSpPr/>
          <p:nvPr/>
        </p:nvSpPr>
        <p:spPr>
          <a:xfrm>
            <a:off x="2538360" y="1320840"/>
            <a:ext cx="289080" cy="236520"/>
          </a:xfrm>
          <a:custGeom>
            <a:avLst/>
            <a:gdLst>
              <a:gd name="textAreaLeft" fmla="*/ 0 w 289080"/>
              <a:gd name="textAreaRight" fmla="*/ 289440 w 289080"/>
              <a:gd name="textAreaTop" fmla="*/ 0 h 236520"/>
              <a:gd name="textAreaBottom" fmla="*/ 236880 h 2365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560" name="Shape 4878"/>
          <p:cNvSpPr/>
          <p:nvPr/>
        </p:nvSpPr>
        <p:spPr>
          <a:xfrm>
            <a:off x="1523880" y="132084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9" name="Freeform 30"/>
          <p:cNvGrpSpPr/>
          <p:nvPr/>
        </p:nvGrpSpPr>
        <p:grpSpPr>
          <a:xfrm>
            <a:off x="5651640" y="0"/>
            <a:ext cx="6540480" cy="7156440"/>
            <a:chOff x="5651640" y="0"/>
            <a:chExt cx="6540480" cy="7156440"/>
          </a:xfrm>
        </p:grpSpPr>
        <p:pic>
          <p:nvPicPr>
            <p:cNvPr id="1180" name="Freeform 30" descr=""/>
            <p:cNvPicPr/>
            <p:nvPr/>
          </p:nvPicPr>
          <p:blipFill>
            <a:blip r:embed="rId1"/>
            <a:stretch/>
          </p:blipFill>
          <p:spPr>
            <a:xfrm>
              <a:off x="5651640" y="0"/>
              <a:ext cx="6540480" cy="7156440"/>
            </a:xfrm>
            <a:prstGeom prst="rect">
              <a:avLst/>
            </a:prstGeom>
            <a:ln w="0">
              <a:noFill/>
            </a:ln>
          </p:spPr>
        </p:pic>
        <p:sp>
          <p:nvSpPr>
            <p:cNvPr id="1181" name=""/>
            <p:cNvSpPr/>
            <p:nvPr/>
          </p:nvSpPr>
          <p:spPr>
            <a:xfrm>
              <a:off x="5653080" y="0"/>
              <a:ext cx="6539040" cy="7156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82" name="Freeform 3"/>
          <p:cNvGrpSpPr/>
          <p:nvPr/>
        </p:nvGrpSpPr>
        <p:grpSpPr>
          <a:xfrm>
            <a:off x="-6480" y="1474920"/>
            <a:ext cx="4919400" cy="5383080"/>
            <a:chOff x="-6480" y="1474920"/>
            <a:chExt cx="4919400" cy="5383080"/>
          </a:xfrm>
        </p:grpSpPr>
        <p:pic>
          <p:nvPicPr>
            <p:cNvPr id="1183" name="Freeform 3" descr=""/>
            <p:cNvPicPr/>
            <p:nvPr/>
          </p:nvPicPr>
          <p:blipFill>
            <a:blip r:embed="rId2"/>
            <a:stretch/>
          </p:blipFill>
          <p:spPr>
            <a:xfrm>
              <a:off x="-6480" y="1474920"/>
              <a:ext cx="4917960" cy="5383080"/>
            </a:xfrm>
            <a:prstGeom prst="rect">
              <a:avLst/>
            </a:prstGeom>
            <a:ln w="0">
              <a:noFill/>
            </a:ln>
          </p:spPr>
        </p:pic>
        <p:sp>
          <p:nvSpPr>
            <p:cNvPr id="1184" name=""/>
            <p:cNvSpPr/>
            <p:nvPr/>
          </p:nvSpPr>
          <p:spPr>
            <a:xfrm rot="10800000">
              <a:off x="-3240" y="1476000"/>
              <a:ext cx="4916520" cy="538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85" name="Rounded Rectangle 7"/>
          <p:cNvSpPr/>
          <p:nvPr/>
        </p:nvSpPr>
        <p:spPr>
          <a:xfrm>
            <a:off x="10858680" y="263520"/>
            <a:ext cx="990360" cy="27288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6" name="Text Placeholder 6"/>
          <p:cNvSpPr/>
          <p:nvPr/>
        </p:nvSpPr>
        <p:spPr>
          <a:xfrm>
            <a:off x="10713960" y="285840"/>
            <a:ext cx="1279440" cy="26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JOIN US</a:t>
            </a:r>
            <a:endParaRPr b="0" lang="en-US" sz="800" spc="-1" strike="noStrike">
              <a:solidFill>
                <a:srgbClr val="000000"/>
              </a:solidFill>
              <a:latin typeface="Calibri"/>
            </a:endParaRPr>
          </a:p>
        </p:txBody>
      </p:sp>
      <p:sp>
        <p:nvSpPr>
          <p:cNvPr id="1187" name="TextBox 9"/>
          <p:cNvSpPr/>
          <p:nvPr/>
        </p:nvSpPr>
        <p:spPr>
          <a:xfrm>
            <a:off x="258840" y="237960"/>
            <a:ext cx="225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reato Display"/>
                <a:ea typeface="Vollkorn"/>
              </a:rPr>
              <a:t>DEVENTHA PROJECT</a:t>
            </a:r>
            <a:endParaRPr b="0" lang="en-US" sz="1200" spc="-1" strike="noStrike">
              <a:solidFill>
                <a:srgbClr val="000000"/>
              </a:solidFill>
              <a:latin typeface="Calibri"/>
            </a:endParaRPr>
          </a:p>
        </p:txBody>
      </p:sp>
      <p:grpSp>
        <p:nvGrpSpPr>
          <p:cNvPr id="1188" name="Group 16"/>
          <p:cNvGrpSpPr/>
          <p:nvPr/>
        </p:nvGrpSpPr>
        <p:grpSpPr>
          <a:xfrm>
            <a:off x="258840" y="6359400"/>
            <a:ext cx="2322360" cy="368280"/>
            <a:chOff x="258840" y="6359400"/>
            <a:chExt cx="2322360" cy="368280"/>
          </a:xfrm>
        </p:grpSpPr>
        <p:sp>
          <p:nvSpPr>
            <p:cNvPr id="1189" name="Text Placeholder 6"/>
            <p:cNvSpPr/>
            <p:nvPr/>
          </p:nvSpPr>
          <p:spPr>
            <a:xfrm>
              <a:off x="258840" y="6359400"/>
              <a:ext cx="456840" cy="368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01</a:t>
              </a:r>
              <a:endParaRPr b="0" lang="en-US" sz="1000" spc="-1" strike="noStrike">
                <a:solidFill>
                  <a:srgbClr val="000000"/>
                </a:solidFill>
                <a:latin typeface="Calibri"/>
              </a:endParaRPr>
            </a:p>
          </p:txBody>
        </p:sp>
        <p:sp>
          <p:nvSpPr>
            <p:cNvPr id="1190" name="Straight Connector 18"/>
            <p:cNvSpPr/>
            <p:nvPr/>
          </p:nvSpPr>
          <p:spPr>
            <a:xfrm flipH="1">
              <a:off x="651960" y="6483600"/>
              <a:ext cx="621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1" name="Text Placeholder 6"/>
            <p:cNvSpPr/>
            <p:nvPr/>
          </p:nvSpPr>
          <p:spPr>
            <a:xfrm>
              <a:off x="1273320" y="6365880"/>
              <a:ext cx="1307880" cy="295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PRESENTATION</a:t>
              </a:r>
              <a:endParaRPr b="0" lang="en-US" sz="1000" spc="-1" strike="noStrike">
                <a:solidFill>
                  <a:srgbClr val="000000"/>
                </a:solidFill>
                <a:latin typeface="Calibri"/>
              </a:endParaRPr>
            </a:p>
          </p:txBody>
        </p:sp>
      </p:grpSp>
      <p:sp>
        <p:nvSpPr>
          <p:cNvPr id="1192" name="Text Placeholder 6"/>
          <p:cNvSpPr/>
          <p:nvPr/>
        </p:nvSpPr>
        <p:spPr>
          <a:xfrm>
            <a:off x="10331280" y="6377040"/>
            <a:ext cx="1606680" cy="2728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AGE 01/34</a:t>
            </a:r>
            <a:endParaRPr b="0" lang="en-US" sz="1000" spc="-1" strike="noStrike">
              <a:solidFill>
                <a:srgbClr val="000000"/>
              </a:solidFill>
              <a:latin typeface="Calibri"/>
            </a:endParaRPr>
          </a:p>
        </p:txBody>
      </p:sp>
      <p:sp>
        <p:nvSpPr>
          <p:cNvPr id="1193" name="TextBox 24"/>
          <p:cNvSpPr/>
          <p:nvPr/>
        </p:nvSpPr>
        <p:spPr>
          <a:xfrm>
            <a:off x="4581360" y="1031760"/>
            <a:ext cx="4681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reato Display"/>
                <a:ea typeface="Vollkorn"/>
              </a:rPr>
              <a:t>DON’T</a:t>
            </a:r>
            <a:endParaRPr b="0" lang="en-US" sz="8000" spc="-1" strike="noStrike">
              <a:solidFill>
                <a:srgbClr val="000000"/>
              </a:solidFill>
              <a:latin typeface="Calibri"/>
            </a:endParaRPr>
          </a:p>
        </p:txBody>
      </p:sp>
      <p:sp>
        <p:nvSpPr>
          <p:cNvPr id="1194" name="TextBox 25"/>
          <p:cNvSpPr/>
          <p:nvPr/>
        </p:nvSpPr>
        <p:spPr>
          <a:xfrm>
            <a:off x="4581360" y="1790640"/>
            <a:ext cx="4681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reato Display"/>
                <a:ea typeface="Vollkorn"/>
              </a:rPr>
              <a:t>FORGET</a:t>
            </a:r>
            <a:endParaRPr b="0" lang="en-US" sz="8000" spc="-1" strike="noStrike">
              <a:solidFill>
                <a:srgbClr val="000000"/>
              </a:solidFill>
              <a:latin typeface="Calibri"/>
            </a:endParaRPr>
          </a:p>
        </p:txBody>
      </p:sp>
      <p:sp>
        <p:nvSpPr>
          <p:cNvPr id="1195" name="TextBox 26"/>
          <p:cNvSpPr/>
          <p:nvPr/>
        </p:nvSpPr>
        <p:spPr>
          <a:xfrm>
            <a:off x="4619520" y="2549520"/>
            <a:ext cx="4681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reato Display"/>
                <a:ea typeface="Vollkorn"/>
              </a:rPr>
              <a:t>YES!</a:t>
            </a:r>
            <a:endParaRPr b="0" lang="en-US" sz="8000" spc="-1" strike="noStrike">
              <a:solidFill>
                <a:srgbClr val="000000"/>
              </a:solidFill>
              <a:latin typeface="Calibri"/>
            </a:endParaRPr>
          </a:p>
        </p:txBody>
      </p:sp>
      <p:sp>
        <p:nvSpPr>
          <p:cNvPr id="1196" name="Rectangle 27"/>
          <p:cNvSpPr/>
          <p:nvPr/>
        </p:nvSpPr>
        <p:spPr>
          <a:xfrm>
            <a:off x="6024600" y="4611600"/>
            <a:ext cx="396252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lear Sans"/>
                <a:ea typeface="Inter"/>
              </a:rPr>
              <a:t>It is a long established fact that a reader will be distracted by the readable content of a page when looking at its layout. It is a long established fact that a reader will be distracted by the readable content of a page when looking at its layout. </a:t>
            </a:r>
            <a:endParaRPr b="0" lang="en-US" sz="1000" spc="-1" strike="noStrike">
              <a:solidFill>
                <a:srgbClr val="000000"/>
              </a:solidFill>
              <a:latin typeface="Calibri"/>
            </a:endParaRPr>
          </a:p>
        </p:txBody>
      </p:sp>
      <p:sp>
        <p:nvSpPr>
          <p:cNvPr id="1197" name="TextBox 28"/>
          <p:cNvSpPr/>
          <p:nvPr/>
        </p:nvSpPr>
        <p:spPr>
          <a:xfrm>
            <a:off x="10277640" y="3211560"/>
            <a:ext cx="1715760" cy="1434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Manrope"/>
                <a:ea typeface="Vollkorn"/>
              </a:rPr>
              <a:t>06</a:t>
            </a:r>
            <a:endParaRPr b="0" lang="en-US" sz="8800" spc="-1" strike="noStrike">
              <a:solidFill>
                <a:srgbClr val="000000"/>
              </a:solidFill>
              <a:latin typeface="Calibri"/>
            </a:endParaRPr>
          </a:p>
        </p:txBody>
      </p:sp>
      <p:grpSp>
        <p:nvGrpSpPr>
          <p:cNvPr id="1198" name="Group 31"/>
          <p:cNvGrpSpPr/>
          <p:nvPr/>
        </p:nvGrpSpPr>
        <p:grpSpPr>
          <a:xfrm>
            <a:off x="3257640" y="258840"/>
            <a:ext cx="5702040" cy="296640"/>
            <a:chOff x="3257640" y="258840"/>
            <a:chExt cx="5702040" cy="296640"/>
          </a:xfrm>
        </p:grpSpPr>
        <p:sp>
          <p:nvSpPr>
            <p:cNvPr id="1199" name="Text Placeholder 6"/>
            <p:cNvSpPr/>
            <p:nvPr/>
          </p:nvSpPr>
          <p:spPr>
            <a:xfrm>
              <a:off x="325764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ASHION</a:t>
              </a:r>
              <a:endParaRPr b="0" lang="en-US" sz="800" spc="-1" strike="noStrike">
                <a:solidFill>
                  <a:srgbClr val="000000"/>
                </a:solidFill>
                <a:latin typeface="Calibri"/>
              </a:endParaRPr>
            </a:p>
          </p:txBody>
        </p:sp>
        <p:sp>
          <p:nvSpPr>
            <p:cNvPr id="1200" name="Text Placeholder 6"/>
            <p:cNvSpPr/>
            <p:nvPr/>
          </p:nvSpPr>
          <p:spPr>
            <a:xfrm>
              <a:off x="426816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MODERN</a:t>
              </a:r>
              <a:endParaRPr b="0" lang="en-US" sz="800" spc="-1" strike="noStrike">
                <a:solidFill>
                  <a:srgbClr val="000000"/>
                </a:solidFill>
                <a:latin typeface="Calibri"/>
              </a:endParaRPr>
            </a:p>
          </p:txBody>
        </p:sp>
        <p:sp>
          <p:nvSpPr>
            <p:cNvPr id="1201" name="Text Placeholder 6"/>
            <p:cNvSpPr/>
            <p:nvPr/>
          </p:nvSpPr>
          <p:spPr>
            <a:xfrm>
              <a:off x="535212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TEMPLATE</a:t>
              </a:r>
              <a:endParaRPr b="0" lang="en-US" sz="800" spc="-1" strike="noStrike">
                <a:solidFill>
                  <a:srgbClr val="000000"/>
                </a:solidFill>
                <a:latin typeface="Calibri"/>
              </a:endParaRPr>
            </a:p>
          </p:txBody>
        </p:sp>
        <p:sp>
          <p:nvSpPr>
            <p:cNvPr id="1202" name="Straight Connector 35"/>
            <p:cNvSpPr/>
            <p:nvPr/>
          </p:nvSpPr>
          <p:spPr>
            <a:xfrm>
              <a:off x="4572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3" name="Text Placeholder 6"/>
            <p:cNvSpPr/>
            <p:nvPr/>
          </p:nvSpPr>
          <p:spPr>
            <a:xfrm>
              <a:off x="642420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EATURES</a:t>
              </a:r>
              <a:endParaRPr b="0" lang="en-US" sz="800" spc="-1" strike="noStrike">
                <a:solidFill>
                  <a:srgbClr val="000000"/>
                </a:solidFill>
                <a:latin typeface="Calibri"/>
              </a:endParaRPr>
            </a:p>
          </p:txBody>
        </p:sp>
        <p:sp>
          <p:nvSpPr>
            <p:cNvPr id="1204" name="Text Placeholder 6"/>
            <p:cNvSpPr/>
            <p:nvPr/>
          </p:nvSpPr>
          <p:spPr>
            <a:xfrm>
              <a:off x="735408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SUPPORT</a:t>
              </a:r>
              <a:endParaRPr b="0" lang="en-US" sz="800" spc="-1" strike="noStrike">
                <a:solidFill>
                  <a:srgbClr val="000000"/>
                </a:solidFill>
                <a:latin typeface="Calibri"/>
              </a:endParaRPr>
            </a:p>
          </p:txBody>
        </p:sp>
        <p:sp>
          <p:nvSpPr>
            <p:cNvPr id="1205" name="Straight Connector 38"/>
            <p:cNvSpPr/>
            <p:nvPr/>
          </p:nvSpPr>
          <p:spPr>
            <a:xfrm>
              <a:off x="5553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6" name="Straight Connector 39"/>
            <p:cNvSpPr/>
            <p:nvPr/>
          </p:nvSpPr>
          <p:spPr>
            <a:xfrm>
              <a:off x="665820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7" name="Straight Connector 40"/>
            <p:cNvSpPr/>
            <p:nvPr/>
          </p:nvSpPr>
          <p:spPr>
            <a:xfrm>
              <a:off x="767736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208" name="" descr=""/>
          <p:cNvPicPr/>
          <p:nvPr/>
        </p:nvPicPr>
        <p:blipFill>
          <a:blip r:embed="rId3"/>
          <a:stretch/>
        </p:blipFill>
        <p:spPr>
          <a:xfrm>
            <a:off x="-360" y="1282680"/>
            <a:ext cx="3924360" cy="4299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09" name="Freeform 2"/>
          <p:cNvGrpSpPr/>
          <p:nvPr/>
        </p:nvGrpSpPr>
        <p:grpSpPr>
          <a:xfrm>
            <a:off x="5651640" y="0"/>
            <a:ext cx="6540480" cy="7156440"/>
            <a:chOff x="5651640" y="0"/>
            <a:chExt cx="6540480" cy="7156440"/>
          </a:xfrm>
        </p:grpSpPr>
        <p:pic>
          <p:nvPicPr>
            <p:cNvPr id="1210" name="Freeform 2" descr=""/>
            <p:cNvPicPr/>
            <p:nvPr/>
          </p:nvPicPr>
          <p:blipFill>
            <a:blip r:embed="rId1"/>
            <a:stretch/>
          </p:blipFill>
          <p:spPr>
            <a:xfrm>
              <a:off x="5651640" y="0"/>
              <a:ext cx="6540480" cy="7156440"/>
            </a:xfrm>
            <a:prstGeom prst="rect">
              <a:avLst/>
            </a:prstGeom>
            <a:ln w="0">
              <a:noFill/>
            </a:ln>
          </p:spPr>
        </p:pic>
        <p:sp>
          <p:nvSpPr>
            <p:cNvPr id="1211" name=""/>
            <p:cNvSpPr/>
            <p:nvPr/>
          </p:nvSpPr>
          <p:spPr>
            <a:xfrm>
              <a:off x="5653080" y="0"/>
              <a:ext cx="6539040" cy="7156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12" name="Freeform 3"/>
          <p:cNvGrpSpPr/>
          <p:nvPr/>
        </p:nvGrpSpPr>
        <p:grpSpPr>
          <a:xfrm>
            <a:off x="-6480" y="810720"/>
            <a:ext cx="5529240" cy="6046920"/>
            <a:chOff x="-6480" y="810720"/>
            <a:chExt cx="5529240" cy="6046920"/>
          </a:xfrm>
        </p:grpSpPr>
        <p:pic>
          <p:nvPicPr>
            <p:cNvPr id="1213" name="Freeform 3" descr=""/>
            <p:cNvPicPr/>
            <p:nvPr/>
          </p:nvPicPr>
          <p:blipFill>
            <a:blip r:embed="rId2"/>
            <a:stretch/>
          </p:blipFill>
          <p:spPr>
            <a:xfrm>
              <a:off x="-6480" y="813600"/>
              <a:ext cx="5527440" cy="6044040"/>
            </a:xfrm>
            <a:prstGeom prst="rect">
              <a:avLst/>
            </a:prstGeom>
            <a:ln w="0">
              <a:noFill/>
            </a:ln>
          </p:spPr>
        </p:pic>
        <p:sp>
          <p:nvSpPr>
            <p:cNvPr id="1214" name=""/>
            <p:cNvSpPr/>
            <p:nvPr/>
          </p:nvSpPr>
          <p:spPr>
            <a:xfrm rot="10800000">
              <a:off x="-2880" y="810720"/>
              <a:ext cx="5526000" cy="604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15" name="Rounded Rectangle 7"/>
          <p:cNvSpPr/>
          <p:nvPr/>
        </p:nvSpPr>
        <p:spPr>
          <a:xfrm>
            <a:off x="10858680" y="263520"/>
            <a:ext cx="990360" cy="27288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6" name="Text Placeholder 6"/>
          <p:cNvSpPr/>
          <p:nvPr/>
        </p:nvSpPr>
        <p:spPr>
          <a:xfrm>
            <a:off x="10713960" y="285840"/>
            <a:ext cx="1279440" cy="26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JOIN US</a:t>
            </a:r>
            <a:endParaRPr b="0" lang="en-US" sz="800" spc="-1" strike="noStrike">
              <a:solidFill>
                <a:srgbClr val="000000"/>
              </a:solidFill>
              <a:latin typeface="Calibri"/>
            </a:endParaRPr>
          </a:p>
        </p:txBody>
      </p:sp>
      <p:sp>
        <p:nvSpPr>
          <p:cNvPr id="1217" name="TextBox 9"/>
          <p:cNvSpPr/>
          <p:nvPr/>
        </p:nvSpPr>
        <p:spPr>
          <a:xfrm>
            <a:off x="258840" y="237960"/>
            <a:ext cx="225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reato Display"/>
                <a:ea typeface="Vollkorn"/>
              </a:rPr>
              <a:t>DEVENTHA PROJECT</a:t>
            </a:r>
            <a:endParaRPr b="0" lang="en-US" sz="1200" spc="-1" strike="noStrike">
              <a:solidFill>
                <a:srgbClr val="000000"/>
              </a:solidFill>
              <a:latin typeface="Calibri"/>
            </a:endParaRPr>
          </a:p>
        </p:txBody>
      </p:sp>
      <p:grpSp>
        <p:nvGrpSpPr>
          <p:cNvPr id="1218" name="Group 16"/>
          <p:cNvGrpSpPr/>
          <p:nvPr/>
        </p:nvGrpSpPr>
        <p:grpSpPr>
          <a:xfrm>
            <a:off x="258840" y="6359400"/>
            <a:ext cx="2322360" cy="368280"/>
            <a:chOff x="258840" y="6359400"/>
            <a:chExt cx="2322360" cy="368280"/>
          </a:xfrm>
        </p:grpSpPr>
        <p:sp>
          <p:nvSpPr>
            <p:cNvPr id="1219" name="Text Placeholder 6"/>
            <p:cNvSpPr/>
            <p:nvPr/>
          </p:nvSpPr>
          <p:spPr>
            <a:xfrm>
              <a:off x="258840" y="6359400"/>
              <a:ext cx="456840" cy="368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01</a:t>
              </a:r>
              <a:endParaRPr b="0" lang="en-US" sz="1000" spc="-1" strike="noStrike">
                <a:solidFill>
                  <a:srgbClr val="000000"/>
                </a:solidFill>
                <a:latin typeface="Calibri"/>
              </a:endParaRPr>
            </a:p>
          </p:txBody>
        </p:sp>
        <p:sp>
          <p:nvSpPr>
            <p:cNvPr id="1220" name="Straight Connector 18"/>
            <p:cNvSpPr/>
            <p:nvPr/>
          </p:nvSpPr>
          <p:spPr>
            <a:xfrm flipH="1">
              <a:off x="651960" y="6483600"/>
              <a:ext cx="621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1" name="Text Placeholder 6"/>
            <p:cNvSpPr/>
            <p:nvPr/>
          </p:nvSpPr>
          <p:spPr>
            <a:xfrm>
              <a:off x="1273320" y="6365880"/>
              <a:ext cx="1307880" cy="295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PRESENTATION</a:t>
              </a:r>
              <a:endParaRPr b="0" lang="en-US" sz="1000" spc="-1" strike="noStrike">
                <a:solidFill>
                  <a:srgbClr val="000000"/>
                </a:solidFill>
                <a:latin typeface="Calibri"/>
              </a:endParaRPr>
            </a:p>
          </p:txBody>
        </p:sp>
      </p:grpSp>
      <p:sp>
        <p:nvSpPr>
          <p:cNvPr id="1222" name="Text Placeholder 6"/>
          <p:cNvSpPr/>
          <p:nvPr/>
        </p:nvSpPr>
        <p:spPr>
          <a:xfrm>
            <a:off x="10331280" y="6377040"/>
            <a:ext cx="1606680" cy="2728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AGE 01/34</a:t>
            </a:r>
            <a:endParaRPr b="0" lang="en-US" sz="1000" spc="-1" strike="noStrike">
              <a:solidFill>
                <a:srgbClr val="000000"/>
              </a:solidFill>
              <a:latin typeface="Calibri"/>
            </a:endParaRPr>
          </a:p>
        </p:txBody>
      </p:sp>
      <p:sp>
        <p:nvSpPr>
          <p:cNvPr id="1223" name="Rectangle 25"/>
          <p:cNvSpPr/>
          <p:nvPr/>
        </p:nvSpPr>
        <p:spPr>
          <a:xfrm>
            <a:off x="255600" y="4533840"/>
            <a:ext cx="30607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anrope"/>
                <a:ea typeface="Open Sans"/>
              </a:rPr>
              <a:t>It is a long established fact that a reader will be distracted by the readable content of a page when looking at its layout. </a:t>
            </a:r>
            <a:endParaRPr b="0" lang="en-US" sz="1100" spc="-1" strike="noStrike">
              <a:solidFill>
                <a:srgbClr val="000000"/>
              </a:solidFill>
              <a:latin typeface="Calibri"/>
            </a:endParaRPr>
          </a:p>
        </p:txBody>
      </p:sp>
      <p:sp>
        <p:nvSpPr>
          <p:cNvPr id="1224" name="Text Placeholder 6"/>
          <p:cNvSpPr/>
          <p:nvPr/>
        </p:nvSpPr>
        <p:spPr>
          <a:xfrm>
            <a:off x="255600" y="4143240"/>
            <a:ext cx="228456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anrope"/>
                <a:ea typeface="Open Sans"/>
              </a:rPr>
              <a:t>MESSAGE IMPORTANT.</a:t>
            </a:r>
            <a:endParaRPr b="0" lang="en-US" sz="1000" spc="-1" strike="noStrike">
              <a:solidFill>
                <a:srgbClr val="000000"/>
              </a:solidFill>
              <a:latin typeface="Calibri"/>
            </a:endParaRPr>
          </a:p>
        </p:txBody>
      </p:sp>
      <p:sp>
        <p:nvSpPr>
          <p:cNvPr id="1225" name="Rectangle 27"/>
          <p:cNvSpPr/>
          <p:nvPr/>
        </p:nvSpPr>
        <p:spPr>
          <a:xfrm>
            <a:off x="3738600" y="4533840"/>
            <a:ext cx="30621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anrope"/>
                <a:ea typeface="Open Sans"/>
              </a:rPr>
              <a:t>It is a long established fact that a reader will be distracted by the readable content of a page when looking at its layout. </a:t>
            </a:r>
            <a:endParaRPr b="0" lang="en-US" sz="1100" spc="-1" strike="noStrike">
              <a:solidFill>
                <a:srgbClr val="000000"/>
              </a:solidFill>
              <a:latin typeface="Calibri"/>
            </a:endParaRPr>
          </a:p>
        </p:txBody>
      </p:sp>
      <p:sp>
        <p:nvSpPr>
          <p:cNvPr id="1226" name="Text Placeholder 6"/>
          <p:cNvSpPr/>
          <p:nvPr/>
        </p:nvSpPr>
        <p:spPr>
          <a:xfrm>
            <a:off x="3738600" y="4143240"/>
            <a:ext cx="228420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anrope"/>
                <a:ea typeface="Open Sans"/>
              </a:rPr>
              <a:t>MESSAGE IMPORTANT.</a:t>
            </a:r>
            <a:endParaRPr b="0" lang="en-US" sz="1000" spc="-1" strike="noStrike">
              <a:solidFill>
                <a:srgbClr val="000000"/>
              </a:solidFill>
              <a:latin typeface="Calibri"/>
            </a:endParaRPr>
          </a:p>
        </p:txBody>
      </p:sp>
      <p:sp>
        <p:nvSpPr>
          <p:cNvPr id="1227" name="Rectangle 29"/>
          <p:cNvSpPr/>
          <p:nvPr/>
        </p:nvSpPr>
        <p:spPr>
          <a:xfrm>
            <a:off x="255600" y="1182600"/>
            <a:ext cx="513864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anrope"/>
              </a:rPr>
              <a:t>very simple aesthetic style for any situation.</a:t>
            </a:r>
            <a:endParaRPr b="0" lang="en-US" sz="4000" spc="-1" strike="noStrike">
              <a:solidFill>
                <a:srgbClr val="000000"/>
              </a:solidFill>
              <a:latin typeface="Calibri"/>
            </a:endParaRPr>
          </a:p>
        </p:txBody>
      </p:sp>
      <p:sp>
        <p:nvSpPr>
          <p:cNvPr id="1228" name="Explosion 2 32"/>
          <p:cNvSpPr/>
          <p:nvPr/>
        </p:nvSpPr>
        <p:spPr>
          <a:xfrm>
            <a:off x="6562800" y="723960"/>
            <a:ext cx="2457360" cy="1758960"/>
          </a:xfrm>
          <a:prstGeom prst="irregularSeal2">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9" name="Text Placeholder 6"/>
          <p:cNvSpPr/>
          <p:nvPr/>
        </p:nvSpPr>
        <p:spPr>
          <a:xfrm>
            <a:off x="6951600" y="1473120"/>
            <a:ext cx="1679760" cy="25884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anrope"/>
                <a:ea typeface="Open Sans"/>
              </a:rPr>
              <a:t>NEW ARRIVAL</a:t>
            </a:r>
            <a:endParaRPr b="0" lang="en-US" sz="1200" spc="-1" strike="noStrike">
              <a:solidFill>
                <a:srgbClr val="000000"/>
              </a:solidFill>
              <a:latin typeface="Calibri"/>
            </a:endParaRPr>
          </a:p>
        </p:txBody>
      </p:sp>
      <p:sp>
        <p:nvSpPr>
          <p:cNvPr id="1230" name="TextBox 34"/>
          <p:cNvSpPr/>
          <p:nvPr/>
        </p:nvSpPr>
        <p:spPr>
          <a:xfrm rot="16200000">
            <a:off x="9903960" y="2387880"/>
            <a:ext cx="43146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reato Display"/>
                <a:ea typeface="Vollkorn"/>
              </a:rPr>
              <a:t>DAVENTHA</a:t>
            </a:r>
            <a:endParaRPr b="0" lang="en-US" sz="6000" spc="-1" strike="noStrike">
              <a:solidFill>
                <a:srgbClr val="000000"/>
              </a:solidFill>
              <a:latin typeface="Calibri"/>
            </a:endParaRPr>
          </a:p>
        </p:txBody>
      </p:sp>
      <p:sp>
        <p:nvSpPr>
          <p:cNvPr id="1231" name="TextBox 35"/>
          <p:cNvSpPr/>
          <p:nvPr/>
        </p:nvSpPr>
        <p:spPr>
          <a:xfrm rot="16200000">
            <a:off x="9329040" y="2387880"/>
            <a:ext cx="43146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reato Display"/>
                <a:ea typeface="Vollkorn"/>
              </a:rPr>
              <a:t>DAVENTHA</a:t>
            </a:r>
            <a:endParaRPr b="0" lang="en-US" sz="6000" spc="-1" strike="noStrike">
              <a:solidFill>
                <a:srgbClr val="000000"/>
              </a:solidFill>
              <a:latin typeface="Calibri"/>
            </a:endParaRPr>
          </a:p>
        </p:txBody>
      </p:sp>
      <p:grpSp>
        <p:nvGrpSpPr>
          <p:cNvPr id="1232" name="Group 36"/>
          <p:cNvGrpSpPr/>
          <p:nvPr/>
        </p:nvGrpSpPr>
        <p:grpSpPr>
          <a:xfrm>
            <a:off x="3257640" y="258840"/>
            <a:ext cx="5702040" cy="296640"/>
            <a:chOff x="3257640" y="258840"/>
            <a:chExt cx="5702040" cy="296640"/>
          </a:xfrm>
        </p:grpSpPr>
        <p:sp>
          <p:nvSpPr>
            <p:cNvPr id="1233" name="Text Placeholder 6"/>
            <p:cNvSpPr/>
            <p:nvPr/>
          </p:nvSpPr>
          <p:spPr>
            <a:xfrm>
              <a:off x="325764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ASHION</a:t>
              </a:r>
              <a:endParaRPr b="0" lang="en-US" sz="800" spc="-1" strike="noStrike">
                <a:solidFill>
                  <a:srgbClr val="000000"/>
                </a:solidFill>
                <a:latin typeface="Calibri"/>
              </a:endParaRPr>
            </a:p>
          </p:txBody>
        </p:sp>
        <p:sp>
          <p:nvSpPr>
            <p:cNvPr id="1234" name="Text Placeholder 6"/>
            <p:cNvSpPr/>
            <p:nvPr/>
          </p:nvSpPr>
          <p:spPr>
            <a:xfrm>
              <a:off x="426816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MODERN</a:t>
              </a:r>
              <a:endParaRPr b="0" lang="en-US" sz="800" spc="-1" strike="noStrike">
                <a:solidFill>
                  <a:srgbClr val="000000"/>
                </a:solidFill>
                <a:latin typeface="Calibri"/>
              </a:endParaRPr>
            </a:p>
          </p:txBody>
        </p:sp>
        <p:sp>
          <p:nvSpPr>
            <p:cNvPr id="1235" name="Text Placeholder 6"/>
            <p:cNvSpPr/>
            <p:nvPr/>
          </p:nvSpPr>
          <p:spPr>
            <a:xfrm>
              <a:off x="535212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TEMPLATE</a:t>
              </a:r>
              <a:endParaRPr b="0" lang="en-US" sz="800" spc="-1" strike="noStrike">
                <a:solidFill>
                  <a:srgbClr val="000000"/>
                </a:solidFill>
                <a:latin typeface="Calibri"/>
              </a:endParaRPr>
            </a:p>
          </p:txBody>
        </p:sp>
        <p:sp>
          <p:nvSpPr>
            <p:cNvPr id="1236" name="Straight Connector 40"/>
            <p:cNvSpPr/>
            <p:nvPr/>
          </p:nvSpPr>
          <p:spPr>
            <a:xfrm>
              <a:off x="4572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7" name="Text Placeholder 6"/>
            <p:cNvSpPr/>
            <p:nvPr/>
          </p:nvSpPr>
          <p:spPr>
            <a:xfrm>
              <a:off x="642420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EATURES</a:t>
              </a:r>
              <a:endParaRPr b="0" lang="en-US" sz="800" spc="-1" strike="noStrike">
                <a:solidFill>
                  <a:srgbClr val="000000"/>
                </a:solidFill>
                <a:latin typeface="Calibri"/>
              </a:endParaRPr>
            </a:p>
          </p:txBody>
        </p:sp>
        <p:sp>
          <p:nvSpPr>
            <p:cNvPr id="1238" name="Text Placeholder 6"/>
            <p:cNvSpPr/>
            <p:nvPr/>
          </p:nvSpPr>
          <p:spPr>
            <a:xfrm>
              <a:off x="735408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SUPPORT</a:t>
              </a:r>
              <a:endParaRPr b="0" lang="en-US" sz="800" spc="-1" strike="noStrike">
                <a:solidFill>
                  <a:srgbClr val="000000"/>
                </a:solidFill>
                <a:latin typeface="Calibri"/>
              </a:endParaRPr>
            </a:p>
          </p:txBody>
        </p:sp>
        <p:sp>
          <p:nvSpPr>
            <p:cNvPr id="1239" name="Straight Connector 43"/>
            <p:cNvSpPr/>
            <p:nvPr/>
          </p:nvSpPr>
          <p:spPr>
            <a:xfrm>
              <a:off x="5553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0" name="Straight Connector 44"/>
            <p:cNvSpPr/>
            <p:nvPr/>
          </p:nvSpPr>
          <p:spPr>
            <a:xfrm>
              <a:off x="665820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1" name="Straight Connector 45"/>
            <p:cNvSpPr/>
            <p:nvPr/>
          </p:nvSpPr>
          <p:spPr>
            <a:xfrm>
              <a:off x="767736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242" name="" descr=""/>
          <p:cNvPicPr/>
          <p:nvPr/>
        </p:nvPicPr>
        <p:blipFill>
          <a:blip r:embed="rId3"/>
          <a:stretch/>
        </p:blipFill>
        <p:spPr>
          <a:xfrm>
            <a:off x="7632360" y="1269720"/>
            <a:ext cx="2793960" cy="4119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3" name="Freeform 3"/>
          <p:cNvGrpSpPr/>
          <p:nvPr/>
        </p:nvGrpSpPr>
        <p:grpSpPr>
          <a:xfrm>
            <a:off x="-6480" y="810720"/>
            <a:ext cx="5529240" cy="6046920"/>
            <a:chOff x="-6480" y="810720"/>
            <a:chExt cx="5529240" cy="6046920"/>
          </a:xfrm>
        </p:grpSpPr>
        <p:pic>
          <p:nvPicPr>
            <p:cNvPr id="1244" name="Freeform 3" descr=""/>
            <p:cNvPicPr/>
            <p:nvPr/>
          </p:nvPicPr>
          <p:blipFill>
            <a:blip r:embed="rId1"/>
            <a:stretch/>
          </p:blipFill>
          <p:spPr>
            <a:xfrm>
              <a:off x="-6480" y="813600"/>
              <a:ext cx="5527440" cy="6044040"/>
            </a:xfrm>
            <a:prstGeom prst="rect">
              <a:avLst/>
            </a:prstGeom>
            <a:ln w="0">
              <a:noFill/>
            </a:ln>
          </p:spPr>
        </p:pic>
        <p:sp>
          <p:nvSpPr>
            <p:cNvPr id="1245" name=""/>
            <p:cNvSpPr/>
            <p:nvPr/>
          </p:nvSpPr>
          <p:spPr>
            <a:xfrm rot="10800000">
              <a:off x="-2880" y="810720"/>
              <a:ext cx="5526000" cy="604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46" name="Freeform 2"/>
          <p:cNvGrpSpPr/>
          <p:nvPr/>
        </p:nvGrpSpPr>
        <p:grpSpPr>
          <a:xfrm>
            <a:off x="5651640" y="0"/>
            <a:ext cx="6540480" cy="7156440"/>
            <a:chOff x="5651640" y="0"/>
            <a:chExt cx="6540480" cy="7156440"/>
          </a:xfrm>
        </p:grpSpPr>
        <p:pic>
          <p:nvPicPr>
            <p:cNvPr id="1247" name="Freeform 2" descr=""/>
            <p:cNvPicPr/>
            <p:nvPr/>
          </p:nvPicPr>
          <p:blipFill>
            <a:blip r:embed="rId2"/>
            <a:stretch/>
          </p:blipFill>
          <p:spPr>
            <a:xfrm>
              <a:off x="5651640" y="0"/>
              <a:ext cx="6540480" cy="7156440"/>
            </a:xfrm>
            <a:prstGeom prst="rect">
              <a:avLst/>
            </a:prstGeom>
            <a:ln w="0">
              <a:noFill/>
            </a:ln>
          </p:spPr>
        </p:pic>
        <p:sp>
          <p:nvSpPr>
            <p:cNvPr id="1248" name=""/>
            <p:cNvSpPr/>
            <p:nvPr/>
          </p:nvSpPr>
          <p:spPr>
            <a:xfrm>
              <a:off x="5653080" y="0"/>
              <a:ext cx="6539040" cy="7156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49" name="Rounded Rectangle 7"/>
          <p:cNvSpPr/>
          <p:nvPr/>
        </p:nvSpPr>
        <p:spPr>
          <a:xfrm>
            <a:off x="10858680" y="263520"/>
            <a:ext cx="990360" cy="27288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0" name="Text Placeholder 6"/>
          <p:cNvSpPr/>
          <p:nvPr/>
        </p:nvSpPr>
        <p:spPr>
          <a:xfrm>
            <a:off x="10713960" y="285840"/>
            <a:ext cx="1279440" cy="26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JOIN US</a:t>
            </a:r>
            <a:endParaRPr b="0" lang="en-US" sz="800" spc="-1" strike="noStrike">
              <a:solidFill>
                <a:srgbClr val="000000"/>
              </a:solidFill>
              <a:latin typeface="Calibri"/>
            </a:endParaRPr>
          </a:p>
        </p:txBody>
      </p:sp>
      <p:sp>
        <p:nvSpPr>
          <p:cNvPr id="1251" name="TextBox 9"/>
          <p:cNvSpPr/>
          <p:nvPr/>
        </p:nvSpPr>
        <p:spPr>
          <a:xfrm>
            <a:off x="258840" y="237960"/>
            <a:ext cx="225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reato Display"/>
                <a:ea typeface="Vollkorn"/>
              </a:rPr>
              <a:t>DEVENTHA PROJECT</a:t>
            </a:r>
            <a:endParaRPr b="0" lang="en-US" sz="1200" spc="-1" strike="noStrike">
              <a:solidFill>
                <a:srgbClr val="000000"/>
              </a:solidFill>
              <a:latin typeface="Calibri"/>
            </a:endParaRPr>
          </a:p>
        </p:txBody>
      </p:sp>
      <p:grpSp>
        <p:nvGrpSpPr>
          <p:cNvPr id="1252" name="Group 16"/>
          <p:cNvGrpSpPr/>
          <p:nvPr/>
        </p:nvGrpSpPr>
        <p:grpSpPr>
          <a:xfrm>
            <a:off x="258840" y="6359400"/>
            <a:ext cx="2322360" cy="368280"/>
            <a:chOff x="258840" y="6359400"/>
            <a:chExt cx="2322360" cy="368280"/>
          </a:xfrm>
        </p:grpSpPr>
        <p:sp>
          <p:nvSpPr>
            <p:cNvPr id="1253" name="Text Placeholder 6"/>
            <p:cNvSpPr/>
            <p:nvPr/>
          </p:nvSpPr>
          <p:spPr>
            <a:xfrm>
              <a:off x="258840" y="6359400"/>
              <a:ext cx="456840" cy="368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01</a:t>
              </a:r>
              <a:endParaRPr b="0" lang="en-US" sz="1000" spc="-1" strike="noStrike">
                <a:solidFill>
                  <a:srgbClr val="000000"/>
                </a:solidFill>
                <a:latin typeface="Calibri"/>
              </a:endParaRPr>
            </a:p>
          </p:txBody>
        </p:sp>
        <p:sp>
          <p:nvSpPr>
            <p:cNvPr id="1254" name="Straight Connector 18"/>
            <p:cNvSpPr/>
            <p:nvPr/>
          </p:nvSpPr>
          <p:spPr>
            <a:xfrm flipH="1">
              <a:off x="651960" y="6483600"/>
              <a:ext cx="621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5" name="Text Placeholder 6"/>
            <p:cNvSpPr/>
            <p:nvPr/>
          </p:nvSpPr>
          <p:spPr>
            <a:xfrm>
              <a:off x="1273320" y="6365880"/>
              <a:ext cx="1307880" cy="295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PRESENTATION</a:t>
              </a:r>
              <a:endParaRPr b="0" lang="en-US" sz="1000" spc="-1" strike="noStrike">
                <a:solidFill>
                  <a:srgbClr val="000000"/>
                </a:solidFill>
                <a:latin typeface="Calibri"/>
              </a:endParaRPr>
            </a:p>
          </p:txBody>
        </p:sp>
      </p:grpSp>
      <p:sp>
        <p:nvSpPr>
          <p:cNvPr id="1256" name="Text Placeholder 6"/>
          <p:cNvSpPr/>
          <p:nvPr/>
        </p:nvSpPr>
        <p:spPr>
          <a:xfrm>
            <a:off x="10331280" y="6377040"/>
            <a:ext cx="1606680" cy="2728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AGE 01/34</a:t>
            </a:r>
            <a:endParaRPr b="0" lang="en-US" sz="1000" spc="-1" strike="noStrike">
              <a:solidFill>
                <a:srgbClr val="000000"/>
              </a:solidFill>
              <a:latin typeface="Calibri"/>
            </a:endParaRPr>
          </a:p>
        </p:txBody>
      </p:sp>
      <p:sp>
        <p:nvSpPr>
          <p:cNvPr id="1257" name="TextBox 24"/>
          <p:cNvSpPr/>
          <p:nvPr/>
        </p:nvSpPr>
        <p:spPr>
          <a:xfrm>
            <a:off x="5035680" y="1022400"/>
            <a:ext cx="63309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Manrope"/>
                <a:ea typeface="Vollkorn"/>
              </a:rPr>
              <a:t>DAVENTHA</a:t>
            </a:r>
            <a:endParaRPr b="0" lang="en-US" sz="8800" spc="-1" strike="noStrike">
              <a:solidFill>
                <a:srgbClr val="000000"/>
              </a:solidFill>
              <a:latin typeface="Calibri"/>
            </a:endParaRPr>
          </a:p>
        </p:txBody>
      </p:sp>
      <p:pic>
        <p:nvPicPr>
          <p:cNvPr id="1258" name="TextBox 25" descr=""/>
          <p:cNvPicPr/>
          <p:nvPr/>
        </p:nvPicPr>
        <p:blipFill>
          <a:blip r:embed="rId3"/>
          <a:stretch/>
        </p:blipFill>
        <p:spPr>
          <a:xfrm>
            <a:off x="5059440" y="1859040"/>
            <a:ext cx="6522840" cy="1444680"/>
          </a:xfrm>
          <a:prstGeom prst="rect">
            <a:avLst/>
          </a:prstGeom>
          <a:ln w="0">
            <a:noFill/>
          </a:ln>
        </p:spPr>
      </p:pic>
      <p:sp>
        <p:nvSpPr>
          <p:cNvPr id="1259" name="TextBox 26"/>
          <p:cNvSpPr/>
          <p:nvPr/>
        </p:nvSpPr>
        <p:spPr>
          <a:xfrm>
            <a:off x="5040360" y="2762280"/>
            <a:ext cx="47671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Manrope"/>
                <a:ea typeface="Vollkorn"/>
              </a:rPr>
              <a:t>DESIGN.</a:t>
            </a:r>
            <a:endParaRPr b="0" lang="en-US" sz="8800" spc="-1" strike="noStrike">
              <a:solidFill>
                <a:srgbClr val="000000"/>
              </a:solidFill>
              <a:latin typeface="Calibri"/>
            </a:endParaRPr>
          </a:p>
        </p:txBody>
      </p:sp>
      <p:sp>
        <p:nvSpPr>
          <p:cNvPr id="1260" name="Rectangle 27"/>
          <p:cNvSpPr/>
          <p:nvPr/>
        </p:nvSpPr>
        <p:spPr>
          <a:xfrm>
            <a:off x="7632720" y="4662360"/>
            <a:ext cx="43052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anrope"/>
                <a:ea typeface="Open Sans"/>
              </a:rPr>
              <a:t>It is a long established fact that a reader will be distracted by the readable content of a page when looking at its layout. The point of using Lorem Ipsum.</a:t>
            </a:r>
            <a:endParaRPr b="0" lang="en-US" sz="1200" spc="-1" strike="noStrike">
              <a:solidFill>
                <a:srgbClr val="000000"/>
              </a:solidFill>
              <a:latin typeface="Calibri"/>
            </a:endParaRPr>
          </a:p>
        </p:txBody>
      </p:sp>
      <p:sp>
        <p:nvSpPr>
          <p:cNvPr id="1261" name="Explosion 2 28"/>
          <p:cNvSpPr/>
          <p:nvPr/>
        </p:nvSpPr>
        <p:spPr>
          <a:xfrm>
            <a:off x="3524400" y="4307040"/>
            <a:ext cx="2457360" cy="1758960"/>
          </a:xfrm>
          <a:prstGeom prst="irregularSeal2">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2" name="Text Placeholder 6"/>
          <p:cNvSpPr/>
          <p:nvPr/>
        </p:nvSpPr>
        <p:spPr>
          <a:xfrm>
            <a:off x="3913200" y="5056200"/>
            <a:ext cx="1679400" cy="25884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anrope"/>
                <a:ea typeface="Open Sans"/>
              </a:rPr>
              <a:t>NEW ARRIVAL</a:t>
            </a:r>
            <a:endParaRPr b="0" lang="en-US" sz="1200" spc="-1" strike="noStrike">
              <a:solidFill>
                <a:srgbClr val="000000"/>
              </a:solidFill>
              <a:latin typeface="Calibri"/>
            </a:endParaRPr>
          </a:p>
        </p:txBody>
      </p:sp>
      <p:grpSp>
        <p:nvGrpSpPr>
          <p:cNvPr id="1263" name="Group 30"/>
          <p:cNvGrpSpPr/>
          <p:nvPr/>
        </p:nvGrpSpPr>
        <p:grpSpPr>
          <a:xfrm>
            <a:off x="3257640" y="258840"/>
            <a:ext cx="5702040" cy="296640"/>
            <a:chOff x="3257640" y="258840"/>
            <a:chExt cx="5702040" cy="296640"/>
          </a:xfrm>
        </p:grpSpPr>
        <p:sp>
          <p:nvSpPr>
            <p:cNvPr id="1264" name="Text Placeholder 6"/>
            <p:cNvSpPr/>
            <p:nvPr/>
          </p:nvSpPr>
          <p:spPr>
            <a:xfrm>
              <a:off x="325764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ASHION</a:t>
              </a:r>
              <a:endParaRPr b="0" lang="en-US" sz="800" spc="-1" strike="noStrike">
                <a:solidFill>
                  <a:srgbClr val="000000"/>
                </a:solidFill>
                <a:latin typeface="Calibri"/>
              </a:endParaRPr>
            </a:p>
          </p:txBody>
        </p:sp>
        <p:sp>
          <p:nvSpPr>
            <p:cNvPr id="1265" name="Text Placeholder 6"/>
            <p:cNvSpPr/>
            <p:nvPr/>
          </p:nvSpPr>
          <p:spPr>
            <a:xfrm>
              <a:off x="426816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MODERN</a:t>
              </a:r>
              <a:endParaRPr b="0" lang="en-US" sz="800" spc="-1" strike="noStrike">
                <a:solidFill>
                  <a:srgbClr val="000000"/>
                </a:solidFill>
                <a:latin typeface="Calibri"/>
              </a:endParaRPr>
            </a:p>
          </p:txBody>
        </p:sp>
        <p:sp>
          <p:nvSpPr>
            <p:cNvPr id="1266" name="Text Placeholder 6"/>
            <p:cNvSpPr/>
            <p:nvPr/>
          </p:nvSpPr>
          <p:spPr>
            <a:xfrm>
              <a:off x="535212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TEMPLATE</a:t>
              </a:r>
              <a:endParaRPr b="0" lang="en-US" sz="800" spc="-1" strike="noStrike">
                <a:solidFill>
                  <a:srgbClr val="000000"/>
                </a:solidFill>
                <a:latin typeface="Calibri"/>
              </a:endParaRPr>
            </a:p>
          </p:txBody>
        </p:sp>
        <p:sp>
          <p:nvSpPr>
            <p:cNvPr id="1267" name="Straight Connector 34"/>
            <p:cNvSpPr/>
            <p:nvPr/>
          </p:nvSpPr>
          <p:spPr>
            <a:xfrm>
              <a:off x="4572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8" name="Text Placeholder 6"/>
            <p:cNvSpPr/>
            <p:nvPr/>
          </p:nvSpPr>
          <p:spPr>
            <a:xfrm>
              <a:off x="642420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EATURES</a:t>
              </a:r>
              <a:endParaRPr b="0" lang="en-US" sz="800" spc="-1" strike="noStrike">
                <a:solidFill>
                  <a:srgbClr val="000000"/>
                </a:solidFill>
                <a:latin typeface="Calibri"/>
              </a:endParaRPr>
            </a:p>
          </p:txBody>
        </p:sp>
        <p:sp>
          <p:nvSpPr>
            <p:cNvPr id="1269" name="Text Placeholder 6"/>
            <p:cNvSpPr/>
            <p:nvPr/>
          </p:nvSpPr>
          <p:spPr>
            <a:xfrm>
              <a:off x="735408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SUPPORT</a:t>
              </a:r>
              <a:endParaRPr b="0" lang="en-US" sz="800" spc="-1" strike="noStrike">
                <a:solidFill>
                  <a:srgbClr val="000000"/>
                </a:solidFill>
                <a:latin typeface="Calibri"/>
              </a:endParaRPr>
            </a:p>
          </p:txBody>
        </p:sp>
        <p:sp>
          <p:nvSpPr>
            <p:cNvPr id="1270" name="Straight Connector 37"/>
            <p:cNvSpPr/>
            <p:nvPr/>
          </p:nvSpPr>
          <p:spPr>
            <a:xfrm>
              <a:off x="5553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1" name="Straight Connector 38"/>
            <p:cNvSpPr/>
            <p:nvPr/>
          </p:nvSpPr>
          <p:spPr>
            <a:xfrm>
              <a:off x="665820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2" name="Straight Connector 39"/>
            <p:cNvSpPr/>
            <p:nvPr/>
          </p:nvSpPr>
          <p:spPr>
            <a:xfrm>
              <a:off x="767736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273" name="" descr=""/>
          <p:cNvPicPr/>
          <p:nvPr/>
        </p:nvPicPr>
        <p:blipFill>
          <a:blip r:embed="rId4"/>
          <a:stretch/>
        </p:blipFill>
        <p:spPr>
          <a:xfrm>
            <a:off x="1066680" y="1275840"/>
            <a:ext cx="3594240" cy="4311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4" name="Freeform 1"/>
          <p:cNvGrpSpPr/>
          <p:nvPr/>
        </p:nvGrpSpPr>
        <p:grpSpPr>
          <a:xfrm>
            <a:off x="5651640" y="0"/>
            <a:ext cx="6540480" cy="7156440"/>
            <a:chOff x="5651640" y="0"/>
            <a:chExt cx="6540480" cy="7156440"/>
          </a:xfrm>
        </p:grpSpPr>
        <p:pic>
          <p:nvPicPr>
            <p:cNvPr id="1275" name="Freeform 1" descr=""/>
            <p:cNvPicPr/>
            <p:nvPr/>
          </p:nvPicPr>
          <p:blipFill>
            <a:blip r:embed="rId1"/>
            <a:stretch/>
          </p:blipFill>
          <p:spPr>
            <a:xfrm>
              <a:off x="5651640" y="0"/>
              <a:ext cx="6540480" cy="7156440"/>
            </a:xfrm>
            <a:prstGeom prst="rect">
              <a:avLst/>
            </a:prstGeom>
            <a:ln w="0">
              <a:noFill/>
            </a:ln>
          </p:spPr>
        </p:pic>
        <p:sp>
          <p:nvSpPr>
            <p:cNvPr id="1276" name=""/>
            <p:cNvSpPr/>
            <p:nvPr/>
          </p:nvSpPr>
          <p:spPr>
            <a:xfrm>
              <a:off x="5653080" y="0"/>
              <a:ext cx="6539040" cy="7156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77" name="Freeform 2"/>
          <p:cNvGrpSpPr/>
          <p:nvPr/>
        </p:nvGrpSpPr>
        <p:grpSpPr>
          <a:xfrm>
            <a:off x="-6480" y="810720"/>
            <a:ext cx="5529240" cy="6046920"/>
            <a:chOff x="-6480" y="810720"/>
            <a:chExt cx="5529240" cy="6046920"/>
          </a:xfrm>
        </p:grpSpPr>
        <p:pic>
          <p:nvPicPr>
            <p:cNvPr id="1278" name="Freeform 2" descr=""/>
            <p:cNvPicPr/>
            <p:nvPr/>
          </p:nvPicPr>
          <p:blipFill>
            <a:blip r:embed="rId2"/>
            <a:stretch/>
          </p:blipFill>
          <p:spPr>
            <a:xfrm>
              <a:off x="-6480" y="813600"/>
              <a:ext cx="5527440" cy="6044040"/>
            </a:xfrm>
            <a:prstGeom prst="rect">
              <a:avLst/>
            </a:prstGeom>
            <a:ln w="0">
              <a:noFill/>
            </a:ln>
          </p:spPr>
        </p:pic>
        <p:sp>
          <p:nvSpPr>
            <p:cNvPr id="1279" name=""/>
            <p:cNvSpPr/>
            <p:nvPr/>
          </p:nvSpPr>
          <p:spPr>
            <a:xfrm rot="10800000">
              <a:off x="-2880" y="810720"/>
              <a:ext cx="5526000" cy="604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0" name="Rounded Rectangle 3"/>
          <p:cNvSpPr/>
          <p:nvPr/>
        </p:nvSpPr>
        <p:spPr>
          <a:xfrm>
            <a:off x="10858680" y="263520"/>
            <a:ext cx="990360" cy="27288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1" name="Text Placeholder 6"/>
          <p:cNvSpPr/>
          <p:nvPr/>
        </p:nvSpPr>
        <p:spPr>
          <a:xfrm>
            <a:off x="10713960" y="285840"/>
            <a:ext cx="1279440" cy="26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JOIN US</a:t>
            </a:r>
            <a:endParaRPr b="0" lang="en-US" sz="800" spc="-1" strike="noStrike">
              <a:solidFill>
                <a:srgbClr val="000000"/>
              </a:solidFill>
              <a:latin typeface="Calibri"/>
            </a:endParaRPr>
          </a:p>
        </p:txBody>
      </p:sp>
      <p:sp>
        <p:nvSpPr>
          <p:cNvPr id="1282" name="TextBox 5"/>
          <p:cNvSpPr/>
          <p:nvPr/>
        </p:nvSpPr>
        <p:spPr>
          <a:xfrm>
            <a:off x="258840" y="237960"/>
            <a:ext cx="225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reato Display"/>
                <a:ea typeface="Vollkorn"/>
              </a:rPr>
              <a:t>DEVENTHA PROJECT</a:t>
            </a:r>
            <a:endParaRPr b="0" lang="en-US" sz="1200" spc="-1" strike="noStrike">
              <a:solidFill>
                <a:srgbClr val="000000"/>
              </a:solidFill>
              <a:latin typeface="Calibri"/>
            </a:endParaRPr>
          </a:p>
        </p:txBody>
      </p:sp>
      <p:grpSp>
        <p:nvGrpSpPr>
          <p:cNvPr id="1283" name="Group 6"/>
          <p:cNvGrpSpPr/>
          <p:nvPr/>
        </p:nvGrpSpPr>
        <p:grpSpPr>
          <a:xfrm>
            <a:off x="3257640" y="258840"/>
            <a:ext cx="5702040" cy="296640"/>
            <a:chOff x="3257640" y="258840"/>
            <a:chExt cx="5702040" cy="296640"/>
          </a:xfrm>
        </p:grpSpPr>
        <p:sp>
          <p:nvSpPr>
            <p:cNvPr id="1284" name="Text Placeholder 6"/>
            <p:cNvSpPr/>
            <p:nvPr/>
          </p:nvSpPr>
          <p:spPr>
            <a:xfrm>
              <a:off x="325764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ASHION</a:t>
              </a:r>
              <a:endParaRPr b="0" lang="en-US" sz="800" spc="-1" strike="noStrike">
                <a:solidFill>
                  <a:srgbClr val="000000"/>
                </a:solidFill>
                <a:latin typeface="Calibri"/>
              </a:endParaRPr>
            </a:p>
          </p:txBody>
        </p:sp>
        <p:sp>
          <p:nvSpPr>
            <p:cNvPr id="1285" name="Text Placeholder 6"/>
            <p:cNvSpPr/>
            <p:nvPr/>
          </p:nvSpPr>
          <p:spPr>
            <a:xfrm>
              <a:off x="426816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MODERN</a:t>
              </a:r>
              <a:endParaRPr b="0" lang="en-US" sz="800" spc="-1" strike="noStrike">
                <a:solidFill>
                  <a:srgbClr val="000000"/>
                </a:solidFill>
                <a:latin typeface="Calibri"/>
              </a:endParaRPr>
            </a:p>
          </p:txBody>
        </p:sp>
        <p:sp>
          <p:nvSpPr>
            <p:cNvPr id="1286" name="Text Placeholder 6"/>
            <p:cNvSpPr/>
            <p:nvPr/>
          </p:nvSpPr>
          <p:spPr>
            <a:xfrm>
              <a:off x="535212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TEMPLATE</a:t>
              </a:r>
              <a:endParaRPr b="0" lang="en-US" sz="800" spc="-1" strike="noStrike">
                <a:solidFill>
                  <a:srgbClr val="000000"/>
                </a:solidFill>
                <a:latin typeface="Calibri"/>
              </a:endParaRPr>
            </a:p>
          </p:txBody>
        </p:sp>
        <p:sp>
          <p:nvSpPr>
            <p:cNvPr id="1287" name="Straight Connector 10"/>
            <p:cNvSpPr/>
            <p:nvPr/>
          </p:nvSpPr>
          <p:spPr>
            <a:xfrm>
              <a:off x="4572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8" name="Text Placeholder 6"/>
            <p:cNvSpPr/>
            <p:nvPr/>
          </p:nvSpPr>
          <p:spPr>
            <a:xfrm>
              <a:off x="642420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EATURES</a:t>
              </a:r>
              <a:endParaRPr b="0" lang="en-US" sz="800" spc="-1" strike="noStrike">
                <a:solidFill>
                  <a:srgbClr val="000000"/>
                </a:solidFill>
                <a:latin typeface="Calibri"/>
              </a:endParaRPr>
            </a:p>
          </p:txBody>
        </p:sp>
        <p:sp>
          <p:nvSpPr>
            <p:cNvPr id="1289" name="Text Placeholder 6"/>
            <p:cNvSpPr/>
            <p:nvPr/>
          </p:nvSpPr>
          <p:spPr>
            <a:xfrm>
              <a:off x="735408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SUPPORT</a:t>
              </a:r>
              <a:endParaRPr b="0" lang="en-US" sz="800" spc="-1" strike="noStrike">
                <a:solidFill>
                  <a:srgbClr val="000000"/>
                </a:solidFill>
                <a:latin typeface="Calibri"/>
              </a:endParaRPr>
            </a:p>
          </p:txBody>
        </p:sp>
        <p:sp>
          <p:nvSpPr>
            <p:cNvPr id="1290" name="Straight Connector 13"/>
            <p:cNvSpPr/>
            <p:nvPr/>
          </p:nvSpPr>
          <p:spPr>
            <a:xfrm>
              <a:off x="5553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1" name="Straight Connector 14"/>
            <p:cNvSpPr/>
            <p:nvPr/>
          </p:nvSpPr>
          <p:spPr>
            <a:xfrm>
              <a:off x="665820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2" name="Straight Connector 15"/>
            <p:cNvSpPr/>
            <p:nvPr/>
          </p:nvSpPr>
          <p:spPr>
            <a:xfrm>
              <a:off x="767736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293" name="Group 16"/>
          <p:cNvGrpSpPr/>
          <p:nvPr/>
        </p:nvGrpSpPr>
        <p:grpSpPr>
          <a:xfrm>
            <a:off x="258840" y="6359400"/>
            <a:ext cx="2322360" cy="368280"/>
            <a:chOff x="258840" y="6359400"/>
            <a:chExt cx="2322360" cy="368280"/>
          </a:xfrm>
        </p:grpSpPr>
        <p:sp>
          <p:nvSpPr>
            <p:cNvPr id="1294" name="Text Placeholder 6"/>
            <p:cNvSpPr/>
            <p:nvPr/>
          </p:nvSpPr>
          <p:spPr>
            <a:xfrm>
              <a:off x="258840" y="6359400"/>
              <a:ext cx="456840" cy="368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01</a:t>
              </a:r>
              <a:endParaRPr b="0" lang="en-US" sz="1000" spc="-1" strike="noStrike">
                <a:solidFill>
                  <a:srgbClr val="000000"/>
                </a:solidFill>
                <a:latin typeface="Calibri"/>
              </a:endParaRPr>
            </a:p>
          </p:txBody>
        </p:sp>
        <p:sp>
          <p:nvSpPr>
            <p:cNvPr id="1295" name="Straight Connector 18"/>
            <p:cNvSpPr/>
            <p:nvPr/>
          </p:nvSpPr>
          <p:spPr>
            <a:xfrm flipH="1">
              <a:off x="651960" y="6483600"/>
              <a:ext cx="621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6" name="Text Placeholder 6"/>
            <p:cNvSpPr/>
            <p:nvPr/>
          </p:nvSpPr>
          <p:spPr>
            <a:xfrm>
              <a:off x="1273320" y="6365880"/>
              <a:ext cx="1307880" cy="295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PRESENTATION</a:t>
              </a:r>
              <a:endParaRPr b="0" lang="en-US" sz="1000" spc="-1" strike="noStrike">
                <a:solidFill>
                  <a:srgbClr val="000000"/>
                </a:solidFill>
                <a:latin typeface="Calibri"/>
              </a:endParaRPr>
            </a:p>
          </p:txBody>
        </p:sp>
      </p:grpSp>
      <p:sp>
        <p:nvSpPr>
          <p:cNvPr id="1297" name="Text Placeholder 6"/>
          <p:cNvSpPr/>
          <p:nvPr/>
        </p:nvSpPr>
        <p:spPr>
          <a:xfrm>
            <a:off x="10331280" y="6377040"/>
            <a:ext cx="1606680" cy="2728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AGE 01/34</a:t>
            </a:r>
            <a:endParaRPr b="0" lang="en-US" sz="1000" spc="-1" strike="noStrike">
              <a:solidFill>
                <a:srgbClr val="000000"/>
              </a:solidFill>
              <a:latin typeface="Calibri"/>
            </a:endParaRPr>
          </a:p>
        </p:txBody>
      </p:sp>
      <p:sp>
        <p:nvSpPr>
          <p:cNvPr id="1298" name="TextBox 21"/>
          <p:cNvSpPr/>
          <p:nvPr/>
        </p:nvSpPr>
        <p:spPr>
          <a:xfrm>
            <a:off x="355680" y="882720"/>
            <a:ext cx="69991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Manrope"/>
                <a:ea typeface="Vollkorn"/>
              </a:rPr>
              <a:t>DAVENTHA-</a:t>
            </a:r>
            <a:endParaRPr b="0" lang="en-US" sz="8800" spc="-1" strike="noStrike">
              <a:solidFill>
                <a:srgbClr val="000000"/>
              </a:solidFill>
              <a:latin typeface="Calibri"/>
            </a:endParaRPr>
          </a:p>
        </p:txBody>
      </p:sp>
      <p:pic>
        <p:nvPicPr>
          <p:cNvPr id="1299" name="TextBox 22" descr=""/>
          <p:cNvPicPr/>
          <p:nvPr/>
        </p:nvPicPr>
        <p:blipFill>
          <a:blip r:embed="rId3"/>
          <a:stretch/>
        </p:blipFill>
        <p:spPr>
          <a:xfrm>
            <a:off x="378000" y="1719360"/>
            <a:ext cx="7278480" cy="1444680"/>
          </a:xfrm>
          <a:prstGeom prst="rect">
            <a:avLst/>
          </a:prstGeom>
          <a:ln w="0">
            <a:noFill/>
          </a:ln>
        </p:spPr>
      </p:pic>
      <p:sp>
        <p:nvSpPr>
          <p:cNvPr id="1300" name="TextBox 23"/>
          <p:cNvSpPr/>
          <p:nvPr/>
        </p:nvSpPr>
        <p:spPr>
          <a:xfrm>
            <a:off x="360360" y="2620800"/>
            <a:ext cx="5735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Manrope"/>
                <a:ea typeface="Vollkorn"/>
              </a:rPr>
              <a:t>MESSAGE.</a:t>
            </a:r>
            <a:endParaRPr b="0" lang="en-US" sz="8800" spc="-1" strike="noStrike">
              <a:solidFill>
                <a:srgbClr val="000000"/>
              </a:solidFill>
              <a:latin typeface="Calibri"/>
            </a:endParaRPr>
          </a:p>
        </p:txBody>
      </p:sp>
      <p:sp>
        <p:nvSpPr>
          <p:cNvPr id="1301" name="Rectangle 24"/>
          <p:cNvSpPr/>
          <p:nvPr/>
        </p:nvSpPr>
        <p:spPr>
          <a:xfrm>
            <a:off x="450720" y="4944960"/>
            <a:ext cx="28069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anrope"/>
                <a:ea typeface="Open Sans"/>
              </a:rPr>
              <a:t>It is a long established fact that a reader will be distracted by the readable content of a page.</a:t>
            </a:r>
            <a:endParaRPr b="0" lang="en-US" sz="1100" spc="-1" strike="noStrike">
              <a:solidFill>
                <a:srgbClr val="000000"/>
              </a:solidFill>
              <a:latin typeface="Calibri"/>
            </a:endParaRPr>
          </a:p>
        </p:txBody>
      </p:sp>
      <p:sp>
        <p:nvSpPr>
          <p:cNvPr id="1302" name="Text Placeholder 6"/>
          <p:cNvSpPr/>
          <p:nvPr/>
        </p:nvSpPr>
        <p:spPr>
          <a:xfrm>
            <a:off x="450720" y="4556160"/>
            <a:ext cx="2284560" cy="226800"/>
          </a:xfrm>
          <a:prstGeom prst="rect">
            <a:avLst/>
          </a:prstGeom>
          <a:noFill/>
          <a:ln w="0">
            <a:noFill/>
          </a:ln>
        </p:spPr>
        <p:style>
          <a:lnRef idx="0"/>
          <a:fillRef idx="0"/>
          <a:effectRef idx="0"/>
          <a:fontRef idx="minor"/>
        </p:style>
        <p:txBody>
          <a:bodyPr lIns="90000" rIns="90000" tIns="46800" bIns="46800" anchor="t">
            <a:normAutofit fontScale="8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anrope"/>
                <a:ea typeface="Open Sans"/>
              </a:rPr>
              <a:t>MESSAGE IMPORTANT.</a:t>
            </a:r>
            <a:endParaRPr b="0" lang="en-US" sz="1000" spc="-1" strike="noStrike">
              <a:solidFill>
                <a:srgbClr val="000000"/>
              </a:solidFill>
              <a:latin typeface="Calibri"/>
            </a:endParaRPr>
          </a:p>
        </p:txBody>
      </p:sp>
      <p:sp>
        <p:nvSpPr>
          <p:cNvPr id="1303" name="Rectangle 26"/>
          <p:cNvSpPr/>
          <p:nvPr/>
        </p:nvSpPr>
        <p:spPr>
          <a:xfrm>
            <a:off x="4021200" y="4944960"/>
            <a:ext cx="32115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anrope"/>
                <a:ea typeface="Open Sans"/>
              </a:rPr>
              <a:t>It is a long established fact that a reader will be distracted by the readable content of a page when looking at its layout. </a:t>
            </a:r>
            <a:endParaRPr b="0" lang="en-US" sz="1100" spc="-1" strike="noStrike">
              <a:solidFill>
                <a:srgbClr val="000000"/>
              </a:solidFill>
              <a:latin typeface="Calibri"/>
            </a:endParaRPr>
          </a:p>
        </p:txBody>
      </p:sp>
      <p:sp>
        <p:nvSpPr>
          <p:cNvPr id="1304" name="Text Placeholder 6"/>
          <p:cNvSpPr/>
          <p:nvPr/>
        </p:nvSpPr>
        <p:spPr>
          <a:xfrm>
            <a:off x="4021200" y="4556160"/>
            <a:ext cx="2284200" cy="226800"/>
          </a:xfrm>
          <a:prstGeom prst="rect">
            <a:avLst/>
          </a:prstGeom>
          <a:noFill/>
          <a:ln w="0">
            <a:noFill/>
          </a:ln>
        </p:spPr>
        <p:style>
          <a:lnRef idx="0"/>
          <a:fillRef idx="0"/>
          <a:effectRef idx="0"/>
          <a:fontRef idx="minor"/>
        </p:style>
        <p:txBody>
          <a:bodyPr lIns="90000" rIns="90000" tIns="46800" bIns="46800" anchor="t">
            <a:normAutofit fontScale="8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anrope"/>
                <a:ea typeface="Open Sans"/>
              </a:rPr>
              <a:t>MESSAGE IMPORTANT.</a:t>
            </a:r>
            <a:endParaRPr b="0" lang="en-US" sz="1000" spc="-1" strike="noStrike">
              <a:solidFill>
                <a:srgbClr val="000000"/>
              </a:solidFill>
              <a:latin typeface="Calibri"/>
            </a:endParaRPr>
          </a:p>
        </p:txBody>
      </p:sp>
      <p:sp>
        <p:nvSpPr>
          <p:cNvPr id="1305" name="Rectangle 28"/>
          <p:cNvSpPr/>
          <p:nvPr/>
        </p:nvSpPr>
        <p:spPr>
          <a:xfrm>
            <a:off x="7851600" y="4944960"/>
            <a:ext cx="32133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anrope"/>
                <a:ea typeface="Open Sans"/>
              </a:rPr>
              <a:t>It is a long established fact that a reader will be distracted by the readable content of a page when looking at its layout. </a:t>
            </a:r>
            <a:endParaRPr b="0" lang="en-US" sz="1100" spc="-1" strike="noStrike">
              <a:solidFill>
                <a:srgbClr val="000000"/>
              </a:solidFill>
              <a:latin typeface="Calibri"/>
            </a:endParaRPr>
          </a:p>
        </p:txBody>
      </p:sp>
      <p:sp>
        <p:nvSpPr>
          <p:cNvPr id="1306" name="Text Placeholder 6"/>
          <p:cNvSpPr/>
          <p:nvPr/>
        </p:nvSpPr>
        <p:spPr>
          <a:xfrm>
            <a:off x="7851600" y="4556160"/>
            <a:ext cx="2284560" cy="226800"/>
          </a:xfrm>
          <a:prstGeom prst="rect">
            <a:avLst/>
          </a:prstGeom>
          <a:noFill/>
          <a:ln w="0">
            <a:noFill/>
          </a:ln>
        </p:spPr>
        <p:style>
          <a:lnRef idx="0"/>
          <a:fillRef idx="0"/>
          <a:effectRef idx="0"/>
          <a:fontRef idx="minor"/>
        </p:style>
        <p:txBody>
          <a:bodyPr lIns="90000" rIns="90000" tIns="46800" bIns="46800" anchor="t">
            <a:normAutofit fontScale="8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anrope"/>
                <a:ea typeface="Open Sans"/>
              </a:rPr>
              <a:t>MESSAGE IMPORTANT.</a:t>
            </a:r>
            <a:endParaRPr b="0" lang="en-US" sz="1000" spc="-1" strike="noStrike">
              <a:solidFill>
                <a:srgbClr val="000000"/>
              </a:solidFill>
              <a:latin typeface="Calibri"/>
            </a:endParaRPr>
          </a:p>
        </p:txBody>
      </p:sp>
      <p:sp>
        <p:nvSpPr>
          <p:cNvPr id="1307" name="Explosion 2 30"/>
          <p:cNvSpPr/>
          <p:nvPr/>
        </p:nvSpPr>
        <p:spPr>
          <a:xfrm>
            <a:off x="10523520" y="1562040"/>
            <a:ext cx="2457360" cy="1758960"/>
          </a:xfrm>
          <a:prstGeom prst="irregularSeal2">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8" name="Text Placeholder 6"/>
          <p:cNvSpPr/>
          <p:nvPr/>
        </p:nvSpPr>
        <p:spPr>
          <a:xfrm>
            <a:off x="10912320" y="2311560"/>
            <a:ext cx="1681200" cy="258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anrope"/>
                <a:ea typeface="Open Sans"/>
              </a:rPr>
              <a:t>NEW ARRIVAL</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09" name="Freeform 1"/>
          <p:cNvGrpSpPr/>
          <p:nvPr/>
        </p:nvGrpSpPr>
        <p:grpSpPr>
          <a:xfrm>
            <a:off x="5651640" y="0"/>
            <a:ext cx="6540480" cy="7156440"/>
            <a:chOff x="5651640" y="0"/>
            <a:chExt cx="6540480" cy="7156440"/>
          </a:xfrm>
        </p:grpSpPr>
        <p:pic>
          <p:nvPicPr>
            <p:cNvPr id="1310" name="Freeform 1" descr=""/>
            <p:cNvPicPr/>
            <p:nvPr/>
          </p:nvPicPr>
          <p:blipFill>
            <a:blip r:embed="rId1"/>
            <a:stretch/>
          </p:blipFill>
          <p:spPr>
            <a:xfrm>
              <a:off x="5651640" y="0"/>
              <a:ext cx="6540480" cy="7156440"/>
            </a:xfrm>
            <a:prstGeom prst="rect">
              <a:avLst/>
            </a:prstGeom>
            <a:ln w="0">
              <a:noFill/>
            </a:ln>
          </p:spPr>
        </p:pic>
        <p:sp>
          <p:nvSpPr>
            <p:cNvPr id="1311" name=""/>
            <p:cNvSpPr/>
            <p:nvPr/>
          </p:nvSpPr>
          <p:spPr>
            <a:xfrm>
              <a:off x="5653080" y="0"/>
              <a:ext cx="6539040" cy="7156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12" name="Freeform 2"/>
          <p:cNvGrpSpPr/>
          <p:nvPr/>
        </p:nvGrpSpPr>
        <p:grpSpPr>
          <a:xfrm>
            <a:off x="-6480" y="810720"/>
            <a:ext cx="5529240" cy="6046920"/>
            <a:chOff x="-6480" y="810720"/>
            <a:chExt cx="5529240" cy="6046920"/>
          </a:xfrm>
        </p:grpSpPr>
        <p:pic>
          <p:nvPicPr>
            <p:cNvPr id="1313" name="Freeform 2" descr=""/>
            <p:cNvPicPr/>
            <p:nvPr/>
          </p:nvPicPr>
          <p:blipFill>
            <a:blip r:embed="rId2"/>
            <a:stretch/>
          </p:blipFill>
          <p:spPr>
            <a:xfrm>
              <a:off x="-6480" y="813600"/>
              <a:ext cx="5527440" cy="6044040"/>
            </a:xfrm>
            <a:prstGeom prst="rect">
              <a:avLst/>
            </a:prstGeom>
            <a:ln w="0">
              <a:noFill/>
            </a:ln>
          </p:spPr>
        </p:pic>
        <p:sp>
          <p:nvSpPr>
            <p:cNvPr id="1314" name=""/>
            <p:cNvSpPr/>
            <p:nvPr/>
          </p:nvSpPr>
          <p:spPr>
            <a:xfrm rot="10800000">
              <a:off x="-2880" y="810720"/>
              <a:ext cx="5526000" cy="604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15" name="Rounded Rectangle 3"/>
          <p:cNvSpPr/>
          <p:nvPr/>
        </p:nvSpPr>
        <p:spPr>
          <a:xfrm>
            <a:off x="10858680" y="263520"/>
            <a:ext cx="990360" cy="27288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6" name="Text Placeholder 6"/>
          <p:cNvSpPr/>
          <p:nvPr/>
        </p:nvSpPr>
        <p:spPr>
          <a:xfrm>
            <a:off x="10713960" y="285840"/>
            <a:ext cx="1279440" cy="26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JOIN US</a:t>
            </a:r>
            <a:endParaRPr b="0" lang="en-US" sz="800" spc="-1" strike="noStrike">
              <a:solidFill>
                <a:srgbClr val="000000"/>
              </a:solidFill>
              <a:latin typeface="Calibri"/>
            </a:endParaRPr>
          </a:p>
        </p:txBody>
      </p:sp>
      <p:sp>
        <p:nvSpPr>
          <p:cNvPr id="1317" name="TextBox 5"/>
          <p:cNvSpPr/>
          <p:nvPr/>
        </p:nvSpPr>
        <p:spPr>
          <a:xfrm>
            <a:off x="258840" y="237960"/>
            <a:ext cx="225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reato Display"/>
                <a:ea typeface="Vollkorn"/>
              </a:rPr>
              <a:t>DEVENTHA PROJECT</a:t>
            </a:r>
            <a:endParaRPr b="0" lang="en-US" sz="1200" spc="-1" strike="noStrike">
              <a:solidFill>
                <a:srgbClr val="000000"/>
              </a:solidFill>
              <a:latin typeface="Calibri"/>
            </a:endParaRPr>
          </a:p>
        </p:txBody>
      </p:sp>
      <p:grpSp>
        <p:nvGrpSpPr>
          <p:cNvPr id="1318" name="Group 6"/>
          <p:cNvGrpSpPr/>
          <p:nvPr/>
        </p:nvGrpSpPr>
        <p:grpSpPr>
          <a:xfrm>
            <a:off x="3257640" y="258840"/>
            <a:ext cx="5702040" cy="296640"/>
            <a:chOff x="3257640" y="258840"/>
            <a:chExt cx="5702040" cy="296640"/>
          </a:xfrm>
        </p:grpSpPr>
        <p:sp>
          <p:nvSpPr>
            <p:cNvPr id="1319" name="Text Placeholder 6"/>
            <p:cNvSpPr/>
            <p:nvPr/>
          </p:nvSpPr>
          <p:spPr>
            <a:xfrm>
              <a:off x="325764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ASHION</a:t>
              </a:r>
              <a:endParaRPr b="0" lang="en-US" sz="800" spc="-1" strike="noStrike">
                <a:solidFill>
                  <a:srgbClr val="000000"/>
                </a:solidFill>
                <a:latin typeface="Calibri"/>
              </a:endParaRPr>
            </a:p>
          </p:txBody>
        </p:sp>
        <p:sp>
          <p:nvSpPr>
            <p:cNvPr id="1320" name="Text Placeholder 6"/>
            <p:cNvSpPr/>
            <p:nvPr/>
          </p:nvSpPr>
          <p:spPr>
            <a:xfrm>
              <a:off x="426816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MODERN</a:t>
              </a:r>
              <a:endParaRPr b="0" lang="en-US" sz="800" spc="-1" strike="noStrike">
                <a:solidFill>
                  <a:srgbClr val="000000"/>
                </a:solidFill>
                <a:latin typeface="Calibri"/>
              </a:endParaRPr>
            </a:p>
          </p:txBody>
        </p:sp>
        <p:sp>
          <p:nvSpPr>
            <p:cNvPr id="1321" name="Text Placeholder 6"/>
            <p:cNvSpPr/>
            <p:nvPr/>
          </p:nvSpPr>
          <p:spPr>
            <a:xfrm>
              <a:off x="535212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TEMPLATE</a:t>
              </a:r>
              <a:endParaRPr b="0" lang="en-US" sz="800" spc="-1" strike="noStrike">
                <a:solidFill>
                  <a:srgbClr val="000000"/>
                </a:solidFill>
                <a:latin typeface="Calibri"/>
              </a:endParaRPr>
            </a:p>
          </p:txBody>
        </p:sp>
        <p:sp>
          <p:nvSpPr>
            <p:cNvPr id="1322" name="Straight Connector 10"/>
            <p:cNvSpPr/>
            <p:nvPr/>
          </p:nvSpPr>
          <p:spPr>
            <a:xfrm>
              <a:off x="4572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3" name="Text Placeholder 6"/>
            <p:cNvSpPr/>
            <p:nvPr/>
          </p:nvSpPr>
          <p:spPr>
            <a:xfrm>
              <a:off x="642420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EATURES</a:t>
              </a:r>
              <a:endParaRPr b="0" lang="en-US" sz="800" spc="-1" strike="noStrike">
                <a:solidFill>
                  <a:srgbClr val="000000"/>
                </a:solidFill>
                <a:latin typeface="Calibri"/>
              </a:endParaRPr>
            </a:p>
          </p:txBody>
        </p:sp>
        <p:sp>
          <p:nvSpPr>
            <p:cNvPr id="1324" name="Text Placeholder 6"/>
            <p:cNvSpPr/>
            <p:nvPr/>
          </p:nvSpPr>
          <p:spPr>
            <a:xfrm>
              <a:off x="735408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SUPPORT</a:t>
              </a:r>
              <a:endParaRPr b="0" lang="en-US" sz="800" spc="-1" strike="noStrike">
                <a:solidFill>
                  <a:srgbClr val="000000"/>
                </a:solidFill>
                <a:latin typeface="Calibri"/>
              </a:endParaRPr>
            </a:p>
          </p:txBody>
        </p:sp>
        <p:sp>
          <p:nvSpPr>
            <p:cNvPr id="1325" name="Straight Connector 13"/>
            <p:cNvSpPr/>
            <p:nvPr/>
          </p:nvSpPr>
          <p:spPr>
            <a:xfrm>
              <a:off x="5553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6" name="Straight Connector 14"/>
            <p:cNvSpPr/>
            <p:nvPr/>
          </p:nvSpPr>
          <p:spPr>
            <a:xfrm>
              <a:off x="665820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7" name="Straight Connector 15"/>
            <p:cNvSpPr/>
            <p:nvPr/>
          </p:nvSpPr>
          <p:spPr>
            <a:xfrm>
              <a:off x="767736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328" name="Group 16"/>
          <p:cNvGrpSpPr/>
          <p:nvPr/>
        </p:nvGrpSpPr>
        <p:grpSpPr>
          <a:xfrm>
            <a:off x="258840" y="6359400"/>
            <a:ext cx="2322360" cy="368280"/>
            <a:chOff x="258840" y="6359400"/>
            <a:chExt cx="2322360" cy="368280"/>
          </a:xfrm>
        </p:grpSpPr>
        <p:sp>
          <p:nvSpPr>
            <p:cNvPr id="1329" name="Text Placeholder 6"/>
            <p:cNvSpPr/>
            <p:nvPr/>
          </p:nvSpPr>
          <p:spPr>
            <a:xfrm>
              <a:off x="258840" y="6359400"/>
              <a:ext cx="456840" cy="368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01</a:t>
              </a:r>
              <a:endParaRPr b="0" lang="en-US" sz="1000" spc="-1" strike="noStrike">
                <a:solidFill>
                  <a:srgbClr val="000000"/>
                </a:solidFill>
                <a:latin typeface="Calibri"/>
              </a:endParaRPr>
            </a:p>
          </p:txBody>
        </p:sp>
        <p:sp>
          <p:nvSpPr>
            <p:cNvPr id="1330" name="Straight Connector 18"/>
            <p:cNvSpPr/>
            <p:nvPr/>
          </p:nvSpPr>
          <p:spPr>
            <a:xfrm flipH="1">
              <a:off x="651960" y="6483600"/>
              <a:ext cx="621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1" name="Text Placeholder 6"/>
            <p:cNvSpPr/>
            <p:nvPr/>
          </p:nvSpPr>
          <p:spPr>
            <a:xfrm>
              <a:off x="1273320" y="6365880"/>
              <a:ext cx="1307880" cy="295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PRESENTATION</a:t>
              </a:r>
              <a:endParaRPr b="0" lang="en-US" sz="1000" spc="-1" strike="noStrike">
                <a:solidFill>
                  <a:srgbClr val="000000"/>
                </a:solidFill>
                <a:latin typeface="Calibri"/>
              </a:endParaRPr>
            </a:p>
          </p:txBody>
        </p:sp>
      </p:grpSp>
      <p:sp>
        <p:nvSpPr>
          <p:cNvPr id="1332" name="Text Placeholder 6"/>
          <p:cNvSpPr/>
          <p:nvPr/>
        </p:nvSpPr>
        <p:spPr>
          <a:xfrm>
            <a:off x="10331280" y="6377040"/>
            <a:ext cx="1606680" cy="2728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AGE 01/34</a:t>
            </a:r>
            <a:endParaRPr b="0" lang="en-US" sz="1000" spc="-1" strike="noStrike">
              <a:solidFill>
                <a:srgbClr val="000000"/>
              </a:solidFill>
              <a:latin typeface="Calibri"/>
            </a:endParaRPr>
          </a:p>
        </p:txBody>
      </p:sp>
      <p:sp>
        <p:nvSpPr>
          <p:cNvPr id="1333" name="TextBox 21"/>
          <p:cNvSpPr/>
          <p:nvPr/>
        </p:nvSpPr>
        <p:spPr>
          <a:xfrm>
            <a:off x="258840" y="1338120"/>
            <a:ext cx="6676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eabfff"/>
                </a:solidFill>
                <a:latin typeface="Creato Display"/>
                <a:ea typeface="Vollkorn"/>
              </a:rPr>
              <a:t>DAVENTHA</a:t>
            </a:r>
            <a:endParaRPr b="0" lang="en-US" sz="8000" spc="-1" strike="noStrike">
              <a:solidFill>
                <a:srgbClr val="000000"/>
              </a:solidFill>
              <a:latin typeface="Calibri"/>
            </a:endParaRPr>
          </a:p>
        </p:txBody>
      </p:sp>
      <p:pic>
        <p:nvPicPr>
          <p:cNvPr id="1334" name="TextBox 22" descr=""/>
          <p:cNvPicPr/>
          <p:nvPr/>
        </p:nvPicPr>
        <p:blipFill>
          <a:blip r:embed="rId3"/>
          <a:stretch/>
        </p:blipFill>
        <p:spPr>
          <a:xfrm>
            <a:off x="255600" y="2103480"/>
            <a:ext cx="6681600" cy="1322280"/>
          </a:xfrm>
          <a:prstGeom prst="rect">
            <a:avLst/>
          </a:prstGeom>
          <a:ln w="0">
            <a:noFill/>
          </a:ln>
        </p:spPr>
      </p:pic>
      <p:sp>
        <p:nvSpPr>
          <p:cNvPr id="1335" name="Rectangle 23"/>
          <p:cNvSpPr/>
          <p:nvPr/>
        </p:nvSpPr>
        <p:spPr>
          <a:xfrm>
            <a:off x="343080" y="3830760"/>
            <a:ext cx="324612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Inter"/>
                <a:ea typeface="Inter"/>
              </a:rPr>
              <a:t>It is a long established fact that a reader will be distracted by the readable content of a page when looking at its layout. </a:t>
            </a:r>
            <a:endParaRPr b="0" lang="en-US" sz="1000" spc="-1" strike="noStrike">
              <a:solidFill>
                <a:srgbClr val="000000"/>
              </a:solidFill>
              <a:latin typeface="Calibri"/>
            </a:endParaRPr>
          </a:p>
        </p:txBody>
      </p:sp>
      <p:sp>
        <p:nvSpPr>
          <p:cNvPr id="1336" name="Rectangle 24"/>
          <p:cNvSpPr/>
          <p:nvPr/>
        </p:nvSpPr>
        <p:spPr>
          <a:xfrm>
            <a:off x="6804000" y="1387440"/>
            <a:ext cx="491796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nter"/>
                <a:ea typeface="Inter"/>
              </a:rPr>
              <a:t>It is a long established fact that a reader will be distracted by the readable content of a page when looking at its layout. </a:t>
            </a:r>
            <a:endParaRPr b="0" lang="en-US" sz="2000" spc="-1" strike="noStrike">
              <a:solidFill>
                <a:srgbClr val="000000"/>
              </a:solidFill>
              <a:latin typeface="Calibri"/>
            </a:endParaRPr>
          </a:p>
        </p:txBody>
      </p:sp>
      <p:sp>
        <p:nvSpPr>
          <p:cNvPr id="1337" name="Rectangle 25"/>
          <p:cNvSpPr/>
          <p:nvPr/>
        </p:nvSpPr>
        <p:spPr>
          <a:xfrm>
            <a:off x="343080" y="5148360"/>
            <a:ext cx="425448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Inter"/>
                <a:ea typeface="Inter"/>
              </a:rPr>
              <a:t>It is a long established fact that a reader will be distracted by the readable content of a page when looking at its layout. </a:t>
            </a:r>
            <a:endParaRPr b="0" lang="en-US" sz="1000" spc="-1" strike="noStrike">
              <a:solidFill>
                <a:srgbClr val="000000"/>
              </a:solidFill>
              <a:latin typeface="Calibri"/>
            </a:endParaRPr>
          </a:p>
        </p:txBody>
      </p:sp>
      <p:sp>
        <p:nvSpPr>
          <p:cNvPr id="1338" name="Rectangle 26"/>
          <p:cNvSpPr/>
          <p:nvPr/>
        </p:nvSpPr>
        <p:spPr>
          <a:xfrm>
            <a:off x="6804000" y="3830760"/>
            <a:ext cx="324648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Inter"/>
                <a:ea typeface="Inter"/>
              </a:rPr>
              <a:t>It is a long established fact that a reader will be distracted by the readable content of a page when looking at its layout. </a:t>
            </a:r>
            <a:endParaRPr b="0" lang="en-US" sz="1000" spc="-1" strike="noStrike">
              <a:solidFill>
                <a:srgbClr val="000000"/>
              </a:solidFill>
              <a:latin typeface="Calibri"/>
            </a:endParaRPr>
          </a:p>
        </p:txBody>
      </p:sp>
      <p:sp>
        <p:nvSpPr>
          <p:cNvPr id="1339" name="Straight Connector 27"/>
          <p:cNvSpPr/>
          <p:nvPr/>
        </p:nvSpPr>
        <p:spPr>
          <a:xfrm flipH="1">
            <a:off x="11124720" y="5413320"/>
            <a:ext cx="10400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0" name="TextBox 28"/>
          <p:cNvSpPr/>
          <p:nvPr/>
        </p:nvSpPr>
        <p:spPr>
          <a:xfrm>
            <a:off x="9639360" y="4738680"/>
            <a:ext cx="17143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Manrope"/>
                <a:ea typeface="Vollkorn"/>
              </a:rPr>
              <a:t>25</a:t>
            </a:r>
            <a:endParaRPr b="0" lang="en-US" sz="8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Rectangle 9"/>
          <p:cNvSpPr/>
          <p:nvPr/>
        </p:nvSpPr>
        <p:spPr>
          <a:xfrm>
            <a:off x="8380440" y="4883040"/>
            <a:ext cx="24908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342" name="Rectangle 10"/>
          <p:cNvSpPr/>
          <p:nvPr/>
        </p:nvSpPr>
        <p:spPr>
          <a:xfrm>
            <a:off x="8394840" y="3086280"/>
            <a:ext cx="24890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343" name="Rectangle 11"/>
          <p:cNvSpPr/>
          <p:nvPr/>
        </p:nvSpPr>
        <p:spPr>
          <a:xfrm>
            <a:off x="8380440" y="1308240"/>
            <a:ext cx="24908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Open Sans"/>
                <a:ea typeface="Open Sans"/>
              </a:rPr>
              <a:t>Lorem ipsum dolor sit amet, lacus nulla ac netus nibh aliquet,. Sapien nam suspendisse, tincidunt</a:t>
            </a:r>
            <a:endParaRPr b="0" lang="en-US" sz="1000" spc="-1" strike="noStrike">
              <a:solidFill>
                <a:srgbClr val="000000"/>
              </a:solidFill>
              <a:latin typeface="Calibri"/>
            </a:endParaRPr>
          </a:p>
        </p:txBody>
      </p:sp>
      <p:sp>
        <p:nvSpPr>
          <p:cNvPr id="1344" name="Rectangle 12"/>
          <p:cNvSpPr/>
          <p:nvPr/>
        </p:nvSpPr>
        <p:spPr>
          <a:xfrm>
            <a:off x="8394840" y="4657680"/>
            <a:ext cx="23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Open Sans"/>
                <a:ea typeface="Open Sans"/>
              </a:rPr>
              <a:t>FULL CUSTOMIZED</a:t>
            </a:r>
            <a:endParaRPr b="0" lang="en-US" sz="1200" spc="-1" strike="noStrike">
              <a:solidFill>
                <a:srgbClr val="000000"/>
              </a:solidFill>
              <a:latin typeface="Calibri"/>
            </a:endParaRPr>
          </a:p>
        </p:txBody>
      </p:sp>
      <p:sp>
        <p:nvSpPr>
          <p:cNvPr id="1345" name="Rectangle 13"/>
          <p:cNvSpPr/>
          <p:nvPr/>
        </p:nvSpPr>
        <p:spPr>
          <a:xfrm>
            <a:off x="8394840" y="1116000"/>
            <a:ext cx="23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Open Sans"/>
                <a:ea typeface="Open Sans"/>
              </a:rPr>
              <a:t>LAYERED FILES</a:t>
            </a:r>
            <a:endParaRPr b="0" lang="en-US" sz="1200" spc="-1" strike="noStrike">
              <a:solidFill>
                <a:srgbClr val="000000"/>
              </a:solidFill>
              <a:latin typeface="Calibri"/>
            </a:endParaRPr>
          </a:p>
        </p:txBody>
      </p:sp>
      <p:sp>
        <p:nvSpPr>
          <p:cNvPr id="1346" name="Rectangle 14"/>
          <p:cNvSpPr/>
          <p:nvPr/>
        </p:nvSpPr>
        <p:spPr>
          <a:xfrm>
            <a:off x="8394840" y="2898720"/>
            <a:ext cx="23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Open Sans"/>
                <a:ea typeface="Open Sans"/>
              </a:rPr>
              <a:t>UNLIMITED OPTIONS</a:t>
            </a:r>
            <a:endParaRPr b="0" lang="en-US" sz="1200" spc="-1" strike="noStrike">
              <a:solidFill>
                <a:srgbClr val="000000"/>
              </a:solidFill>
              <a:latin typeface="Calibri"/>
            </a:endParaRPr>
          </a:p>
        </p:txBody>
      </p:sp>
      <p:grpSp>
        <p:nvGrpSpPr>
          <p:cNvPr id="1347" name="Group 15"/>
          <p:cNvGrpSpPr/>
          <p:nvPr/>
        </p:nvGrpSpPr>
        <p:grpSpPr>
          <a:xfrm>
            <a:off x="7518240" y="1127160"/>
            <a:ext cx="667080" cy="4351320"/>
            <a:chOff x="7518240" y="1127160"/>
            <a:chExt cx="667080" cy="4351320"/>
          </a:xfrm>
        </p:grpSpPr>
        <p:sp>
          <p:nvSpPr>
            <p:cNvPr id="1348" name="Oval 16"/>
            <p:cNvSpPr/>
            <p:nvPr/>
          </p:nvSpPr>
          <p:spPr>
            <a:xfrm>
              <a:off x="7518240" y="4813200"/>
              <a:ext cx="666000" cy="66528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9" name="Shape 4680"/>
            <p:cNvSpPr/>
            <p:nvPr/>
          </p:nvSpPr>
          <p:spPr>
            <a:xfrm>
              <a:off x="7726680" y="4987800"/>
              <a:ext cx="249120" cy="316080"/>
            </a:xfrm>
            <a:custGeom>
              <a:avLst/>
              <a:gdLst>
                <a:gd name="textAreaLeft" fmla="*/ 0 w 249120"/>
                <a:gd name="textAreaRight" fmla="*/ 249480 w 249120"/>
                <a:gd name="textAreaTop" fmla="*/ 0 h 316080"/>
                <a:gd name="textAreaBottom" fmla="*/ 316440 h 316080"/>
              </a:gdLst>
              <a:ahLst/>
              <a:rect l="textAreaLeft" t="textAreaTop" r="textAreaRight" b="textAreaBottom"/>
              <a:pathLst>
                <a:path w="120000" h="120000">
                  <a:moveTo>
                    <a:pt x="108888" y="25589"/>
                  </a:moveTo>
                  <a:lnTo>
                    <a:pt x="108888" y="25589"/>
                  </a:lnTo>
                  <a:cubicBezTo>
                    <a:pt x="79753" y="25589"/>
                    <a:pt x="79753" y="25589"/>
                    <a:pt x="79753" y="25589"/>
                  </a:cubicBezTo>
                  <a:cubicBezTo>
                    <a:pt x="79753" y="17059"/>
                    <a:pt x="79753" y="17059"/>
                    <a:pt x="79753" y="17059"/>
                  </a:cubicBezTo>
                  <a:cubicBezTo>
                    <a:pt x="79753" y="14151"/>
                    <a:pt x="76296" y="11437"/>
                    <a:pt x="72592" y="11437"/>
                  </a:cubicBezTo>
                  <a:cubicBezTo>
                    <a:pt x="29135" y="11437"/>
                    <a:pt x="29135" y="11437"/>
                    <a:pt x="29135" y="11437"/>
                  </a:cubicBezTo>
                  <a:cubicBezTo>
                    <a:pt x="29135" y="5621"/>
                    <a:pt x="29135" y="5621"/>
                    <a:pt x="29135" y="5621"/>
                  </a:cubicBezTo>
                  <a:cubicBezTo>
                    <a:pt x="29135" y="2714"/>
                    <a:pt x="21728" y="0"/>
                    <a:pt x="18024" y="0"/>
                  </a:cubicBezTo>
                  <a:cubicBezTo>
                    <a:pt x="7160" y="0"/>
                    <a:pt x="7160" y="0"/>
                    <a:pt x="7160" y="0"/>
                  </a:cubicBezTo>
                  <a:cubicBezTo>
                    <a:pt x="3456" y="0"/>
                    <a:pt x="0" y="2714"/>
                    <a:pt x="0" y="5621"/>
                  </a:cubicBezTo>
                  <a:cubicBezTo>
                    <a:pt x="0" y="114184"/>
                    <a:pt x="0" y="114184"/>
                    <a:pt x="0" y="114184"/>
                  </a:cubicBezTo>
                  <a:cubicBezTo>
                    <a:pt x="0" y="116898"/>
                    <a:pt x="3456" y="119806"/>
                    <a:pt x="7160" y="119806"/>
                  </a:cubicBezTo>
                  <a:cubicBezTo>
                    <a:pt x="18024" y="119806"/>
                    <a:pt x="18024" y="119806"/>
                    <a:pt x="18024" y="119806"/>
                  </a:cubicBezTo>
                  <a:cubicBezTo>
                    <a:pt x="21728" y="119806"/>
                    <a:pt x="29135" y="116898"/>
                    <a:pt x="29135" y="114184"/>
                  </a:cubicBezTo>
                  <a:cubicBezTo>
                    <a:pt x="29135" y="79870"/>
                    <a:pt x="29135" y="79870"/>
                    <a:pt x="29135" y="79870"/>
                  </a:cubicBezTo>
                  <a:cubicBezTo>
                    <a:pt x="72592" y="79870"/>
                    <a:pt x="72592" y="79870"/>
                    <a:pt x="72592" y="79870"/>
                  </a:cubicBezTo>
                  <a:cubicBezTo>
                    <a:pt x="72592" y="82778"/>
                    <a:pt x="72592" y="82778"/>
                    <a:pt x="72592" y="82778"/>
                  </a:cubicBezTo>
                  <a:cubicBezTo>
                    <a:pt x="72592" y="85492"/>
                    <a:pt x="76296" y="91308"/>
                    <a:pt x="79753" y="91308"/>
                  </a:cubicBezTo>
                  <a:cubicBezTo>
                    <a:pt x="108888" y="91308"/>
                    <a:pt x="108888" y="91308"/>
                    <a:pt x="108888" y="91308"/>
                  </a:cubicBezTo>
                  <a:cubicBezTo>
                    <a:pt x="116296" y="91308"/>
                    <a:pt x="119753" y="85492"/>
                    <a:pt x="119753" y="82778"/>
                  </a:cubicBezTo>
                  <a:cubicBezTo>
                    <a:pt x="119753" y="34119"/>
                    <a:pt x="119753" y="34119"/>
                    <a:pt x="119753" y="34119"/>
                  </a:cubicBezTo>
                  <a:cubicBezTo>
                    <a:pt x="119753" y="28497"/>
                    <a:pt x="116296" y="25589"/>
                    <a:pt x="108888" y="25589"/>
                  </a:cubicBezTo>
                  <a:close/>
                  <a:moveTo>
                    <a:pt x="18024" y="108368"/>
                  </a:moveTo>
                  <a:lnTo>
                    <a:pt x="18024" y="108368"/>
                  </a:lnTo>
                  <a:cubicBezTo>
                    <a:pt x="18024" y="111276"/>
                    <a:pt x="14567" y="114184"/>
                    <a:pt x="14567" y="114184"/>
                  </a:cubicBezTo>
                  <a:cubicBezTo>
                    <a:pt x="10864" y="114184"/>
                    <a:pt x="7160" y="111276"/>
                    <a:pt x="7160" y="108368"/>
                  </a:cubicBezTo>
                  <a:cubicBezTo>
                    <a:pt x="7160" y="11437"/>
                    <a:pt x="7160" y="11437"/>
                    <a:pt x="7160" y="11437"/>
                  </a:cubicBezTo>
                  <a:cubicBezTo>
                    <a:pt x="7160" y="8529"/>
                    <a:pt x="10864" y="5621"/>
                    <a:pt x="14567" y="5621"/>
                  </a:cubicBezTo>
                  <a:cubicBezTo>
                    <a:pt x="14567" y="5621"/>
                    <a:pt x="18024" y="8529"/>
                    <a:pt x="18024" y="11437"/>
                  </a:cubicBezTo>
                  <a:lnTo>
                    <a:pt x="18024" y="108368"/>
                  </a:lnTo>
                  <a:close/>
                  <a:moveTo>
                    <a:pt x="72592" y="68432"/>
                  </a:moveTo>
                  <a:lnTo>
                    <a:pt x="72592" y="68432"/>
                  </a:lnTo>
                  <a:cubicBezTo>
                    <a:pt x="72592" y="68432"/>
                    <a:pt x="69135" y="71340"/>
                    <a:pt x="65432" y="71340"/>
                  </a:cubicBezTo>
                  <a:cubicBezTo>
                    <a:pt x="29135" y="71340"/>
                    <a:pt x="29135" y="71340"/>
                    <a:pt x="29135" y="71340"/>
                  </a:cubicBezTo>
                  <a:cubicBezTo>
                    <a:pt x="29135" y="17059"/>
                    <a:pt x="29135" y="17059"/>
                    <a:pt x="29135" y="17059"/>
                  </a:cubicBezTo>
                  <a:cubicBezTo>
                    <a:pt x="65432" y="17059"/>
                    <a:pt x="65432" y="17059"/>
                    <a:pt x="65432" y="17059"/>
                  </a:cubicBezTo>
                  <a:cubicBezTo>
                    <a:pt x="69135" y="17059"/>
                    <a:pt x="72592" y="19967"/>
                    <a:pt x="72592" y="22875"/>
                  </a:cubicBezTo>
                  <a:lnTo>
                    <a:pt x="72592" y="68432"/>
                  </a:lnTo>
                  <a:close/>
                  <a:moveTo>
                    <a:pt x="108888" y="79870"/>
                  </a:moveTo>
                  <a:lnTo>
                    <a:pt x="108888" y="79870"/>
                  </a:lnTo>
                  <a:cubicBezTo>
                    <a:pt x="108888" y="79870"/>
                    <a:pt x="108888" y="82778"/>
                    <a:pt x="105432" y="82778"/>
                  </a:cubicBezTo>
                  <a:cubicBezTo>
                    <a:pt x="79753" y="82778"/>
                    <a:pt x="79753" y="82778"/>
                    <a:pt x="79753" y="82778"/>
                  </a:cubicBezTo>
                  <a:cubicBezTo>
                    <a:pt x="79753" y="34119"/>
                    <a:pt x="79753" y="34119"/>
                    <a:pt x="79753" y="34119"/>
                  </a:cubicBezTo>
                  <a:cubicBezTo>
                    <a:pt x="105432" y="34119"/>
                    <a:pt x="105432" y="34119"/>
                    <a:pt x="105432" y="34119"/>
                  </a:cubicBezTo>
                  <a:cubicBezTo>
                    <a:pt x="108888" y="34119"/>
                    <a:pt x="108888" y="34119"/>
                    <a:pt x="108888" y="37027"/>
                  </a:cubicBezTo>
                  <a:lnTo>
                    <a:pt x="108888" y="7987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0" name="Oval 18"/>
            <p:cNvSpPr/>
            <p:nvPr/>
          </p:nvSpPr>
          <p:spPr>
            <a:xfrm>
              <a:off x="7518240" y="2946600"/>
              <a:ext cx="666000" cy="665280"/>
            </a:xfrm>
            <a:prstGeom prst="ellipse">
              <a:avLst/>
            </a:prstGeom>
            <a:solidFill>
              <a:srgbClr val="ffbbe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1" name="Shape 4681"/>
            <p:cNvSpPr/>
            <p:nvPr/>
          </p:nvSpPr>
          <p:spPr>
            <a:xfrm>
              <a:off x="7697520" y="3126600"/>
              <a:ext cx="307440" cy="305280"/>
            </a:xfrm>
            <a:custGeom>
              <a:avLst/>
              <a:gdLst>
                <a:gd name="textAreaLeft" fmla="*/ 0 w 307440"/>
                <a:gd name="textAreaRight" fmla="*/ 307800 w 307440"/>
                <a:gd name="textAreaTop" fmla="*/ 0 h 305280"/>
                <a:gd name="textAreaBottom" fmla="*/ 305640 h 305280"/>
              </a:gdLst>
              <a:ahLst/>
              <a:rect l="textAreaLeft" t="textAreaTop" r="textAreaRight" b="textAreaBottom"/>
              <a:pathLst>
                <a:path w="120000" h="120000">
                  <a:moveTo>
                    <a:pt x="28645" y="108368"/>
                  </a:moveTo>
                  <a:lnTo>
                    <a:pt x="28645" y="108368"/>
                  </a:lnTo>
                  <a:cubicBezTo>
                    <a:pt x="22838" y="114184"/>
                    <a:pt x="19935" y="114184"/>
                    <a:pt x="17225" y="108368"/>
                  </a:cubicBezTo>
                  <a:cubicBezTo>
                    <a:pt x="11419" y="105654"/>
                    <a:pt x="11419" y="105654"/>
                    <a:pt x="11419" y="105654"/>
                  </a:cubicBezTo>
                  <a:cubicBezTo>
                    <a:pt x="8516" y="102746"/>
                    <a:pt x="8516" y="96930"/>
                    <a:pt x="11419" y="94216"/>
                  </a:cubicBezTo>
                  <a:cubicBezTo>
                    <a:pt x="48580" y="57189"/>
                    <a:pt x="48580" y="57189"/>
                    <a:pt x="48580" y="57189"/>
                  </a:cubicBezTo>
                  <a:cubicBezTo>
                    <a:pt x="42774" y="54281"/>
                    <a:pt x="37161" y="57189"/>
                    <a:pt x="31354" y="59903"/>
                  </a:cubicBezTo>
                  <a:cubicBezTo>
                    <a:pt x="5806" y="88400"/>
                    <a:pt x="5806" y="88400"/>
                    <a:pt x="5806" y="88400"/>
                  </a:cubicBezTo>
                  <a:cubicBezTo>
                    <a:pt x="0" y="94216"/>
                    <a:pt x="0" y="102746"/>
                    <a:pt x="5806" y="108368"/>
                  </a:cubicBezTo>
                  <a:cubicBezTo>
                    <a:pt x="11419" y="114184"/>
                    <a:pt x="11419" y="114184"/>
                    <a:pt x="11419" y="114184"/>
                  </a:cubicBezTo>
                  <a:cubicBezTo>
                    <a:pt x="17225" y="119806"/>
                    <a:pt x="25741" y="119806"/>
                    <a:pt x="31354" y="114184"/>
                  </a:cubicBezTo>
                  <a:cubicBezTo>
                    <a:pt x="60000" y="88400"/>
                    <a:pt x="60000" y="88400"/>
                    <a:pt x="60000" y="88400"/>
                  </a:cubicBezTo>
                  <a:cubicBezTo>
                    <a:pt x="62709" y="82778"/>
                    <a:pt x="65612" y="76962"/>
                    <a:pt x="62709" y="74248"/>
                  </a:cubicBezTo>
                  <a:lnTo>
                    <a:pt x="28645" y="108368"/>
                  </a:lnTo>
                  <a:close/>
                  <a:moveTo>
                    <a:pt x="114000" y="11437"/>
                  </a:moveTo>
                  <a:lnTo>
                    <a:pt x="114000" y="11437"/>
                  </a:lnTo>
                  <a:cubicBezTo>
                    <a:pt x="108387" y="5621"/>
                    <a:pt x="108387" y="5621"/>
                    <a:pt x="108387" y="5621"/>
                  </a:cubicBezTo>
                  <a:cubicBezTo>
                    <a:pt x="102580" y="0"/>
                    <a:pt x="94064" y="0"/>
                    <a:pt x="88451" y="5621"/>
                  </a:cubicBezTo>
                  <a:cubicBezTo>
                    <a:pt x="60000" y="34313"/>
                    <a:pt x="60000" y="34313"/>
                    <a:pt x="60000" y="34313"/>
                  </a:cubicBezTo>
                  <a:cubicBezTo>
                    <a:pt x="57096" y="37027"/>
                    <a:pt x="54193" y="42843"/>
                    <a:pt x="57096" y="48465"/>
                  </a:cubicBezTo>
                  <a:cubicBezTo>
                    <a:pt x="91161" y="11437"/>
                    <a:pt x="91161" y="11437"/>
                    <a:pt x="91161" y="11437"/>
                  </a:cubicBezTo>
                  <a:cubicBezTo>
                    <a:pt x="94064" y="8529"/>
                    <a:pt x="99870" y="8529"/>
                    <a:pt x="102580" y="11437"/>
                  </a:cubicBezTo>
                  <a:cubicBezTo>
                    <a:pt x="108387" y="17059"/>
                    <a:pt x="108387" y="17059"/>
                    <a:pt x="108387" y="17059"/>
                  </a:cubicBezTo>
                  <a:cubicBezTo>
                    <a:pt x="111096" y="19967"/>
                    <a:pt x="111096" y="25783"/>
                    <a:pt x="108387" y="28497"/>
                  </a:cubicBezTo>
                  <a:cubicBezTo>
                    <a:pt x="71419" y="65525"/>
                    <a:pt x="71419" y="65525"/>
                    <a:pt x="71419" y="65525"/>
                  </a:cubicBezTo>
                  <a:cubicBezTo>
                    <a:pt x="77032" y="65525"/>
                    <a:pt x="82645" y="65525"/>
                    <a:pt x="88451" y="59903"/>
                  </a:cubicBezTo>
                  <a:cubicBezTo>
                    <a:pt x="114000" y="34313"/>
                    <a:pt x="114000" y="34313"/>
                    <a:pt x="114000" y="34313"/>
                  </a:cubicBezTo>
                  <a:cubicBezTo>
                    <a:pt x="119806" y="28497"/>
                    <a:pt x="119806" y="17059"/>
                    <a:pt x="114000" y="11437"/>
                  </a:cubicBezTo>
                  <a:close/>
                  <a:moveTo>
                    <a:pt x="71419" y="48465"/>
                  </a:moveTo>
                  <a:lnTo>
                    <a:pt x="71419" y="48465"/>
                  </a:lnTo>
                  <a:cubicBezTo>
                    <a:pt x="71419" y="48465"/>
                    <a:pt x="68322" y="48465"/>
                    <a:pt x="65612" y="48465"/>
                  </a:cubicBezTo>
                  <a:cubicBezTo>
                    <a:pt x="48580" y="68626"/>
                    <a:pt x="48580" y="68626"/>
                    <a:pt x="48580" y="68626"/>
                  </a:cubicBezTo>
                  <a:cubicBezTo>
                    <a:pt x="45677" y="68626"/>
                    <a:pt x="45677" y="71340"/>
                    <a:pt x="48580" y="74248"/>
                  </a:cubicBezTo>
                  <a:cubicBezTo>
                    <a:pt x="48580" y="74248"/>
                    <a:pt x="51290" y="74248"/>
                    <a:pt x="54193" y="74248"/>
                  </a:cubicBezTo>
                  <a:cubicBezTo>
                    <a:pt x="71419" y="54281"/>
                    <a:pt x="71419" y="54281"/>
                    <a:pt x="71419" y="54281"/>
                  </a:cubicBezTo>
                  <a:cubicBezTo>
                    <a:pt x="74129" y="51373"/>
                    <a:pt x="74129" y="51373"/>
                    <a:pt x="71419" y="4846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2" name="Oval 20"/>
            <p:cNvSpPr/>
            <p:nvPr/>
          </p:nvSpPr>
          <p:spPr>
            <a:xfrm>
              <a:off x="7519320" y="1127160"/>
              <a:ext cx="666000" cy="66528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3" name="Shape 4682"/>
            <p:cNvSpPr/>
            <p:nvPr/>
          </p:nvSpPr>
          <p:spPr>
            <a:xfrm>
              <a:off x="7705800" y="1371600"/>
              <a:ext cx="299160" cy="254520"/>
            </a:xfrm>
            <a:custGeom>
              <a:avLst/>
              <a:gdLst>
                <a:gd name="textAreaLeft" fmla="*/ 0 w 299160"/>
                <a:gd name="textAreaRight" fmla="*/ 299520 w 299160"/>
                <a:gd name="textAreaTop" fmla="*/ 0 h 254520"/>
                <a:gd name="textAreaBottom" fmla="*/ 254880 h 254520"/>
              </a:gdLst>
              <a:ahLst/>
              <a:rect l="textAreaLeft" t="textAreaTop" r="textAreaRight" b="textAreaBottom"/>
              <a:pathLst>
                <a:path w="120000" h="120000">
                  <a:moveTo>
                    <a:pt x="77826" y="84550"/>
                  </a:moveTo>
                  <a:lnTo>
                    <a:pt x="77826" y="84550"/>
                  </a:lnTo>
                  <a:cubicBezTo>
                    <a:pt x="62954" y="102035"/>
                    <a:pt x="62954" y="102035"/>
                    <a:pt x="62954" y="102035"/>
                  </a:cubicBezTo>
                  <a:cubicBezTo>
                    <a:pt x="62954" y="35209"/>
                    <a:pt x="62954" y="35209"/>
                    <a:pt x="62954" y="35209"/>
                  </a:cubicBezTo>
                  <a:cubicBezTo>
                    <a:pt x="62954" y="35209"/>
                    <a:pt x="62954" y="31616"/>
                    <a:pt x="59898" y="31616"/>
                  </a:cubicBezTo>
                  <a:cubicBezTo>
                    <a:pt x="56842" y="31616"/>
                    <a:pt x="56842" y="35209"/>
                    <a:pt x="56842" y="35209"/>
                  </a:cubicBezTo>
                  <a:cubicBezTo>
                    <a:pt x="56842" y="102035"/>
                    <a:pt x="56842" y="102035"/>
                    <a:pt x="56842" y="102035"/>
                  </a:cubicBezTo>
                  <a:cubicBezTo>
                    <a:pt x="41969" y="84550"/>
                    <a:pt x="41969" y="84550"/>
                    <a:pt x="41969" y="84550"/>
                  </a:cubicBezTo>
                  <a:cubicBezTo>
                    <a:pt x="41969" y="84550"/>
                    <a:pt x="38913" y="84550"/>
                    <a:pt x="35857" y="84550"/>
                  </a:cubicBezTo>
                  <a:cubicBezTo>
                    <a:pt x="35857" y="88143"/>
                    <a:pt x="35857" y="88143"/>
                    <a:pt x="35857" y="91497"/>
                  </a:cubicBezTo>
                  <a:cubicBezTo>
                    <a:pt x="56842" y="119760"/>
                    <a:pt x="56842" y="119760"/>
                    <a:pt x="56842" y="119760"/>
                  </a:cubicBezTo>
                  <a:lnTo>
                    <a:pt x="59898" y="119760"/>
                  </a:lnTo>
                  <a:lnTo>
                    <a:pt x="62954" y="119760"/>
                  </a:lnTo>
                  <a:cubicBezTo>
                    <a:pt x="83938" y="91497"/>
                    <a:pt x="83938" y="91497"/>
                    <a:pt x="83938" y="91497"/>
                  </a:cubicBezTo>
                  <a:cubicBezTo>
                    <a:pt x="83938" y="88143"/>
                    <a:pt x="83938" y="88143"/>
                    <a:pt x="83938" y="84550"/>
                  </a:cubicBezTo>
                  <a:cubicBezTo>
                    <a:pt x="80882" y="84550"/>
                    <a:pt x="77826" y="84550"/>
                    <a:pt x="77826" y="84550"/>
                  </a:cubicBezTo>
                  <a:close/>
                  <a:moveTo>
                    <a:pt x="116943" y="0"/>
                  </a:moveTo>
                  <a:lnTo>
                    <a:pt x="116943" y="0"/>
                  </a:lnTo>
                  <a:cubicBezTo>
                    <a:pt x="2852" y="0"/>
                    <a:pt x="2852" y="0"/>
                    <a:pt x="2852" y="0"/>
                  </a:cubicBezTo>
                  <a:cubicBezTo>
                    <a:pt x="2852" y="0"/>
                    <a:pt x="0" y="0"/>
                    <a:pt x="0" y="3353"/>
                  </a:cubicBezTo>
                  <a:cubicBezTo>
                    <a:pt x="0" y="42155"/>
                    <a:pt x="0" y="42155"/>
                    <a:pt x="0" y="42155"/>
                  </a:cubicBezTo>
                  <a:lnTo>
                    <a:pt x="2852" y="45748"/>
                  </a:lnTo>
                  <a:cubicBezTo>
                    <a:pt x="5908" y="45748"/>
                    <a:pt x="8964" y="42155"/>
                    <a:pt x="8964" y="42155"/>
                  </a:cubicBezTo>
                  <a:cubicBezTo>
                    <a:pt x="8964" y="6946"/>
                    <a:pt x="8964" y="6946"/>
                    <a:pt x="8964" y="6946"/>
                  </a:cubicBezTo>
                  <a:cubicBezTo>
                    <a:pt x="110831" y="6946"/>
                    <a:pt x="110831" y="6946"/>
                    <a:pt x="110831" y="6946"/>
                  </a:cubicBezTo>
                  <a:cubicBezTo>
                    <a:pt x="110831" y="42155"/>
                    <a:pt x="110831" y="42155"/>
                    <a:pt x="110831" y="42155"/>
                  </a:cubicBezTo>
                  <a:cubicBezTo>
                    <a:pt x="110831" y="42155"/>
                    <a:pt x="113887" y="45748"/>
                    <a:pt x="116943" y="45748"/>
                  </a:cubicBezTo>
                  <a:lnTo>
                    <a:pt x="119796" y="42155"/>
                  </a:lnTo>
                  <a:cubicBezTo>
                    <a:pt x="119796" y="3353"/>
                    <a:pt x="119796" y="3353"/>
                    <a:pt x="119796" y="3353"/>
                  </a:cubicBezTo>
                  <a:cubicBezTo>
                    <a:pt x="119796" y="0"/>
                    <a:pt x="116943" y="0"/>
                    <a:pt x="116943"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4" name="Straight Connector 22"/>
            <p:cNvSpPr/>
            <p:nvPr/>
          </p:nvSpPr>
          <p:spPr>
            <a:xfrm>
              <a:off x="7851240" y="1886040"/>
              <a:ext cx="0" cy="96480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55" name="Straight Connector 23"/>
            <p:cNvSpPr/>
            <p:nvPr/>
          </p:nvSpPr>
          <p:spPr>
            <a:xfrm>
              <a:off x="7851240" y="3729960"/>
              <a:ext cx="0" cy="96480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356" name="Rectangle 25"/>
          <p:cNvSpPr/>
          <p:nvPr/>
        </p:nvSpPr>
        <p:spPr>
          <a:xfrm>
            <a:off x="0" y="0"/>
            <a:ext cx="5943600" cy="6858000"/>
          </a:xfrm>
          <a:prstGeom prst="rect">
            <a:avLst/>
          </a:prstGeom>
          <a:solidFill>
            <a:srgbClr val="ffbbe8">
              <a:alpha val="6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7" name="Straight Connector 5"/>
          <p:cNvSpPr/>
          <p:nvPr/>
        </p:nvSpPr>
        <p:spPr>
          <a:xfrm>
            <a:off x="763560" y="2541600"/>
            <a:ext cx="2230560" cy="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58" name="Rectangle 6"/>
          <p:cNvSpPr/>
          <p:nvPr/>
        </p:nvSpPr>
        <p:spPr>
          <a:xfrm>
            <a:off x="708120" y="2584440"/>
            <a:ext cx="2943000" cy="25304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Open Sans"/>
                <a:ea typeface="Open Sans"/>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 fringilla vitae, et eros present</a:t>
            </a:r>
            <a:r>
              <a:rPr b="0" lang="en-US" sz="1000" spc="-1" strike="noStrike">
                <a:solidFill>
                  <a:srgbClr val="ffffff"/>
                </a:solidFill>
                <a:latin typeface="Open Sans"/>
                <a:ea typeface="Open Sans"/>
              </a:rPr>
              <a:t>.</a:t>
            </a:r>
            <a:endParaRPr b="0" lang="en-US" sz="1000" spc="-1" strike="noStrike">
              <a:solidFill>
                <a:srgbClr val="000000"/>
              </a:solidFill>
              <a:latin typeface="Calibri"/>
            </a:endParaRPr>
          </a:p>
        </p:txBody>
      </p:sp>
      <p:sp>
        <p:nvSpPr>
          <p:cNvPr id="1359" name="Subtitle 2"/>
          <p:cNvSpPr/>
          <p:nvPr/>
        </p:nvSpPr>
        <p:spPr>
          <a:xfrm>
            <a:off x="708120" y="1614600"/>
            <a:ext cx="3165480" cy="9205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ffffff"/>
                </a:solidFill>
                <a:latin typeface="Creato Display"/>
                <a:ea typeface="Vollkorn"/>
              </a:rPr>
              <a:t>PHONE </a:t>
            </a:r>
            <a:r>
              <a:rPr b="1" lang="en-US" sz="2800" spc="-1" strike="noStrike">
                <a:solidFill>
                  <a:srgbClr val="ffffff"/>
                </a:solidFill>
                <a:latin typeface="Creato Display"/>
                <a:ea typeface="Vollkorn"/>
              </a:rPr>
              <a:t>D</a:t>
            </a:r>
            <a:r>
              <a:rPr b="1" lang="id-ID" sz="2800" spc="-1" strike="noStrike">
                <a:solidFill>
                  <a:srgbClr val="ffffff"/>
                </a:solidFill>
                <a:latin typeface="Creato Display"/>
                <a:ea typeface="Vollkorn"/>
              </a:rPr>
              <a:t>EVICE </a:t>
            </a:r>
            <a:r>
              <a:rPr b="1" lang="en-US" sz="2800" spc="-1" strike="noStrike">
                <a:solidFill>
                  <a:srgbClr val="ffffff"/>
                </a:solidFill>
                <a:latin typeface="Creato Display"/>
                <a:ea typeface="Vollkorn"/>
              </a:rPr>
              <a:t>M</a:t>
            </a:r>
            <a:r>
              <a:rPr b="1" lang="id-ID" sz="2800" spc="-1" strike="noStrike">
                <a:solidFill>
                  <a:srgbClr val="ffffff"/>
                </a:solidFill>
                <a:latin typeface="Creato Display"/>
                <a:ea typeface="Vollkorn"/>
              </a:rPr>
              <a:t>OCKUP </a:t>
            </a:r>
            <a:r>
              <a:rPr b="1" lang="en-US" sz="2800" spc="-1" strike="noStrike">
                <a:solidFill>
                  <a:srgbClr val="ffffff"/>
                </a:solidFill>
                <a:latin typeface="Creato Display"/>
                <a:ea typeface="Vollkorn"/>
              </a:rPr>
              <a:t>S</a:t>
            </a:r>
            <a:r>
              <a:rPr b="1" lang="id-ID" sz="2800" spc="-1" strike="noStrike">
                <a:solidFill>
                  <a:srgbClr val="ffffff"/>
                </a:solidFill>
                <a:latin typeface="Creato Display"/>
                <a:ea typeface="Vollkorn"/>
              </a:rPr>
              <a:t>LIDE</a:t>
            </a:r>
            <a:endParaRPr b="0" lang="en-US" sz="2800" spc="-1" strike="noStrike">
              <a:solidFill>
                <a:srgbClr val="000000"/>
              </a:solidFill>
              <a:latin typeface="Calibri"/>
            </a:endParaRPr>
          </a:p>
        </p:txBody>
      </p:sp>
      <p:pic>
        <p:nvPicPr>
          <p:cNvPr id="1360" name="Picture 8" descr="iPhone6_mockup_front_white.png"/>
          <p:cNvPicPr/>
          <p:nvPr/>
        </p:nvPicPr>
        <p:blipFill>
          <a:blip r:embed="rId1"/>
          <a:stretch/>
        </p:blipFill>
        <p:spPr>
          <a:xfrm>
            <a:off x="4030560" y="738360"/>
            <a:ext cx="3440160" cy="5381280"/>
          </a:xfrm>
          <a:prstGeom prst="rect">
            <a:avLst/>
          </a:prstGeom>
          <a:ln w="0">
            <a:noFill/>
          </a:ln>
        </p:spPr>
      </p:pic>
      <p:pic>
        <p:nvPicPr>
          <p:cNvPr id="1361" name="" descr=""/>
          <p:cNvPicPr/>
          <p:nvPr/>
        </p:nvPicPr>
        <p:blipFill>
          <a:blip r:embed="rId2"/>
          <a:stretch/>
        </p:blipFill>
        <p:spPr>
          <a:xfrm>
            <a:off x="4686480" y="1587240"/>
            <a:ext cx="2070000" cy="3670200"/>
          </a:xfrm>
          <a:prstGeom prst="rect">
            <a:avLst/>
          </a:prstGeom>
          <a:ln w="0">
            <a:noFill/>
          </a:ln>
        </p:spPr>
      </p:pic>
      <p:pic>
        <p:nvPicPr>
          <p:cNvPr id="1362" name="" descr=""/>
          <p:cNvPicPr/>
          <p:nvPr/>
        </p:nvPicPr>
        <p:blipFill>
          <a:blip r:embed="rId3"/>
          <a:stretch/>
        </p:blipFill>
        <p:spPr>
          <a:xfrm>
            <a:off x="0" y="0"/>
            <a:ext cx="59436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Rectangle 2"/>
          <p:cNvSpPr/>
          <p:nvPr/>
        </p:nvSpPr>
        <p:spPr>
          <a:xfrm>
            <a:off x="0" y="0"/>
            <a:ext cx="5943600" cy="6858000"/>
          </a:xfrm>
          <a:prstGeom prst="rect">
            <a:avLst/>
          </a:prstGeom>
          <a:solidFill>
            <a:srgbClr val="ffbbe8">
              <a:alpha val="6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64" name="Picture 33" descr="iPhone6_mockup_front_black.png"/>
          <p:cNvPicPr/>
          <p:nvPr/>
        </p:nvPicPr>
        <p:blipFill>
          <a:blip r:embed="rId1"/>
          <a:stretch/>
        </p:blipFill>
        <p:spPr>
          <a:xfrm>
            <a:off x="4075200" y="628560"/>
            <a:ext cx="3217680" cy="5632560"/>
          </a:xfrm>
          <a:prstGeom prst="rect">
            <a:avLst/>
          </a:prstGeom>
          <a:ln w="0">
            <a:noFill/>
          </a:ln>
        </p:spPr>
      </p:pic>
      <p:sp>
        <p:nvSpPr>
          <p:cNvPr id="1365" name="Rectangle 16"/>
          <p:cNvSpPr/>
          <p:nvPr/>
        </p:nvSpPr>
        <p:spPr>
          <a:xfrm>
            <a:off x="8380440" y="4883040"/>
            <a:ext cx="233820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366" name="Rectangle 17"/>
          <p:cNvSpPr/>
          <p:nvPr/>
        </p:nvSpPr>
        <p:spPr>
          <a:xfrm>
            <a:off x="8394840" y="3086280"/>
            <a:ext cx="233676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367" name="Rectangle 18"/>
          <p:cNvSpPr/>
          <p:nvPr/>
        </p:nvSpPr>
        <p:spPr>
          <a:xfrm>
            <a:off x="8380440" y="1308240"/>
            <a:ext cx="233820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Open Sans"/>
                <a:ea typeface="Open Sans"/>
              </a:rPr>
              <a:t>Lorem ipsum dolor sit amet, lacus nulla ac netus nibh aliquet,. Sapien nam suspendisse, tincidunt</a:t>
            </a:r>
            <a:endParaRPr b="0" lang="en-US" sz="1000" spc="-1" strike="noStrike">
              <a:solidFill>
                <a:srgbClr val="000000"/>
              </a:solidFill>
              <a:latin typeface="Calibri"/>
            </a:endParaRPr>
          </a:p>
        </p:txBody>
      </p:sp>
      <p:sp>
        <p:nvSpPr>
          <p:cNvPr id="1368" name="Rectangle 19"/>
          <p:cNvSpPr/>
          <p:nvPr/>
        </p:nvSpPr>
        <p:spPr>
          <a:xfrm>
            <a:off x="8394840" y="4657680"/>
            <a:ext cx="24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Open Sans"/>
                <a:ea typeface="Open Sans"/>
              </a:rPr>
              <a:t>FULL CUSTOMIZED</a:t>
            </a:r>
            <a:endParaRPr b="0" lang="en-US" sz="1200" spc="-1" strike="noStrike">
              <a:solidFill>
                <a:srgbClr val="000000"/>
              </a:solidFill>
              <a:latin typeface="Calibri"/>
            </a:endParaRPr>
          </a:p>
        </p:txBody>
      </p:sp>
      <p:sp>
        <p:nvSpPr>
          <p:cNvPr id="1369" name="Rectangle 20"/>
          <p:cNvSpPr/>
          <p:nvPr/>
        </p:nvSpPr>
        <p:spPr>
          <a:xfrm>
            <a:off x="8394840" y="1116000"/>
            <a:ext cx="24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Open Sans"/>
                <a:ea typeface="Open Sans"/>
              </a:rPr>
              <a:t>LAYERED FILES</a:t>
            </a:r>
            <a:endParaRPr b="0" lang="en-US" sz="1200" spc="-1" strike="noStrike">
              <a:solidFill>
                <a:srgbClr val="000000"/>
              </a:solidFill>
              <a:latin typeface="Calibri"/>
            </a:endParaRPr>
          </a:p>
        </p:txBody>
      </p:sp>
      <p:sp>
        <p:nvSpPr>
          <p:cNvPr id="1370" name="Rectangle 21"/>
          <p:cNvSpPr/>
          <p:nvPr/>
        </p:nvSpPr>
        <p:spPr>
          <a:xfrm>
            <a:off x="8394840" y="2898720"/>
            <a:ext cx="24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Open Sans"/>
                <a:ea typeface="Open Sans"/>
              </a:rPr>
              <a:t>UNLIMITED OPTIONS</a:t>
            </a:r>
            <a:endParaRPr b="0" lang="en-US" sz="1200" spc="-1" strike="noStrike">
              <a:solidFill>
                <a:srgbClr val="000000"/>
              </a:solidFill>
              <a:latin typeface="Calibri"/>
            </a:endParaRPr>
          </a:p>
        </p:txBody>
      </p:sp>
      <p:grpSp>
        <p:nvGrpSpPr>
          <p:cNvPr id="1371" name="Group 1"/>
          <p:cNvGrpSpPr/>
          <p:nvPr/>
        </p:nvGrpSpPr>
        <p:grpSpPr>
          <a:xfrm>
            <a:off x="7518240" y="1127160"/>
            <a:ext cx="667080" cy="4351320"/>
            <a:chOff x="7518240" y="1127160"/>
            <a:chExt cx="667080" cy="4351320"/>
          </a:xfrm>
        </p:grpSpPr>
        <p:sp>
          <p:nvSpPr>
            <p:cNvPr id="1372" name="Oval 23"/>
            <p:cNvSpPr/>
            <p:nvPr/>
          </p:nvSpPr>
          <p:spPr>
            <a:xfrm>
              <a:off x="7518240" y="4813200"/>
              <a:ext cx="666000" cy="665280"/>
            </a:xfrm>
            <a:prstGeom prst="ellipse">
              <a:avLst/>
            </a:prstGeom>
            <a:solidFill>
              <a:srgbClr val="ffbbe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3" name="Shape 4680"/>
            <p:cNvSpPr/>
            <p:nvPr/>
          </p:nvSpPr>
          <p:spPr>
            <a:xfrm>
              <a:off x="7726680" y="4987800"/>
              <a:ext cx="249120" cy="316080"/>
            </a:xfrm>
            <a:custGeom>
              <a:avLst/>
              <a:gdLst>
                <a:gd name="textAreaLeft" fmla="*/ 0 w 249120"/>
                <a:gd name="textAreaRight" fmla="*/ 249480 w 249120"/>
                <a:gd name="textAreaTop" fmla="*/ 0 h 316080"/>
                <a:gd name="textAreaBottom" fmla="*/ 316440 h 316080"/>
              </a:gdLst>
              <a:ahLst/>
              <a:rect l="textAreaLeft" t="textAreaTop" r="textAreaRight" b="textAreaBottom"/>
              <a:pathLst>
                <a:path w="120000" h="120000">
                  <a:moveTo>
                    <a:pt x="108888" y="25589"/>
                  </a:moveTo>
                  <a:lnTo>
                    <a:pt x="108888" y="25589"/>
                  </a:lnTo>
                  <a:cubicBezTo>
                    <a:pt x="79753" y="25589"/>
                    <a:pt x="79753" y="25589"/>
                    <a:pt x="79753" y="25589"/>
                  </a:cubicBezTo>
                  <a:cubicBezTo>
                    <a:pt x="79753" y="17059"/>
                    <a:pt x="79753" y="17059"/>
                    <a:pt x="79753" y="17059"/>
                  </a:cubicBezTo>
                  <a:cubicBezTo>
                    <a:pt x="79753" y="14151"/>
                    <a:pt x="76296" y="11437"/>
                    <a:pt x="72592" y="11437"/>
                  </a:cubicBezTo>
                  <a:cubicBezTo>
                    <a:pt x="29135" y="11437"/>
                    <a:pt x="29135" y="11437"/>
                    <a:pt x="29135" y="11437"/>
                  </a:cubicBezTo>
                  <a:cubicBezTo>
                    <a:pt x="29135" y="5621"/>
                    <a:pt x="29135" y="5621"/>
                    <a:pt x="29135" y="5621"/>
                  </a:cubicBezTo>
                  <a:cubicBezTo>
                    <a:pt x="29135" y="2714"/>
                    <a:pt x="21728" y="0"/>
                    <a:pt x="18024" y="0"/>
                  </a:cubicBezTo>
                  <a:cubicBezTo>
                    <a:pt x="7160" y="0"/>
                    <a:pt x="7160" y="0"/>
                    <a:pt x="7160" y="0"/>
                  </a:cubicBezTo>
                  <a:cubicBezTo>
                    <a:pt x="3456" y="0"/>
                    <a:pt x="0" y="2714"/>
                    <a:pt x="0" y="5621"/>
                  </a:cubicBezTo>
                  <a:cubicBezTo>
                    <a:pt x="0" y="114184"/>
                    <a:pt x="0" y="114184"/>
                    <a:pt x="0" y="114184"/>
                  </a:cubicBezTo>
                  <a:cubicBezTo>
                    <a:pt x="0" y="116898"/>
                    <a:pt x="3456" y="119806"/>
                    <a:pt x="7160" y="119806"/>
                  </a:cubicBezTo>
                  <a:cubicBezTo>
                    <a:pt x="18024" y="119806"/>
                    <a:pt x="18024" y="119806"/>
                    <a:pt x="18024" y="119806"/>
                  </a:cubicBezTo>
                  <a:cubicBezTo>
                    <a:pt x="21728" y="119806"/>
                    <a:pt x="29135" y="116898"/>
                    <a:pt x="29135" y="114184"/>
                  </a:cubicBezTo>
                  <a:cubicBezTo>
                    <a:pt x="29135" y="79870"/>
                    <a:pt x="29135" y="79870"/>
                    <a:pt x="29135" y="79870"/>
                  </a:cubicBezTo>
                  <a:cubicBezTo>
                    <a:pt x="72592" y="79870"/>
                    <a:pt x="72592" y="79870"/>
                    <a:pt x="72592" y="79870"/>
                  </a:cubicBezTo>
                  <a:cubicBezTo>
                    <a:pt x="72592" y="82778"/>
                    <a:pt x="72592" y="82778"/>
                    <a:pt x="72592" y="82778"/>
                  </a:cubicBezTo>
                  <a:cubicBezTo>
                    <a:pt x="72592" y="85492"/>
                    <a:pt x="76296" y="91308"/>
                    <a:pt x="79753" y="91308"/>
                  </a:cubicBezTo>
                  <a:cubicBezTo>
                    <a:pt x="108888" y="91308"/>
                    <a:pt x="108888" y="91308"/>
                    <a:pt x="108888" y="91308"/>
                  </a:cubicBezTo>
                  <a:cubicBezTo>
                    <a:pt x="116296" y="91308"/>
                    <a:pt x="119753" y="85492"/>
                    <a:pt x="119753" y="82778"/>
                  </a:cubicBezTo>
                  <a:cubicBezTo>
                    <a:pt x="119753" y="34119"/>
                    <a:pt x="119753" y="34119"/>
                    <a:pt x="119753" y="34119"/>
                  </a:cubicBezTo>
                  <a:cubicBezTo>
                    <a:pt x="119753" y="28497"/>
                    <a:pt x="116296" y="25589"/>
                    <a:pt x="108888" y="25589"/>
                  </a:cubicBezTo>
                  <a:close/>
                  <a:moveTo>
                    <a:pt x="18024" y="108368"/>
                  </a:moveTo>
                  <a:lnTo>
                    <a:pt x="18024" y="108368"/>
                  </a:lnTo>
                  <a:cubicBezTo>
                    <a:pt x="18024" y="111276"/>
                    <a:pt x="14567" y="114184"/>
                    <a:pt x="14567" y="114184"/>
                  </a:cubicBezTo>
                  <a:cubicBezTo>
                    <a:pt x="10864" y="114184"/>
                    <a:pt x="7160" y="111276"/>
                    <a:pt x="7160" y="108368"/>
                  </a:cubicBezTo>
                  <a:cubicBezTo>
                    <a:pt x="7160" y="11437"/>
                    <a:pt x="7160" y="11437"/>
                    <a:pt x="7160" y="11437"/>
                  </a:cubicBezTo>
                  <a:cubicBezTo>
                    <a:pt x="7160" y="8529"/>
                    <a:pt x="10864" y="5621"/>
                    <a:pt x="14567" y="5621"/>
                  </a:cubicBezTo>
                  <a:cubicBezTo>
                    <a:pt x="14567" y="5621"/>
                    <a:pt x="18024" y="8529"/>
                    <a:pt x="18024" y="11437"/>
                  </a:cubicBezTo>
                  <a:lnTo>
                    <a:pt x="18024" y="108368"/>
                  </a:lnTo>
                  <a:close/>
                  <a:moveTo>
                    <a:pt x="72592" y="68432"/>
                  </a:moveTo>
                  <a:lnTo>
                    <a:pt x="72592" y="68432"/>
                  </a:lnTo>
                  <a:cubicBezTo>
                    <a:pt x="72592" y="68432"/>
                    <a:pt x="69135" y="71340"/>
                    <a:pt x="65432" y="71340"/>
                  </a:cubicBezTo>
                  <a:cubicBezTo>
                    <a:pt x="29135" y="71340"/>
                    <a:pt x="29135" y="71340"/>
                    <a:pt x="29135" y="71340"/>
                  </a:cubicBezTo>
                  <a:cubicBezTo>
                    <a:pt x="29135" y="17059"/>
                    <a:pt x="29135" y="17059"/>
                    <a:pt x="29135" y="17059"/>
                  </a:cubicBezTo>
                  <a:cubicBezTo>
                    <a:pt x="65432" y="17059"/>
                    <a:pt x="65432" y="17059"/>
                    <a:pt x="65432" y="17059"/>
                  </a:cubicBezTo>
                  <a:cubicBezTo>
                    <a:pt x="69135" y="17059"/>
                    <a:pt x="72592" y="19967"/>
                    <a:pt x="72592" y="22875"/>
                  </a:cubicBezTo>
                  <a:lnTo>
                    <a:pt x="72592" y="68432"/>
                  </a:lnTo>
                  <a:close/>
                  <a:moveTo>
                    <a:pt x="108888" y="79870"/>
                  </a:moveTo>
                  <a:lnTo>
                    <a:pt x="108888" y="79870"/>
                  </a:lnTo>
                  <a:cubicBezTo>
                    <a:pt x="108888" y="79870"/>
                    <a:pt x="108888" y="82778"/>
                    <a:pt x="105432" y="82778"/>
                  </a:cubicBezTo>
                  <a:cubicBezTo>
                    <a:pt x="79753" y="82778"/>
                    <a:pt x="79753" y="82778"/>
                    <a:pt x="79753" y="82778"/>
                  </a:cubicBezTo>
                  <a:cubicBezTo>
                    <a:pt x="79753" y="34119"/>
                    <a:pt x="79753" y="34119"/>
                    <a:pt x="79753" y="34119"/>
                  </a:cubicBezTo>
                  <a:cubicBezTo>
                    <a:pt x="105432" y="34119"/>
                    <a:pt x="105432" y="34119"/>
                    <a:pt x="105432" y="34119"/>
                  </a:cubicBezTo>
                  <a:cubicBezTo>
                    <a:pt x="108888" y="34119"/>
                    <a:pt x="108888" y="34119"/>
                    <a:pt x="108888" y="37027"/>
                  </a:cubicBezTo>
                  <a:lnTo>
                    <a:pt x="108888" y="7987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4" name="Oval 26"/>
            <p:cNvSpPr/>
            <p:nvPr/>
          </p:nvSpPr>
          <p:spPr>
            <a:xfrm>
              <a:off x="7518240" y="2946600"/>
              <a:ext cx="666000" cy="66528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5" name="Shape 4681"/>
            <p:cNvSpPr/>
            <p:nvPr/>
          </p:nvSpPr>
          <p:spPr>
            <a:xfrm>
              <a:off x="7697520" y="3126600"/>
              <a:ext cx="307440" cy="305280"/>
            </a:xfrm>
            <a:custGeom>
              <a:avLst/>
              <a:gdLst>
                <a:gd name="textAreaLeft" fmla="*/ 0 w 307440"/>
                <a:gd name="textAreaRight" fmla="*/ 307800 w 307440"/>
                <a:gd name="textAreaTop" fmla="*/ 0 h 305280"/>
                <a:gd name="textAreaBottom" fmla="*/ 305640 h 305280"/>
              </a:gdLst>
              <a:ahLst/>
              <a:rect l="textAreaLeft" t="textAreaTop" r="textAreaRight" b="textAreaBottom"/>
              <a:pathLst>
                <a:path w="120000" h="120000">
                  <a:moveTo>
                    <a:pt x="28645" y="108368"/>
                  </a:moveTo>
                  <a:lnTo>
                    <a:pt x="28645" y="108368"/>
                  </a:lnTo>
                  <a:cubicBezTo>
                    <a:pt x="22838" y="114184"/>
                    <a:pt x="19935" y="114184"/>
                    <a:pt x="17225" y="108368"/>
                  </a:cubicBezTo>
                  <a:cubicBezTo>
                    <a:pt x="11419" y="105654"/>
                    <a:pt x="11419" y="105654"/>
                    <a:pt x="11419" y="105654"/>
                  </a:cubicBezTo>
                  <a:cubicBezTo>
                    <a:pt x="8516" y="102746"/>
                    <a:pt x="8516" y="96930"/>
                    <a:pt x="11419" y="94216"/>
                  </a:cubicBezTo>
                  <a:cubicBezTo>
                    <a:pt x="48580" y="57189"/>
                    <a:pt x="48580" y="57189"/>
                    <a:pt x="48580" y="57189"/>
                  </a:cubicBezTo>
                  <a:cubicBezTo>
                    <a:pt x="42774" y="54281"/>
                    <a:pt x="37161" y="57189"/>
                    <a:pt x="31354" y="59903"/>
                  </a:cubicBezTo>
                  <a:cubicBezTo>
                    <a:pt x="5806" y="88400"/>
                    <a:pt x="5806" y="88400"/>
                    <a:pt x="5806" y="88400"/>
                  </a:cubicBezTo>
                  <a:cubicBezTo>
                    <a:pt x="0" y="94216"/>
                    <a:pt x="0" y="102746"/>
                    <a:pt x="5806" y="108368"/>
                  </a:cubicBezTo>
                  <a:cubicBezTo>
                    <a:pt x="11419" y="114184"/>
                    <a:pt x="11419" y="114184"/>
                    <a:pt x="11419" y="114184"/>
                  </a:cubicBezTo>
                  <a:cubicBezTo>
                    <a:pt x="17225" y="119806"/>
                    <a:pt x="25741" y="119806"/>
                    <a:pt x="31354" y="114184"/>
                  </a:cubicBezTo>
                  <a:cubicBezTo>
                    <a:pt x="60000" y="88400"/>
                    <a:pt x="60000" y="88400"/>
                    <a:pt x="60000" y="88400"/>
                  </a:cubicBezTo>
                  <a:cubicBezTo>
                    <a:pt x="62709" y="82778"/>
                    <a:pt x="65612" y="76962"/>
                    <a:pt x="62709" y="74248"/>
                  </a:cubicBezTo>
                  <a:lnTo>
                    <a:pt x="28645" y="108368"/>
                  </a:lnTo>
                  <a:close/>
                  <a:moveTo>
                    <a:pt x="114000" y="11437"/>
                  </a:moveTo>
                  <a:lnTo>
                    <a:pt x="114000" y="11437"/>
                  </a:lnTo>
                  <a:cubicBezTo>
                    <a:pt x="108387" y="5621"/>
                    <a:pt x="108387" y="5621"/>
                    <a:pt x="108387" y="5621"/>
                  </a:cubicBezTo>
                  <a:cubicBezTo>
                    <a:pt x="102580" y="0"/>
                    <a:pt x="94064" y="0"/>
                    <a:pt x="88451" y="5621"/>
                  </a:cubicBezTo>
                  <a:cubicBezTo>
                    <a:pt x="60000" y="34313"/>
                    <a:pt x="60000" y="34313"/>
                    <a:pt x="60000" y="34313"/>
                  </a:cubicBezTo>
                  <a:cubicBezTo>
                    <a:pt x="57096" y="37027"/>
                    <a:pt x="54193" y="42843"/>
                    <a:pt x="57096" y="48465"/>
                  </a:cubicBezTo>
                  <a:cubicBezTo>
                    <a:pt x="91161" y="11437"/>
                    <a:pt x="91161" y="11437"/>
                    <a:pt x="91161" y="11437"/>
                  </a:cubicBezTo>
                  <a:cubicBezTo>
                    <a:pt x="94064" y="8529"/>
                    <a:pt x="99870" y="8529"/>
                    <a:pt x="102580" y="11437"/>
                  </a:cubicBezTo>
                  <a:cubicBezTo>
                    <a:pt x="108387" y="17059"/>
                    <a:pt x="108387" y="17059"/>
                    <a:pt x="108387" y="17059"/>
                  </a:cubicBezTo>
                  <a:cubicBezTo>
                    <a:pt x="111096" y="19967"/>
                    <a:pt x="111096" y="25783"/>
                    <a:pt x="108387" y="28497"/>
                  </a:cubicBezTo>
                  <a:cubicBezTo>
                    <a:pt x="71419" y="65525"/>
                    <a:pt x="71419" y="65525"/>
                    <a:pt x="71419" y="65525"/>
                  </a:cubicBezTo>
                  <a:cubicBezTo>
                    <a:pt x="77032" y="65525"/>
                    <a:pt x="82645" y="65525"/>
                    <a:pt x="88451" y="59903"/>
                  </a:cubicBezTo>
                  <a:cubicBezTo>
                    <a:pt x="114000" y="34313"/>
                    <a:pt x="114000" y="34313"/>
                    <a:pt x="114000" y="34313"/>
                  </a:cubicBezTo>
                  <a:cubicBezTo>
                    <a:pt x="119806" y="28497"/>
                    <a:pt x="119806" y="17059"/>
                    <a:pt x="114000" y="11437"/>
                  </a:cubicBezTo>
                  <a:close/>
                  <a:moveTo>
                    <a:pt x="71419" y="48465"/>
                  </a:moveTo>
                  <a:lnTo>
                    <a:pt x="71419" y="48465"/>
                  </a:lnTo>
                  <a:cubicBezTo>
                    <a:pt x="71419" y="48465"/>
                    <a:pt x="68322" y="48465"/>
                    <a:pt x="65612" y="48465"/>
                  </a:cubicBezTo>
                  <a:cubicBezTo>
                    <a:pt x="48580" y="68626"/>
                    <a:pt x="48580" y="68626"/>
                    <a:pt x="48580" y="68626"/>
                  </a:cubicBezTo>
                  <a:cubicBezTo>
                    <a:pt x="45677" y="68626"/>
                    <a:pt x="45677" y="71340"/>
                    <a:pt x="48580" y="74248"/>
                  </a:cubicBezTo>
                  <a:cubicBezTo>
                    <a:pt x="48580" y="74248"/>
                    <a:pt x="51290" y="74248"/>
                    <a:pt x="54193" y="74248"/>
                  </a:cubicBezTo>
                  <a:cubicBezTo>
                    <a:pt x="71419" y="54281"/>
                    <a:pt x="71419" y="54281"/>
                    <a:pt x="71419" y="54281"/>
                  </a:cubicBezTo>
                  <a:cubicBezTo>
                    <a:pt x="74129" y="51373"/>
                    <a:pt x="74129" y="51373"/>
                    <a:pt x="71419" y="4846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6" name="Oval 29"/>
            <p:cNvSpPr/>
            <p:nvPr/>
          </p:nvSpPr>
          <p:spPr>
            <a:xfrm>
              <a:off x="7519320" y="1127160"/>
              <a:ext cx="666000" cy="665280"/>
            </a:xfrm>
            <a:prstGeom prst="ellipse">
              <a:avLst/>
            </a:prstGeom>
            <a:solidFill>
              <a:srgbClr val="ffbbe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7" name="Shape 4682"/>
            <p:cNvSpPr/>
            <p:nvPr/>
          </p:nvSpPr>
          <p:spPr>
            <a:xfrm>
              <a:off x="7705800" y="1371600"/>
              <a:ext cx="299160" cy="254520"/>
            </a:xfrm>
            <a:custGeom>
              <a:avLst/>
              <a:gdLst>
                <a:gd name="textAreaLeft" fmla="*/ 0 w 299160"/>
                <a:gd name="textAreaRight" fmla="*/ 299520 w 299160"/>
                <a:gd name="textAreaTop" fmla="*/ 0 h 254520"/>
                <a:gd name="textAreaBottom" fmla="*/ 254880 h 254520"/>
              </a:gdLst>
              <a:ahLst/>
              <a:rect l="textAreaLeft" t="textAreaTop" r="textAreaRight" b="textAreaBottom"/>
              <a:pathLst>
                <a:path w="120000" h="120000">
                  <a:moveTo>
                    <a:pt x="77826" y="84550"/>
                  </a:moveTo>
                  <a:lnTo>
                    <a:pt x="77826" y="84550"/>
                  </a:lnTo>
                  <a:cubicBezTo>
                    <a:pt x="62954" y="102035"/>
                    <a:pt x="62954" y="102035"/>
                    <a:pt x="62954" y="102035"/>
                  </a:cubicBezTo>
                  <a:cubicBezTo>
                    <a:pt x="62954" y="35209"/>
                    <a:pt x="62954" y="35209"/>
                    <a:pt x="62954" y="35209"/>
                  </a:cubicBezTo>
                  <a:cubicBezTo>
                    <a:pt x="62954" y="35209"/>
                    <a:pt x="62954" y="31616"/>
                    <a:pt x="59898" y="31616"/>
                  </a:cubicBezTo>
                  <a:cubicBezTo>
                    <a:pt x="56842" y="31616"/>
                    <a:pt x="56842" y="35209"/>
                    <a:pt x="56842" y="35209"/>
                  </a:cubicBezTo>
                  <a:cubicBezTo>
                    <a:pt x="56842" y="102035"/>
                    <a:pt x="56842" y="102035"/>
                    <a:pt x="56842" y="102035"/>
                  </a:cubicBezTo>
                  <a:cubicBezTo>
                    <a:pt x="41969" y="84550"/>
                    <a:pt x="41969" y="84550"/>
                    <a:pt x="41969" y="84550"/>
                  </a:cubicBezTo>
                  <a:cubicBezTo>
                    <a:pt x="41969" y="84550"/>
                    <a:pt x="38913" y="84550"/>
                    <a:pt x="35857" y="84550"/>
                  </a:cubicBezTo>
                  <a:cubicBezTo>
                    <a:pt x="35857" y="88143"/>
                    <a:pt x="35857" y="88143"/>
                    <a:pt x="35857" y="91497"/>
                  </a:cubicBezTo>
                  <a:cubicBezTo>
                    <a:pt x="56842" y="119760"/>
                    <a:pt x="56842" y="119760"/>
                    <a:pt x="56842" y="119760"/>
                  </a:cubicBezTo>
                  <a:lnTo>
                    <a:pt x="59898" y="119760"/>
                  </a:lnTo>
                  <a:lnTo>
                    <a:pt x="62954" y="119760"/>
                  </a:lnTo>
                  <a:cubicBezTo>
                    <a:pt x="83938" y="91497"/>
                    <a:pt x="83938" y="91497"/>
                    <a:pt x="83938" y="91497"/>
                  </a:cubicBezTo>
                  <a:cubicBezTo>
                    <a:pt x="83938" y="88143"/>
                    <a:pt x="83938" y="88143"/>
                    <a:pt x="83938" y="84550"/>
                  </a:cubicBezTo>
                  <a:cubicBezTo>
                    <a:pt x="80882" y="84550"/>
                    <a:pt x="77826" y="84550"/>
                    <a:pt x="77826" y="84550"/>
                  </a:cubicBezTo>
                  <a:close/>
                  <a:moveTo>
                    <a:pt x="116943" y="0"/>
                  </a:moveTo>
                  <a:lnTo>
                    <a:pt x="116943" y="0"/>
                  </a:lnTo>
                  <a:cubicBezTo>
                    <a:pt x="2852" y="0"/>
                    <a:pt x="2852" y="0"/>
                    <a:pt x="2852" y="0"/>
                  </a:cubicBezTo>
                  <a:cubicBezTo>
                    <a:pt x="2852" y="0"/>
                    <a:pt x="0" y="0"/>
                    <a:pt x="0" y="3353"/>
                  </a:cubicBezTo>
                  <a:cubicBezTo>
                    <a:pt x="0" y="42155"/>
                    <a:pt x="0" y="42155"/>
                    <a:pt x="0" y="42155"/>
                  </a:cubicBezTo>
                  <a:lnTo>
                    <a:pt x="2852" y="45748"/>
                  </a:lnTo>
                  <a:cubicBezTo>
                    <a:pt x="5908" y="45748"/>
                    <a:pt x="8964" y="42155"/>
                    <a:pt x="8964" y="42155"/>
                  </a:cubicBezTo>
                  <a:cubicBezTo>
                    <a:pt x="8964" y="6946"/>
                    <a:pt x="8964" y="6946"/>
                    <a:pt x="8964" y="6946"/>
                  </a:cubicBezTo>
                  <a:cubicBezTo>
                    <a:pt x="110831" y="6946"/>
                    <a:pt x="110831" y="6946"/>
                    <a:pt x="110831" y="6946"/>
                  </a:cubicBezTo>
                  <a:cubicBezTo>
                    <a:pt x="110831" y="42155"/>
                    <a:pt x="110831" y="42155"/>
                    <a:pt x="110831" y="42155"/>
                  </a:cubicBezTo>
                  <a:cubicBezTo>
                    <a:pt x="110831" y="42155"/>
                    <a:pt x="113887" y="45748"/>
                    <a:pt x="116943" y="45748"/>
                  </a:cubicBezTo>
                  <a:lnTo>
                    <a:pt x="119796" y="42155"/>
                  </a:lnTo>
                  <a:cubicBezTo>
                    <a:pt x="119796" y="3353"/>
                    <a:pt x="119796" y="3353"/>
                    <a:pt x="119796" y="3353"/>
                  </a:cubicBezTo>
                  <a:cubicBezTo>
                    <a:pt x="119796" y="0"/>
                    <a:pt x="116943" y="0"/>
                    <a:pt x="116943"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8" name="Straight Connector 31"/>
            <p:cNvSpPr/>
            <p:nvPr/>
          </p:nvSpPr>
          <p:spPr>
            <a:xfrm>
              <a:off x="7851240" y="1886040"/>
              <a:ext cx="0" cy="96480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9" name="Straight Connector 32"/>
            <p:cNvSpPr/>
            <p:nvPr/>
          </p:nvSpPr>
          <p:spPr>
            <a:xfrm>
              <a:off x="7851240" y="3729960"/>
              <a:ext cx="0" cy="96480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380" name="Straight Connector 34"/>
          <p:cNvSpPr/>
          <p:nvPr/>
        </p:nvSpPr>
        <p:spPr>
          <a:xfrm>
            <a:off x="733320" y="2917800"/>
            <a:ext cx="223056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1" name="Rectangle 36"/>
          <p:cNvSpPr/>
          <p:nvPr/>
        </p:nvSpPr>
        <p:spPr>
          <a:xfrm>
            <a:off x="677880" y="3103560"/>
            <a:ext cx="2979720" cy="25304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Open Sans"/>
                <a:ea typeface="Open Sans"/>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 fringilla vitae, et eros present</a:t>
            </a:r>
            <a:r>
              <a:rPr b="0" lang="en-US" sz="1000" spc="-1" strike="noStrike">
                <a:solidFill>
                  <a:srgbClr val="000000"/>
                </a:solidFill>
                <a:latin typeface="Open Sans"/>
                <a:ea typeface="Open Sans"/>
              </a:rPr>
              <a:t>.</a:t>
            </a:r>
            <a:endParaRPr b="0" lang="en-US" sz="1000" spc="-1" strike="noStrike">
              <a:solidFill>
                <a:srgbClr val="000000"/>
              </a:solidFill>
              <a:latin typeface="Calibri"/>
            </a:endParaRPr>
          </a:p>
        </p:txBody>
      </p:sp>
      <p:sp>
        <p:nvSpPr>
          <p:cNvPr id="1382" name="Subtitle 2"/>
          <p:cNvSpPr/>
          <p:nvPr/>
        </p:nvSpPr>
        <p:spPr>
          <a:xfrm>
            <a:off x="677880" y="1792440"/>
            <a:ext cx="3397320" cy="920520"/>
          </a:xfrm>
          <a:prstGeom prst="rect">
            <a:avLst/>
          </a:prstGeom>
          <a:noFill/>
          <a:ln w="0">
            <a:noFill/>
          </a:ln>
        </p:spPr>
        <p:style>
          <a:lnRef idx="0"/>
          <a:fillRef idx="0"/>
          <a:effectRef idx="0"/>
          <a:fontRef idx="minor"/>
        </p:style>
        <p:txBody>
          <a:bodyPr lIns="90000" rIns="90000" tIns="46800" bIns="46800" anchor="t">
            <a:normAutofit fontScale="94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000000"/>
                </a:solidFill>
                <a:latin typeface="Creato Display"/>
                <a:ea typeface="Vollkorn"/>
              </a:rPr>
              <a:t>PHONE </a:t>
            </a:r>
            <a:r>
              <a:rPr b="1" lang="en-US" sz="3200" spc="-1" strike="noStrike">
                <a:solidFill>
                  <a:srgbClr val="000000"/>
                </a:solidFill>
                <a:latin typeface="Creato Display"/>
                <a:ea typeface="Vollkorn"/>
              </a:rPr>
              <a:t>D</a:t>
            </a:r>
            <a:r>
              <a:rPr b="1" lang="id-ID" sz="3200" spc="-1" strike="noStrike">
                <a:solidFill>
                  <a:srgbClr val="000000"/>
                </a:solidFill>
                <a:latin typeface="Creato Display"/>
                <a:ea typeface="Vollkorn"/>
              </a:rPr>
              <a:t>EVICE </a:t>
            </a:r>
            <a:r>
              <a:rPr b="1" lang="en-US" sz="3200" spc="-1" strike="noStrike">
                <a:solidFill>
                  <a:srgbClr val="000000"/>
                </a:solidFill>
                <a:latin typeface="Creato Display"/>
                <a:ea typeface="Vollkorn"/>
              </a:rPr>
              <a:t>M</a:t>
            </a:r>
            <a:r>
              <a:rPr b="1" lang="id-ID" sz="3200" spc="-1" strike="noStrike">
                <a:solidFill>
                  <a:srgbClr val="000000"/>
                </a:solidFill>
                <a:latin typeface="Creato Display"/>
                <a:ea typeface="Vollkorn"/>
              </a:rPr>
              <a:t>OCKUP </a:t>
            </a:r>
            <a:r>
              <a:rPr b="1" lang="en-US" sz="3200" spc="-1" strike="noStrike">
                <a:solidFill>
                  <a:srgbClr val="000000"/>
                </a:solidFill>
                <a:latin typeface="Creato Display"/>
                <a:ea typeface="Vollkorn"/>
              </a:rPr>
              <a:t>S</a:t>
            </a:r>
            <a:r>
              <a:rPr b="1" lang="id-ID" sz="3200" spc="-1" strike="noStrike">
                <a:solidFill>
                  <a:srgbClr val="000000"/>
                </a:solidFill>
                <a:latin typeface="Creato Display"/>
                <a:ea typeface="Vollkorn"/>
              </a:rPr>
              <a:t>LIDE</a:t>
            </a:r>
            <a:endParaRPr b="0" lang="en-US" sz="3200" spc="-1" strike="noStrike">
              <a:solidFill>
                <a:srgbClr val="000000"/>
              </a:solidFill>
              <a:latin typeface="Calibri"/>
            </a:endParaRPr>
          </a:p>
        </p:txBody>
      </p:sp>
      <p:pic>
        <p:nvPicPr>
          <p:cNvPr id="1383" name="" descr=""/>
          <p:cNvPicPr/>
          <p:nvPr/>
        </p:nvPicPr>
        <p:blipFill>
          <a:blip r:embed="rId2"/>
          <a:stretch/>
        </p:blipFill>
        <p:spPr>
          <a:xfrm>
            <a:off x="4686480" y="1587240"/>
            <a:ext cx="2070000" cy="367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84" name="Freeform 2"/>
          <p:cNvGrpSpPr/>
          <p:nvPr/>
        </p:nvGrpSpPr>
        <p:grpSpPr>
          <a:xfrm>
            <a:off x="5651640" y="0"/>
            <a:ext cx="6540480" cy="7156440"/>
            <a:chOff x="5651640" y="0"/>
            <a:chExt cx="6540480" cy="7156440"/>
          </a:xfrm>
        </p:grpSpPr>
        <p:pic>
          <p:nvPicPr>
            <p:cNvPr id="1385" name="Freeform 2" descr=""/>
            <p:cNvPicPr/>
            <p:nvPr/>
          </p:nvPicPr>
          <p:blipFill>
            <a:blip r:embed="rId1"/>
            <a:stretch/>
          </p:blipFill>
          <p:spPr>
            <a:xfrm>
              <a:off x="5651640" y="0"/>
              <a:ext cx="6540480" cy="7156440"/>
            </a:xfrm>
            <a:prstGeom prst="rect">
              <a:avLst/>
            </a:prstGeom>
            <a:ln w="0">
              <a:noFill/>
            </a:ln>
          </p:spPr>
        </p:pic>
        <p:sp>
          <p:nvSpPr>
            <p:cNvPr id="1386" name=""/>
            <p:cNvSpPr/>
            <p:nvPr/>
          </p:nvSpPr>
          <p:spPr>
            <a:xfrm>
              <a:off x="5653080" y="0"/>
              <a:ext cx="6539040" cy="7156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87" name="Freeform 3"/>
          <p:cNvGrpSpPr/>
          <p:nvPr/>
        </p:nvGrpSpPr>
        <p:grpSpPr>
          <a:xfrm>
            <a:off x="-6480" y="810720"/>
            <a:ext cx="5529240" cy="6046920"/>
            <a:chOff x="-6480" y="810720"/>
            <a:chExt cx="5529240" cy="6046920"/>
          </a:xfrm>
        </p:grpSpPr>
        <p:pic>
          <p:nvPicPr>
            <p:cNvPr id="1388" name="Freeform 3" descr=""/>
            <p:cNvPicPr/>
            <p:nvPr/>
          </p:nvPicPr>
          <p:blipFill>
            <a:blip r:embed="rId2"/>
            <a:stretch/>
          </p:blipFill>
          <p:spPr>
            <a:xfrm>
              <a:off x="-6480" y="813600"/>
              <a:ext cx="5527440" cy="6044040"/>
            </a:xfrm>
            <a:prstGeom prst="rect">
              <a:avLst/>
            </a:prstGeom>
            <a:ln w="0">
              <a:noFill/>
            </a:ln>
          </p:spPr>
        </p:pic>
        <p:sp>
          <p:nvSpPr>
            <p:cNvPr id="1389" name=""/>
            <p:cNvSpPr/>
            <p:nvPr/>
          </p:nvSpPr>
          <p:spPr>
            <a:xfrm rot="10800000">
              <a:off x="-2880" y="810720"/>
              <a:ext cx="5526000" cy="604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90" name="Rounded Rectangle 4"/>
          <p:cNvSpPr/>
          <p:nvPr/>
        </p:nvSpPr>
        <p:spPr>
          <a:xfrm>
            <a:off x="10858680" y="263520"/>
            <a:ext cx="990360" cy="272880"/>
          </a:xfrm>
          <a:prstGeom prst="roundRect">
            <a:avLst>
              <a:gd name="adj" fmla="val 16667"/>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1" name="Text Placeholder 6"/>
          <p:cNvSpPr/>
          <p:nvPr/>
        </p:nvSpPr>
        <p:spPr>
          <a:xfrm>
            <a:off x="10713960" y="285840"/>
            <a:ext cx="1279440" cy="26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JOIN US</a:t>
            </a:r>
            <a:endParaRPr b="0" lang="en-US" sz="800" spc="-1" strike="noStrike">
              <a:solidFill>
                <a:srgbClr val="000000"/>
              </a:solidFill>
              <a:latin typeface="Calibri"/>
            </a:endParaRPr>
          </a:p>
        </p:txBody>
      </p:sp>
      <p:sp>
        <p:nvSpPr>
          <p:cNvPr id="1392" name="TextBox 6"/>
          <p:cNvSpPr/>
          <p:nvPr/>
        </p:nvSpPr>
        <p:spPr>
          <a:xfrm>
            <a:off x="258840" y="237960"/>
            <a:ext cx="225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reato Display"/>
                <a:ea typeface="Vollkorn"/>
              </a:rPr>
              <a:t>DEVENTHA PROJECT</a:t>
            </a:r>
            <a:endParaRPr b="0" lang="en-US" sz="1200" spc="-1" strike="noStrike">
              <a:solidFill>
                <a:srgbClr val="000000"/>
              </a:solidFill>
              <a:latin typeface="Calibri"/>
            </a:endParaRPr>
          </a:p>
        </p:txBody>
      </p:sp>
      <p:grpSp>
        <p:nvGrpSpPr>
          <p:cNvPr id="1393" name="Group 7"/>
          <p:cNvGrpSpPr/>
          <p:nvPr/>
        </p:nvGrpSpPr>
        <p:grpSpPr>
          <a:xfrm>
            <a:off x="3257640" y="258840"/>
            <a:ext cx="5702040" cy="296640"/>
            <a:chOff x="3257640" y="258840"/>
            <a:chExt cx="5702040" cy="296640"/>
          </a:xfrm>
        </p:grpSpPr>
        <p:sp>
          <p:nvSpPr>
            <p:cNvPr id="1394" name="Text Placeholder 6"/>
            <p:cNvSpPr/>
            <p:nvPr/>
          </p:nvSpPr>
          <p:spPr>
            <a:xfrm>
              <a:off x="325764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ASHION</a:t>
              </a:r>
              <a:endParaRPr b="0" lang="en-US" sz="800" spc="-1" strike="noStrike">
                <a:solidFill>
                  <a:srgbClr val="000000"/>
                </a:solidFill>
                <a:latin typeface="Calibri"/>
              </a:endParaRPr>
            </a:p>
          </p:txBody>
        </p:sp>
        <p:sp>
          <p:nvSpPr>
            <p:cNvPr id="1395" name="Text Placeholder 6"/>
            <p:cNvSpPr/>
            <p:nvPr/>
          </p:nvSpPr>
          <p:spPr>
            <a:xfrm>
              <a:off x="426816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MODERN</a:t>
              </a:r>
              <a:endParaRPr b="0" lang="en-US" sz="800" spc="-1" strike="noStrike">
                <a:solidFill>
                  <a:srgbClr val="000000"/>
                </a:solidFill>
                <a:latin typeface="Calibri"/>
              </a:endParaRPr>
            </a:p>
          </p:txBody>
        </p:sp>
        <p:sp>
          <p:nvSpPr>
            <p:cNvPr id="1396" name="Text Placeholder 6"/>
            <p:cNvSpPr/>
            <p:nvPr/>
          </p:nvSpPr>
          <p:spPr>
            <a:xfrm>
              <a:off x="535212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TEMPLATE</a:t>
              </a:r>
              <a:endParaRPr b="0" lang="en-US" sz="800" spc="-1" strike="noStrike">
                <a:solidFill>
                  <a:srgbClr val="000000"/>
                </a:solidFill>
                <a:latin typeface="Calibri"/>
              </a:endParaRPr>
            </a:p>
          </p:txBody>
        </p:sp>
        <p:sp>
          <p:nvSpPr>
            <p:cNvPr id="1397" name="Straight Connector 11"/>
            <p:cNvSpPr/>
            <p:nvPr/>
          </p:nvSpPr>
          <p:spPr>
            <a:xfrm>
              <a:off x="4572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8" name="Text Placeholder 6"/>
            <p:cNvSpPr/>
            <p:nvPr/>
          </p:nvSpPr>
          <p:spPr>
            <a:xfrm>
              <a:off x="642420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FEATURES</a:t>
              </a:r>
              <a:endParaRPr b="0" lang="en-US" sz="800" spc="-1" strike="noStrike">
                <a:solidFill>
                  <a:srgbClr val="000000"/>
                </a:solidFill>
                <a:latin typeface="Calibri"/>
              </a:endParaRPr>
            </a:p>
          </p:txBody>
        </p:sp>
        <p:sp>
          <p:nvSpPr>
            <p:cNvPr id="1399" name="Text Placeholder 6"/>
            <p:cNvSpPr/>
            <p:nvPr/>
          </p:nvSpPr>
          <p:spPr>
            <a:xfrm>
              <a:off x="7354080" y="281880"/>
              <a:ext cx="1605600" cy="273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Open Sans"/>
                  <a:ea typeface="Open Sans"/>
                </a:rPr>
                <a:t>SUPPORT</a:t>
              </a:r>
              <a:endParaRPr b="0" lang="en-US" sz="800" spc="-1" strike="noStrike">
                <a:solidFill>
                  <a:srgbClr val="000000"/>
                </a:solidFill>
                <a:latin typeface="Calibri"/>
              </a:endParaRPr>
            </a:p>
          </p:txBody>
        </p:sp>
        <p:sp>
          <p:nvSpPr>
            <p:cNvPr id="1400" name="Straight Connector 14"/>
            <p:cNvSpPr/>
            <p:nvPr/>
          </p:nvSpPr>
          <p:spPr>
            <a:xfrm>
              <a:off x="555372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1" name="Straight Connector 15"/>
            <p:cNvSpPr/>
            <p:nvPr/>
          </p:nvSpPr>
          <p:spPr>
            <a:xfrm>
              <a:off x="665820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2" name="Straight Connector 16"/>
            <p:cNvSpPr/>
            <p:nvPr/>
          </p:nvSpPr>
          <p:spPr>
            <a:xfrm>
              <a:off x="7677360" y="258840"/>
              <a:ext cx="0" cy="263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403" name="Group 17"/>
          <p:cNvGrpSpPr/>
          <p:nvPr/>
        </p:nvGrpSpPr>
        <p:grpSpPr>
          <a:xfrm>
            <a:off x="258840" y="6359400"/>
            <a:ext cx="2322360" cy="368280"/>
            <a:chOff x="258840" y="6359400"/>
            <a:chExt cx="2322360" cy="368280"/>
          </a:xfrm>
        </p:grpSpPr>
        <p:sp>
          <p:nvSpPr>
            <p:cNvPr id="1404" name="Text Placeholder 6"/>
            <p:cNvSpPr/>
            <p:nvPr/>
          </p:nvSpPr>
          <p:spPr>
            <a:xfrm>
              <a:off x="258840" y="6359400"/>
              <a:ext cx="456840" cy="368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01</a:t>
              </a:r>
              <a:endParaRPr b="0" lang="en-US" sz="1000" spc="-1" strike="noStrike">
                <a:solidFill>
                  <a:srgbClr val="000000"/>
                </a:solidFill>
                <a:latin typeface="Calibri"/>
              </a:endParaRPr>
            </a:p>
          </p:txBody>
        </p:sp>
        <p:sp>
          <p:nvSpPr>
            <p:cNvPr id="1405" name="Straight Connector 19"/>
            <p:cNvSpPr/>
            <p:nvPr/>
          </p:nvSpPr>
          <p:spPr>
            <a:xfrm flipH="1">
              <a:off x="651960" y="6483600"/>
              <a:ext cx="621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6" name="Text Placeholder 6"/>
            <p:cNvSpPr/>
            <p:nvPr/>
          </p:nvSpPr>
          <p:spPr>
            <a:xfrm>
              <a:off x="1273320" y="6365880"/>
              <a:ext cx="1307880" cy="295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Open Sans"/>
                  <a:ea typeface="Open Sans"/>
                </a:rPr>
                <a:t>PRESENTATION</a:t>
              </a:r>
              <a:endParaRPr b="0" lang="en-US" sz="1000" spc="-1" strike="noStrike">
                <a:solidFill>
                  <a:srgbClr val="000000"/>
                </a:solidFill>
                <a:latin typeface="Calibri"/>
              </a:endParaRPr>
            </a:p>
          </p:txBody>
        </p:sp>
      </p:grpSp>
      <p:sp>
        <p:nvSpPr>
          <p:cNvPr id="1407" name="Text Placeholder 6"/>
          <p:cNvSpPr/>
          <p:nvPr/>
        </p:nvSpPr>
        <p:spPr>
          <a:xfrm>
            <a:off x="10331280" y="6377040"/>
            <a:ext cx="1606680" cy="2728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AGE 01/34</a:t>
            </a:r>
            <a:endParaRPr b="0" lang="en-US" sz="1000" spc="-1" strike="noStrike">
              <a:solidFill>
                <a:srgbClr val="000000"/>
              </a:solidFill>
              <a:latin typeface="Calibri"/>
            </a:endParaRPr>
          </a:p>
        </p:txBody>
      </p:sp>
      <p:sp>
        <p:nvSpPr>
          <p:cNvPr id="1408" name="TextBox 25"/>
          <p:cNvSpPr/>
          <p:nvPr/>
        </p:nvSpPr>
        <p:spPr>
          <a:xfrm>
            <a:off x="622440" y="2162160"/>
            <a:ext cx="427824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Manrope"/>
                <a:ea typeface="Vollkorn"/>
              </a:rPr>
              <a:t>THANKYOU!</a:t>
            </a:r>
            <a:endParaRPr b="0" lang="en-US" sz="8800" spc="-1" strike="noStrike">
              <a:solidFill>
                <a:srgbClr val="000000"/>
              </a:solidFill>
              <a:latin typeface="Calibri"/>
            </a:endParaRPr>
          </a:p>
        </p:txBody>
      </p:sp>
      <p:sp>
        <p:nvSpPr>
          <p:cNvPr id="1409" name="Rectangle 26"/>
          <p:cNvSpPr/>
          <p:nvPr/>
        </p:nvSpPr>
        <p:spPr>
          <a:xfrm>
            <a:off x="7689960" y="2459160"/>
            <a:ext cx="417168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nter"/>
                <a:ea typeface="Inter"/>
              </a:rPr>
              <a:t>It is a long established fact that a reader will be distracted by the readable content of a page when looking at its layout. </a:t>
            </a:r>
            <a:endParaRPr b="0" lang="en-US" sz="2000" spc="-1" strike="noStrike">
              <a:solidFill>
                <a:srgbClr val="000000"/>
              </a:solidFill>
              <a:latin typeface="Calibri"/>
            </a:endParaRPr>
          </a:p>
        </p:txBody>
      </p:sp>
      <p:pic>
        <p:nvPicPr>
          <p:cNvPr id="1410" name="" descr=""/>
          <p:cNvPicPr/>
          <p:nvPr/>
        </p:nvPicPr>
        <p:blipFill>
          <a:blip r:embed="rId3"/>
          <a:stretch/>
        </p:blipFill>
        <p:spPr>
          <a:xfrm>
            <a:off x="4813200" y="1628640"/>
            <a:ext cx="2565360" cy="360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12-28T08:11:31Z</dcterms:created>
  <dc:creator>user</dc:creator>
  <dc:description/>
  <dc:language>en-US</dc:language>
  <cp:lastModifiedBy>harist mulia</cp:lastModifiedBy>
  <dcterms:modified xsi:type="dcterms:W3CDTF">2023-07-07T16:30:10Z</dcterms:modified>
  <cp:revision>32</cp:revision>
  <dc:subject/>
  <dc:title>PowerPoint Presentation</dc:title>
</cp:coreProperties>
</file>